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D64A-8E92-4CB3-991C-59CD446AE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092D-07C5-4E64-9002-67D681651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4B82-B124-4CC8-BAD1-132504E7D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2B84-C893-4438-B31A-7030AD797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EB48-BDEF-410F-9E4D-1A3382D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3201-0B0C-4644-98EE-D4094F9E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3325B-B2B6-41B2-810C-E9FDE419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01864-3294-486F-9435-3E928BC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BF609-FCA9-4CE7-BA7C-4CB1B07A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1C0DB-64C6-46DF-BAFE-67214684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A93F-2BA0-4090-97C6-DE2168E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DAF2-5668-4833-A9D6-451B19CB9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5ACD-34A5-4B58-8A71-B6BF8DB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28711-6CD9-4D37-B3A9-AFAC8A9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455B0-E37C-49F5-83A8-D1E5B6C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E46C7-CCD7-487F-9DBC-21B3FB83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A0512-F64E-4E76-8F36-F5660D94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27C1-6F85-4CAC-9841-93337F2E1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D7B0-24DD-4687-8FB9-5970648A8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832E-3879-40F1-8C08-13F4A0C5B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5A7A-7E17-4EAB-93B6-B39032F46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B757-D3D3-41F3-92F6-4E40C8320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FEB0-B9E0-466E-BF64-8021C0749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38D6-84AA-443C-B8DB-4707602B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644-E84A-4A32-8510-901D9FDC90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CP/IP Protocol Suit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688-9ECC-492D-B055-C6C1C2552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5F05-75CE-4028-A5ED-B17CEF84D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92088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قسم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المرحلة الرابعة - شبكات الحاسو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Tahoma"/>
              </a:rPr>
              <a:t>مدرس المادة: م.نشوان السلام عل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Communications and Networking 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المصادر</a:t>
            </a:r>
            <a:r>
              <a:rPr b="1" lang="ar-IQ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Behrouz A.Forouz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" descr="E:\شعار جديد.png"/>
          <p:cNvPicPr/>
          <p:nvPr/>
        </p:nvPicPr>
        <p:blipFill>
          <a:blip r:embed="rId1"/>
          <a:stretch/>
        </p:blipFill>
        <p:spPr>
          <a:xfrm>
            <a:off x="3352680" y="990720"/>
            <a:ext cx="2081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0CA-850F-4E50-928A-200612D3D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2"/>
          <p:cNvSpPr/>
          <p:nvPr/>
        </p:nvSpPr>
        <p:spPr>
          <a:xfrm>
            <a:off x="228600" y="2743200"/>
            <a:ext cx="86104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11680" y="272880"/>
            <a:ext cx="23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Baskerville Old Face"/>
              </a:rPr>
              <a:t>Chapter   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33526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pon completion you will be able to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24000" y="914400"/>
            <a:ext cx="67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OSI Model and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TCP/IP Protocol Suite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03916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90720" cy="86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228600" y="4025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derstand the architecture of the OSI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derstand the layers of the OSI model and their fun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derstand the architecture of the TCP/IP Protocol Sui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fferentiate between the OSI model and the TCP/IP Sui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fferentiate between the three types of Internet address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28600" y="2741760"/>
            <a:ext cx="7696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bjectives </a:t>
            </a:r>
            <a:br>
              <a:rPr sz="28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4E2-AE2F-4FFB-A6BF-78869F1450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0" y="0"/>
            <a:ext cx="8686800" cy="6400440"/>
            <a:chOff x="0" y="0"/>
            <a:chExt cx="8686800" cy="6400440"/>
          </a:xfrm>
        </p:grpSpPr>
        <p:sp>
          <p:nvSpPr>
            <p:cNvPr id="106" name="AutoShape 3"/>
            <p:cNvSpPr/>
            <p:nvPr/>
          </p:nvSpPr>
          <p:spPr>
            <a:xfrm>
              <a:off x="380880" y="399960"/>
              <a:ext cx="8305920" cy="6000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0" y="0"/>
              <a:ext cx="8534520" cy="128016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80160"/>
                <a:gd name="textAreaBottom" fmla="*/ 1280520 h 128016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169" y="0"/>
                  </a:lnTo>
                  <a:cubicBezTo>
                    <a:pt x="6446" y="0"/>
                    <a:pt x="6670" y="223"/>
                    <a:pt x="6670" y="500"/>
                  </a:cubicBezTo>
                  <a:cubicBezTo>
                    <a:pt x="6670" y="776"/>
                    <a:pt x="6446" y="999"/>
                    <a:pt x="617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>
              <a:off x="0" y="1120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" name="Text Box 6"/>
          <p:cNvSpPr/>
          <p:nvPr/>
        </p:nvSpPr>
        <p:spPr>
          <a:xfrm>
            <a:off x="231120" y="304920"/>
            <a:ext cx="48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1   The OSI Mod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33520" y="137160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stablished in 1947, th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nternational Standards Organization (ISO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s a multinational body dedicated to worldwide agreement on international standards. An ISO standard that covers all aspects of network communications is th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pen Systems Interconnection (OSI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model. It was first introduced in the late 1970s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" y="3489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he topics discussed in this section includ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85800" y="40226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ayered Architectu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eer-to-Peer Proc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232-96AB-4533-90FF-B6EE7C964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2195640"/>
            <a:ext cx="754380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O is the organization.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SI is the mod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135880" y="1143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F4C-528E-4E5B-9838-AEFBBAB69D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1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OSI mod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2284560" y="1143000"/>
            <a:ext cx="4725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1E06-68D0-427C-9207-462E2989D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2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SI lay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609480" y="1015920"/>
            <a:ext cx="78613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1"/>
          <p:cNvSpPr/>
          <p:nvPr/>
        </p:nvSpPr>
        <p:spPr>
          <a:xfrm>
            <a:off x="76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/IP Protocol Suit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994-A4B0-437B-B25F-2D82ED47DB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2.3</a:t>
            </a:r>
            <a:r>
              <a:rPr b="1" lang="en-US" sz="1800" spc="-1" strike="noStrike">
                <a:solidFill>
                  <a:srgbClr val="ffcf01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n exchange using the OSI mod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1"/>
          <a:stretch/>
        </p:blipFill>
        <p:spPr>
          <a:xfrm>
            <a:off x="749160" y="1203480"/>
            <a:ext cx="80899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Ahmed Saker</cp:lastModifiedBy>
  <dcterms:modified xsi:type="dcterms:W3CDTF">2019-03-26T17:04:52Z</dcterms:modified>
  <cp:revision>105</cp:revision>
  <dc:subject/>
  <dc:title>PowerPoint Presentation</dc:title>
</cp:coreProperties>
</file>