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ED204-1548-4AA9-A69B-908805A20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D80BE-2BEC-4E23-94B5-4DEE4C72F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CBE11-AA45-44C8-B317-6AF984ACA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17B5A-246D-4F6E-86D2-F522DAF50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22B57-D3EC-4F7E-BEAD-8A34EB50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1B0CA-AA15-45AB-96CB-4E47DF83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CCDD9-B9C3-4280-BFDC-86BFD2C4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D757A-3B91-47E1-BC51-FFDAD031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9DB5A-1599-4814-A06A-8462D132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A71C3-93BC-49A6-98F1-A4E1C336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5B608-8EAA-45D8-92BC-942B6269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BF858-7241-48A5-A806-F07B3BB09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66F81-9408-43A7-A43D-D3B208E2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718F2-5727-4E44-BEB4-BC16737D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98F6E-CC93-4423-AD78-8F358271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F7131-3F0B-4730-9385-8F85696C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D41FD-6F3D-4B5A-87AF-E8A57003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B6AE0-82DD-4C67-A88D-E421EF629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0351B-7A8B-4B95-BA38-DEB27FD81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30726-3E69-436D-B008-5684CB474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6BAB6-0AA9-4ADE-9ED9-9F9D9269F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7F4E0-32BB-49FE-B73F-FDC6845CE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CFB25-2A87-4702-AB33-EDDE7F5C9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67D6C-F5AC-41B5-B011-18ACD4B86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3D9D-8D7A-4F99-8C2B-0AA33FC912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" name="Text Box 17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TCP/IP Protocol Suit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6803-5126-41EC-B463-D27B82E530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925E-D811-473C-AAD1-C99382BB57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685800" y="990720"/>
            <a:ext cx="7467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Tahoma"/>
              </a:rPr>
              <a:t>قسم الحاسو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Tahoma"/>
              </a:rPr>
              <a:t>المرحلة الرابعة - شبكات الحاسو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Tahoma"/>
              </a:rPr>
              <a:t>مدرس المادة: م.نشوان السلام علي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Communications and Networking </a:t>
            </a:r>
            <a:r>
              <a:rPr b="1" lang="ar-IQ" sz="2000" spc="-1" strike="noStrike">
                <a:solidFill>
                  <a:srgbClr val="000000"/>
                </a:solidFill>
                <a:latin typeface="Tahoma"/>
              </a:rPr>
              <a:t>المصادر</a:t>
            </a:r>
            <a:r>
              <a:rPr b="1" lang="ar-IQ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Behrouz A.Forouza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2" descr="E:\شعار جديد.png"/>
          <p:cNvPicPr/>
          <p:nvPr/>
        </p:nvPicPr>
        <p:blipFill>
          <a:blip r:embed="rId1"/>
          <a:stretch/>
        </p:blipFill>
        <p:spPr>
          <a:xfrm>
            <a:off x="3352680" y="990720"/>
            <a:ext cx="2081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522D-5C9D-4567-B9D5-C619C097AC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2.8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ource-to-destination delive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11" descr=""/>
          <p:cNvPicPr/>
          <p:nvPr/>
        </p:nvPicPr>
        <p:blipFill>
          <a:blip r:embed="rId1"/>
          <a:stretch/>
        </p:blipFill>
        <p:spPr>
          <a:xfrm>
            <a:off x="1295280" y="635040"/>
            <a:ext cx="613440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6D4A-62EA-48F3-BA08-7A13A40329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2.9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ransport laye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10" descr=""/>
          <p:cNvPicPr/>
          <p:nvPr/>
        </p:nvPicPr>
        <p:blipFill>
          <a:blip r:embed="rId1"/>
          <a:stretch/>
        </p:blipFill>
        <p:spPr>
          <a:xfrm>
            <a:off x="228600" y="2251080"/>
            <a:ext cx="845496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9CC3-BC5B-4556-9129-701B2474A0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838080" y="2195640"/>
            <a:ext cx="7543800" cy="173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transport layer is responsible for the delivery of a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essag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from one process to another.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ubRRectCallout"/>
          <p:cNvSpPr/>
          <p:nvPr/>
        </p:nvSpPr>
        <p:spPr>
          <a:xfrm>
            <a:off x="838080" y="990720"/>
            <a:ext cx="2743200" cy="1143000"/>
          </a:xfrm>
          <a:custGeom>
            <a:avLst/>
            <a:gdLst>
              <a:gd name="textAreaLeft" fmla="*/ 18360 w 2743200"/>
              <a:gd name="textAreaRight" fmla="*/ 2719080 w 2743200"/>
              <a:gd name="textAreaTop" fmla="*/ 7560 h 1143000"/>
              <a:gd name="textAreaBottom" fmla="*/ 905400 h 1143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82640" cy="9144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135880" y="114300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C6DA-7A0E-4038-AC4F-A08F06B32C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990720" y="9036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2.10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liable process-to-process delivery of a messag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10" descr=""/>
          <p:cNvPicPr/>
          <p:nvPr/>
        </p:nvPicPr>
        <p:blipFill>
          <a:blip r:embed="rId1"/>
          <a:stretch/>
        </p:blipFill>
        <p:spPr>
          <a:xfrm>
            <a:off x="620640" y="2155680"/>
            <a:ext cx="776124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4AFD-6D2E-477E-9E73-5FC2638F7C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2.11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ession laye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10" descr=""/>
          <p:cNvPicPr/>
          <p:nvPr/>
        </p:nvPicPr>
        <p:blipFill>
          <a:blip r:embed="rId1"/>
          <a:stretch/>
        </p:blipFill>
        <p:spPr>
          <a:xfrm>
            <a:off x="225360" y="1943280"/>
            <a:ext cx="8766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BF44-DC64-4527-B6AF-9A499B5730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2.12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esentation laye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10" descr=""/>
          <p:cNvPicPr/>
          <p:nvPr/>
        </p:nvPicPr>
        <p:blipFill>
          <a:blip r:embed="rId1"/>
          <a:stretch/>
        </p:blipFill>
        <p:spPr>
          <a:xfrm>
            <a:off x="504720" y="2467080"/>
            <a:ext cx="81820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D62B-6EBD-4E64-A390-0A91BA0CC7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2.13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pplication laye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" name="Picture 10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62336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EA59-A24F-4EF2-A099-1225416086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2.14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ummary of layer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1"/>
          <a:stretch/>
        </p:blipFill>
        <p:spPr>
          <a:xfrm>
            <a:off x="228600" y="1898640"/>
            <a:ext cx="84470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82E3-94CE-45DA-AD5D-C0C2A64A15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" name="Group 2"/>
          <p:cNvGrpSpPr/>
          <p:nvPr/>
        </p:nvGrpSpPr>
        <p:grpSpPr>
          <a:xfrm>
            <a:off x="0" y="0"/>
            <a:ext cx="8686800" cy="6400440"/>
            <a:chOff x="0" y="0"/>
            <a:chExt cx="8686800" cy="6400440"/>
          </a:xfrm>
        </p:grpSpPr>
        <p:sp>
          <p:nvSpPr>
            <p:cNvPr id="96" name="AutoShape 3"/>
            <p:cNvSpPr/>
            <p:nvPr/>
          </p:nvSpPr>
          <p:spPr>
            <a:xfrm>
              <a:off x="380880" y="399960"/>
              <a:ext cx="8305920" cy="60004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0" y="0"/>
              <a:ext cx="8534520" cy="128016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80160"/>
                <a:gd name="textAreaBottom" fmla="*/ 1280520 h 128016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169" y="0"/>
                  </a:lnTo>
                  <a:cubicBezTo>
                    <a:pt x="6446" y="0"/>
                    <a:pt x="6670" y="223"/>
                    <a:pt x="6670" y="500"/>
                  </a:cubicBezTo>
                  <a:cubicBezTo>
                    <a:pt x="6670" y="776"/>
                    <a:pt x="6446" y="999"/>
                    <a:pt x="617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Line 5"/>
            <p:cNvSpPr/>
            <p:nvPr/>
          </p:nvSpPr>
          <p:spPr>
            <a:xfrm>
              <a:off x="0" y="1120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Text Box 6"/>
          <p:cNvSpPr/>
          <p:nvPr/>
        </p:nvSpPr>
        <p:spPr>
          <a:xfrm>
            <a:off x="232200" y="304920"/>
            <a:ext cx="706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2   Layers in the OSI Model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533520" y="15080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he functions of each layer in the OSI model is briefly described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5800" y="2133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The topics discussed in this section include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85800" y="2743200"/>
            <a:ext cx="731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ransport Lay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ssion Lay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esentation Lay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pplication Lay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ummary of Laye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BBA4-00E1-4241-A911-D15D27D6BD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2.4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12" descr=""/>
          <p:cNvPicPr/>
          <p:nvPr/>
        </p:nvPicPr>
        <p:blipFill>
          <a:blip r:embed="rId1"/>
          <a:stretch/>
        </p:blipFill>
        <p:spPr>
          <a:xfrm>
            <a:off x="838080" y="2222640"/>
            <a:ext cx="69375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EFBB-85C7-47D1-A152-EF0F60CBB9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838080" y="2195640"/>
            <a:ext cx="7543800" cy="173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physical layer is responsible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or the movement of individual bits from one hop (node) to the next.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ubRRectCallout"/>
          <p:cNvSpPr/>
          <p:nvPr/>
        </p:nvSpPr>
        <p:spPr>
          <a:xfrm>
            <a:off x="838080" y="990720"/>
            <a:ext cx="2743200" cy="1143000"/>
          </a:xfrm>
          <a:custGeom>
            <a:avLst/>
            <a:gdLst>
              <a:gd name="textAreaLeft" fmla="*/ 18360 w 2743200"/>
              <a:gd name="textAreaRight" fmla="*/ 2719080 w 2743200"/>
              <a:gd name="textAreaTop" fmla="*/ 7560 h 1143000"/>
              <a:gd name="textAreaBottom" fmla="*/ 905400 h 1143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82640" cy="914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135880" y="114300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781F-0528-415A-B942-7133CC1D39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2.5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10" descr=""/>
          <p:cNvPicPr/>
          <p:nvPr/>
        </p:nvPicPr>
        <p:blipFill>
          <a:blip r:embed="rId1"/>
          <a:stretch/>
        </p:blipFill>
        <p:spPr>
          <a:xfrm>
            <a:off x="428760" y="1981080"/>
            <a:ext cx="81817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8E94-636E-44D1-93A1-2B2896836A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2195640"/>
            <a:ext cx="7543800" cy="173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data link layer is responsible for moving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frame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from one hop (node) to the next.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ubRRectCallout"/>
          <p:cNvSpPr/>
          <p:nvPr/>
        </p:nvSpPr>
        <p:spPr>
          <a:xfrm>
            <a:off x="838080" y="990720"/>
            <a:ext cx="2743200" cy="1143000"/>
          </a:xfrm>
          <a:custGeom>
            <a:avLst/>
            <a:gdLst>
              <a:gd name="textAreaLeft" fmla="*/ 18360 w 2743200"/>
              <a:gd name="textAreaRight" fmla="*/ 2719080 w 2743200"/>
              <a:gd name="textAreaTop" fmla="*/ 7560 h 1143000"/>
              <a:gd name="textAreaBottom" fmla="*/ 905400 h 1143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82640" cy="914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2135880" y="114300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869D-6F0A-4629-8D2D-79E6DC038C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2.6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op-to-hop delive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1143000" y="1195560"/>
            <a:ext cx="6591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2B48-EFBC-4301-8C3F-323FE093FE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2.7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10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4373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D4A9-76DC-450C-AF8F-BBCE52D528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2195640"/>
            <a:ext cx="7543800" cy="173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network layer is responsible for the delivery of individual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acket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from the source host to the destination host.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ubRRectCallout"/>
          <p:cNvSpPr/>
          <p:nvPr/>
        </p:nvSpPr>
        <p:spPr>
          <a:xfrm>
            <a:off x="838080" y="990720"/>
            <a:ext cx="2743200" cy="1143000"/>
          </a:xfrm>
          <a:custGeom>
            <a:avLst/>
            <a:gdLst>
              <a:gd name="textAreaLeft" fmla="*/ 18360 w 2743200"/>
              <a:gd name="textAreaRight" fmla="*/ 2719080 w 2743200"/>
              <a:gd name="textAreaTop" fmla="*/ 7560 h 1143000"/>
              <a:gd name="textAreaBottom" fmla="*/ 905400 h 1143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82640" cy="9144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135880" y="114300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DR.Ahmed Saker</cp:lastModifiedBy>
  <dcterms:modified xsi:type="dcterms:W3CDTF">2019-03-26T17:03:26Z</dcterms:modified>
  <cp:revision>107</cp:revision>
  <dc:subject/>
  <dc:title>PowerPoint Presentation</dc:title>
</cp:coreProperties>
</file>