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9AA8-18CE-466C-A2B3-6B697DC53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D4EB-EB4A-407A-9D9C-ABC3F92278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C126D5-D133-4D79-8B0A-BE87B854BE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353C5-7BAF-4AC4-A31F-BCD7113C40C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D81CF2-9A80-4B9E-B942-E74EA4640C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00245-97E4-450C-B9F1-8318EE9164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A72873-B3A5-4D54-96BA-E9301544C1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3D92C-A593-4F8E-B079-3FACBD5B42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80D1E-B8D7-4EBC-9C6A-32BE38FF73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DE482-B538-4BCC-B51B-64D6B6782EA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DE8DE-4AC1-4274-B778-19CE47D0C2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E9644-717F-4B25-BDB3-41EF7EA23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ABD5-E0EE-4B50-B331-5665C42C62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7F4D-E469-4B0E-9ABD-2821B24AAAD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7990-BDB4-424B-ABC0-4938BA735B0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90AF-932A-4BC4-B9E0-EC5FBAA115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FAF3-DD0A-490A-AA36-0D7643CE694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5F8C-8431-42E3-ABF8-07DAB2879F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AAA7-E6AF-4FB7-BFAD-59E760E8D29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7E008-2B11-4574-A132-1722E374BDB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F166-A1A9-4B3F-9355-DE6294993E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7293-F47E-40DD-A2DC-F7001A6A0A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9B8B1-BBA5-4209-99FA-6734138D0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14BC-B3D4-4576-BF29-F2038FC7CEE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CC63-FEF5-42A7-A935-893400783F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D0844-71B6-4A35-927E-6CE2F6B230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71E71-307C-4113-A07B-9A5DD487C9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62702-FC3F-42A5-ABA1-494402C036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919D5-B7DC-43B6-BAEF-DE80805596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D8D9B-C7C4-4B98-B35D-ECC06F471A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7CD06-978A-4F95-BA6E-75C7664B0F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FAEE6-7158-488A-AE0C-BA70CB366D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0D4A5-845A-429E-8875-99FF08FE4F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02428-8844-4FD8-9070-E56172E11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C0A56-1F62-4BCF-9CB9-C663AC9B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0575C-4815-49BF-8CAD-4D229488E6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2632F-A0C6-4567-9692-372212D273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CAEA6B-4AC5-419B-818A-FE77DB88B9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35FE0-5242-4648-903B-E6595C20EB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CC464-95AA-4DA0-9CF6-B63AC15235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AF1F5-EA6B-4445-8305-29F3167F6C7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DB95E-E8B6-480D-BD15-4416A07C70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DF64C-95BB-4354-BCBC-ECFD78502F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7C6C2-23A1-4070-B5E4-4CB9689DB1B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462E2-7366-4B8B-A060-4CCAA2EECE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C347-7274-4602-A379-CE3F664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FFDFC-754E-4ECE-BD37-F749AC2C2C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653FD-0C7A-4A1B-A31D-1F1DE64148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C2AE8-F65C-4DD7-BF6C-E41B560F65B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094DB-2A3D-4968-AC69-0C81B3DA0F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F4FFA-A5DE-4AB4-9DD8-04B06742A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22978-B41A-4FCB-BBAB-91C626E8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53E5E-5A6E-47D1-B848-8354BE7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E89CF-240A-4F73-8E46-2C2491A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90FA-064B-436F-94CA-2660218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5458C-6961-444C-9E21-96B51BE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1692-B3E4-4FC4-9898-A76C0464A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613C-81B8-4856-BA93-A82566A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D42DD-7BFE-4B86-B73C-B123DB3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19DFA-A0C1-4F2F-ADF9-140D6FC0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698DD-9EEC-4A94-BA44-3D90F5C4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7835-EA32-4845-9952-2CE22E7A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E6A51-7020-4B2C-8489-A9D0750D15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3E26C-0329-47C3-BE26-0F9EB49390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3B5EB-D87A-4C7D-83C7-7419D9A608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A2E65-E670-4ED1-A1AD-CBA2987C0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C7C5D-07DE-4503-AE53-BC2FCD4A9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5FC6-7144-4B8D-A888-6C1A438A2A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8F6A9-7060-4D41-8FA7-FA2A63C92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89631-0420-4160-9CFC-E64B28720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6DF09-F3CC-4197-9B59-9D02936641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E1459-C547-4A7F-BD1D-8956800607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97735-F554-488E-B069-FCB74E6025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DA7BC-8CBE-4D8B-AFC4-0D44D9A06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5FF2A-D988-49DA-A14E-E245D5ADF1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EC62-867B-4C59-AB31-7D642089AB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F093-C10B-4A55-931A-9FFFA3F2D1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D3A7-0496-42AF-9F15-159C2F6C8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304E-6921-4487-B672-808B2BBD2D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6135-FFB5-4FA9-9A88-0810B33283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1DD9-2A11-474B-AB64-0A5B52E5CC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5DF5-93D3-4F9E-A1E3-EB06CCF5BD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DB77-D3B9-47A6-84C8-751F610C28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571F-A026-4C32-A0C5-88D9542E7E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54DC-586D-4FEB-B2C6-620F10A9B2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E8A2-C855-44F6-914F-F7F0F1667A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A84F-FCB4-468D-9D47-D36A447067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357E-A7D7-4D54-8B2F-4AB498B956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5BA55-4647-46CF-B921-4BFA1B88E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36BF-8BC6-4AC6-A089-C4C2F40E17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C0E67-71E1-4B7C-9633-25ED673644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75DB3-6FDD-49C8-A5B0-A5C78FBBA3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E8E9E-4297-4879-83CF-50BB3DB11B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1B3E8-90BB-4E1E-A793-926576F0A0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5485F-B32C-4432-B840-D562F8DBF7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68FC5-A5A7-427D-8DF3-BD4DB96231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C5437-2F95-4F48-B4B8-0AE7FF9F95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6B624-3F3C-4977-B3DE-262EE38278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38575-A5A2-4474-A5DB-FE1897504F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29737-F02E-4D99-96EB-9EEC1E912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3827-8FF5-4681-B9D6-99DE290945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9723D-426D-42F7-B8E9-118ABE7434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CBF3F4-4B3A-48E4-9216-7C15C8991D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AD03B-689A-458E-AE21-DB24F09A65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7F2A1E-5B05-4CAE-BFF0-4539BE6560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AF978-4CE1-4E6D-92B8-F824A24F0F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34827-1D47-4C56-A237-0670EA2BF2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912D4-9D4D-4115-8495-15401FD7B8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B84D2-A05E-4FEE-ABEA-73CE28FA6B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1BF53-3895-4DAF-BF5E-112B649073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43A7A-006E-4236-9C1C-14624BA38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E2D8-B71D-4BDD-9A4C-1FB4C9DE11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E2A81-A7AA-4B2D-9412-B93D2B8320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E2A13-26D8-42A4-8684-D1DE86A6B8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700CB-B089-4622-A05D-D43337BDC3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7426-58E2-4FE2-BAE6-6CA4FA45E4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2AA4-D7EF-47A4-9ABF-6B6EDB1D72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C3A9-122D-4E5A-B28F-527195F88D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62DF-4008-437C-9304-F6B51818A8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80F1-D6B0-44EC-8D74-42A5709ED7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9819-AEBC-40E7-A085-9CF084F27B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7590-D92E-4DF2-89C0-C6CC594F8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DA21-BE66-4524-B7FB-F7975CA46C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86D2-935C-4E0A-B0A0-A6B0014659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8143-D4E4-463F-9B85-BDD666C908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5BC83-FA50-4C8C-BFBF-E30B609374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C883-7821-4EAF-8406-909BBF0336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C7BD-08E3-49B7-9DA3-6FC618C1F0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88E4F-EE0E-4A7D-AB59-6A3B3B299A0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E92C8-20B4-4798-8AEC-46EFC51F32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E760A-6282-4FA7-939E-8A9BCB3FF50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FA37F-AAD6-49F7-B7F6-CFDAF44BAE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E7219-3541-4AB2-A0C0-54C3866C7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11F4-30A6-4157-B4C8-F7513D509C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5EACD-D835-4288-9CE3-8AAABAE9E4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09203-4A09-46EB-8AFF-AEECBCE8BA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5EAEC-1EC7-47A3-AB8B-48A733D4A5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8C211-4A4D-45CA-B1B5-0E94BBBBC0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CDF65-7F3C-4EE4-B30E-31253BB850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59CE6-B2E1-4CC6-A9C7-8C9471FB7A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B3A81-1648-4550-9A29-7D8FA390B5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5A4C39-AA8B-462A-A485-79E51203CB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D0F544-064A-4596-B081-CC52611136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200150-FA9A-440E-95E4-3D58B279A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21A-C50D-47CA-840C-4FB89941B80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ftr" idx="20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BE1-0E5E-46EF-8D18-762828FABFB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ftr" idx="2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Num" idx="2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B4B-405D-4CF2-82EA-4E633EE0ACA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ftr" idx="24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Num" idx="2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0A6-D50A-472D-B780-90BD367EFD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5D1-05A4-485F-9649-C8141EBC2ED2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ftr" idx="6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CED-B193-4731-9884-23AB5AC1741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F912-5834-48DC-9221-D57F0E7B16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ftr" idx="10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1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2F74-FDF1-4B82-BAFA-C4855AC870D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ftr" idx="1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Num" idx="1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BA40-CB1D-4E75-80CD-D244258451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ftr" idx="14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DC3-F9CF-4A2A-88E9-7C8886C669A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6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1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9FC0-1A50-47F0-9FCD-11ABAD5F01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ftr" idx="18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1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500-9959-4E5C-A543-833B9CB076E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E6A5-1518-477D-AD27-FBE429AC01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838080" y="92088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E:\شعار جديد.png"/>
          <p:cNvPicPr/>
          <p:nvPr/>
        </p:nvPicPr>
        <p:blipFill>
          <a:blip r:embed="rId1"/>
          <a:stretch/>
        </p:blipFill>
        <p:spPr>
          <a:xfrm>
            <a:off x="3429000" y="91440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852-189C-405A-ACFD-5D60B046D22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304920"/>
            <a:ext cx="87631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050-A9BA-49C8-9125-5CE4BD59056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838080" y="2838600"/>
            <a:ext cx="754380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ridge has a table used in filtering decision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ubRRectCallout"/>
          <p:cNvSpPr/>
          <p:nvPr/>
        </p:nvSpPr>
        <p:spPr>
          <a:xfrm>
            <a:off x="838080" y="163368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914400" y="163368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2135880" y="17859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422-828E-4D54-8186-81669E62ADF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31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0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723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DF7C-1AE4-44AC-8E2A-B49B31794DA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2"/>
          <p:cNvGrpSpPr/>
          <p:nvPr/>
        </p:nvGrpSpPr>
        <p:grpSpPr>
          <a:xfrm>
            <a:off x="0" y="0"/>
            <a:ext cx="8686800" cy="6400440"/>
            <a:chOff x="0" y="0"/>
            <a:chExt cx="8686800" cy="6400440"/>
          </a:xfrm>
        </p:grpSpPr>
        <p:sp>
          <p:nvSpPr>
            <p:cNvPr id="478" name="AutoShape 3"/>
            <p:cNvSpPr/>
            <p:nvPr/>
          </p:nvSpPr>
          <p:spPr>
            <a:xfrm>
              <a:off x="38088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4"/>
            <p:cNvSpPr/>
            <p:nvPr/>
          </p:nvSpPr>
          <p:spPr>
            <a:xfrm>
              <a:off x="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5"/>
            <p:cNvSpPr/>
            <p:nvPr/>
          </p:nvSpPr>
          <p:spPr>
            <a:xfrm>
              <a:off x="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Text Box 6"/>
          <p:cNvSpPr/>
          <p:nvPr/>
        </p:nvSpPr>
        <p:spPr>
          <a:xfrm>
            <a:off x="233280" y="304920"/>
            <a:ext cx="61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4   Connecting De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533520" y="1371600"/>
            <a:ext cx="78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ANs or WANs do not normally operate in isolation. They are connected to one another or to the Internet. To connect LANs or WANs, we us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onnecting devic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Connecting devices can operate in different layers of the Internet model. We discuss three kinds of connecting devices: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epeaters (or hubs)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ridges (or two-layer switches)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outers (or three-layer switch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. Repeaters and hubs operate in the first layer of the Internet model. Bridges and two-layer switches operate in the first two layers. Routers and three-layer switches operate in the first three lay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685800" y="4175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685800" y="47242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pea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ub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rid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90A6-32C2-4E23-866F-87DE24875A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28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necting devic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10" descr=""/>
          <p:cNvPicPr/>
          <p:nvPr/>
        </p:nvPicPr>
        <p:blipFill>
          <a:blip r:embed="rId1"/>
          <a:stretch/>
        </p:blipFill>
        <p:spPr>
          <a:xfrm>
            <a:off x="243000" y="2589120"/>
            <a:ext cx="85201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BB14-8C5D-4FF8-831E-9D3EE56420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29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pea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1"/>
          <a:stretch/>
        </p:blipFill>
        <p:spPr>
          <a:xfrm>
            <a:off x="331920" y="1755720"/>
            <a:ext cx="8354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C07-A848-4595-BA35-6B0D7FCC178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8839080" cy="29113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2296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6C9-C690-434E-BA2A-20853B36DC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2792520"/>
            <a:ext cx="754380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epeater connects segments of a L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ubRRectCallout"/>
          <p:cNvSpPr/>
          <p:nvPr/>
        </p:nvSpPr>
        <p:spPr>
          <a:xfrm>
            <a:off x="838080" y="158760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914400" y="158760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2135880" y="17398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4E8-7C3A-4E0B-AEF4-FFAF7953FE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38080" y="2685960"/>
            <a:ext cx="754380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epeater forwards every bit;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t has no filtering capabilit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ubRRectCallout"/>
          <p:cNvSpPr/>
          <p:nvPr/>
        </p:nvSpPr>
        <p:spPr>
          <a:xfrm>
            <a:off x="838080" y="148104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914400" y="148104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2135880" y="16336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4530-F301-403E-8CE8-5A5A541AFE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609480" y="2944800"/>
            <a:ext cx="80773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repeater is a regenerator, not an amplifi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ubRRectCallout"/>
          <p:cNvSpPr/>
          <p:nvPr/>
        </p:nvSpPr>
        <p:spPr>
          <a:xfrm>
            <a:off x="838080" y="173988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914400" y="173988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2135880" y="18921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3D8-21B3-4449-8767-488CF797498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3.30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nction of a repea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0" descr=""/>
          <p:cNvPicPr/>
          <p:nvPr/>
        </p:nvPicPr>
        <p:blipFill>
          <a:blip r:embed="rId1"/>
          <a:stretch/>
        </p:blipFill>
        <p:spPr>
          <a:xfrm>
            <a:off x="654120" y="2265480"/>
            <a:ext cx="7880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42:57Z</dcterms:modified>
  <cp:revision>121</cp:revision>
  <dc:subject/>
  <dc:title>PowerPoint Presentation</dc:title>
</cp:coreProperties>
</file>