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C04B-3A70-4D8B-A6BF-67A01B074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3BFC-72A0-4D89-9153-0D5D433F0E4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0B692C-F43B-460B-96E6-3A049B52B5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A1502B-A343-4B00-A678-C73C0CB6C3D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25EB12-BA01-4238-80AA-F6D8FAE0EE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F78015-ACDC-472F-9970-159CB5801D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F88922-D9C4-4B40-B1EE-EF802E6239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CC9226-46E5-4A8D-8BDE-B6424E5AED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7459E7-A216-47E0-9CA3-13DA749254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011053-36DC-43C8-A042-5F6A941C0C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085E70-D477-487E-9856-32DE7FC4607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FDAAE-221A-427E-BD2C-A71C32706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020A-95D3-48F4-95EB-09115C04F1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E0EA5-C4FA-40EC-B9EE-E94383A312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394AA-E429-41C4-AE7C-B294687365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6B3AC-CF4A-425C-BEAF-E9F744D3D48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35BB-C5A2-46FC-A43E-A5BD165DFBD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B3234-76BD-4BCC-9B06-1BE8D9E48C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30ED-5F4A-4E0C-B85C-A3AA731AD10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CD3AD-02B4-40B5-A44D-F06ADFA3B2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0BCC5-B8F1-4044-A4A4-7607AB8C7F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430E4-8429-4E0D-9105-F70C98A543C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2573-1C6A-4735-8FE0-2E96C0B9E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EB40-8FA3-463D-9A33-AD3AEF094E1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094E3-B5D9-40D7-AC35-6EC9AFA3208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E0F892-F3A4-44FC-A480-FD6FC425E0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597777-3DC3-4BF5-97CB-B135786C42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1FAE7-E9C8-4D35-9514-E64E45B441F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A11718-3C08-481D-B470-1B1440B5EB2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83D89-00ED-43BC-BB7E-244D40250F7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A7C23-B093-431C-8DA0-46F445591D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18DF1-6DB3-4475-9D15-2DD5139A24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766A3-D3DE-47CD-B7D2-30AD40F528E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8E0F9-023F-4A0A-AA28-66D54CD54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B9219-1A22-4535-84B2-FEED6028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D6DD6-6FD4-4997-85D8-CA7072DF87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58DDD-B12C-4A59-ADED-C904AEB697E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38B690-B514-44AF-9601-CB7BB2DC06F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0199A-54C2-4847-BD24-C31B303F31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4F177-0598-4A93-9397-5DDAA07F41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15BE7-FDAF-48F8-B865-21FD12AA08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EFB8B-67E0-49C7-B035-D45F4A4EB31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EDEAB-99A2-4789-B5B8-C6504CA718E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81F7B-4D74-442C-BAC7-43497EC7388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7AA71-0815-4892-9940-34B819EBF0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4FDBE-F2F7-4057-A45C-9F7B46D7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2D938-D5B8-42E4-838C-20530BCD6EC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AC963-7F64-4CAB-AF33-4E34913F80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2B2D7-25A3-405E-B5EC-FCA3592289C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0BA47-6ED3-4E51-8925-F7EE2F33391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6A6BC-6914-4760-9213-4E901E7822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3FF85-6C28-4785-904C-E41A44A2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78F6D-D61D-4728-8271-61E078F0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D0A4-B5CA-479F-9267-3365CE2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06D22-97A0-4908-AE8F-C2EC239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559C5-8718-4F69-AABF-886669F2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6362-9B29-453A-8746-619E80C0B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CF016-EEED-436D-BE3E-79E81E8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8D15-9894-4D87-995C-0AB4CFF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E50F2-FF14-4555-A02A-36144B60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3883F-59C5-4C55-9FCC-A6D3CA9C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8BE1D-3775-495C-B911-2F562D83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333FD-7907-451C-916A-D913719403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115F2-71AC-4D11-97B4-617E451565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B12BC-E6C1-4A41-B67E-D5286B33EC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6C4CA-81DF-4E98-9A45-9371A79A2A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9365C-5CEE-401D-95F0-331BE5C46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5C9D-315B-49AD-B1CA-3E9C7D60A1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9BEB4-6E62-46BE-9E93-3ABF97DC93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DF27C-4EEB-402F-ABDC-EC1B031D31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0A2CF-931C-4DE9-85BF-5EC5C7D684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2A421-1EE1-4066-AC5A-DC5370999B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3E847-0299-4C03-A39A-A58E93A62C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91154-3755-472A-8240-82030DD24D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2BE58-7825-41C4-96D0-2F21A2EFEC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BC10-49AB-4487-A616-EA19D496DC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F86CC-3CC3-466C-9634-4C55AAE322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CB7F-2923-41D8-BCC5-4FC707D58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CF0D-05E7-4DBE-BC43-D9D69B23B0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C3D6-4EF4-4D87-8CE4-C344A0EE9E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C1BF-19F0-4116-838E-7454DA042E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E9B9-B265-4D5D-9726-66D4CFA7F3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B150-3F6B-4518-A35B-4DA19247C0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8B0B-F217-4174-B936-06DCF9777D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ADBB-8BA1-4778-AFE1-CD7B82B5FC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C83D-8FF7-436A-A295-08D7DA5FCC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3C6F-4B85-4555-B7B6-22B327C5B8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5280-8261-4C3C-AEAD-77044AB8FC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63ECD-F6F8-46BC-BEE0-CBBAE6A70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4DF0-586E-4CB7-9F45-7DBDE54E12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FC698-6C82-44DF-B838-09555CB698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E2CCE-2A03-40E5-A20D-5B0F28262C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59E69-5EE6-4947-8C04-CCCC42454C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B1905-6DE3-4C65-9581-8E2EBC58E29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1DF28-B237-4EDF-86AA-49CC392AE6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992D5-8433-41AA-A270-1293D6A447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710E5-96B2-4FA7-B1CE-3D93E8BE8A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9F144-BD9F-46E4-97C6-711206C65E5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50A19-EB88-4F54-B54A-5F8E6FA1AB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F2B7C-7E8B-41B4-8C22-EC156FBC0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6CAA-7F85-47DC-BBE5-38D5BEC6B9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7B390-B1EB-4453-944B-F6C33A69D9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E25F1C-D30B-4ACE-983C-406036CFFE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E687C-7D4E-450E-B93B-BBD00477DC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8F6281-0502-4BD0-A46F-BC59378AB8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1D02D9-8C57-47E9-84D5-5D718D29E83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D64BBB-10DE-45A8-AAA2-72F284F6E2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B9E48D-7446-4AAA-9543-C8148488B8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E686F1-A83D-4B4B-86DB-ECD6772DA5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49FD7B-4E56-448A-9D10-73D93A52EF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B4E45B-A647-44C6-A094-F6EC5AC8F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19F9-0723-479F-B09D-4C75C9A4A1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D9280-8851-4D5D-9BF8-6FE96BA127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F79AE1-957C-4FE4-ACDD-4F3AFF9D62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3AB80B-DF8C-4AF4-AC1E-A48ECAB123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9190E-91ED-436E-9B62-BD24D61B914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B577-7F70-4978-AE5E-02599FFA46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F31D1-E742-4D7E-AF31-59E3434A23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C42F-2CFB-48F8-A423-7387C26BC4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66DB0-C632-49D3-B74E-08F63F0C23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5BB46-A812-46DA-8A91-F3F3AEAD58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5E1EC-EC1B-404F-A20B-AEB1A124B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9D7C-9E6B-439B-85AD-F3394608CF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50204-00AD-40DE-9AAA-2F5C91E22F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7FC1-791D-43D7-AF20-4304591B36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99D57-4FFD-47CC-BDD3-C57883CD0E5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17C8A-3CF2-43D1-AAFA-3825DFAD9A8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1105-852B-499F-8974-27A83AADB45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6324B-83E0-44DB-B53A-73BACF6CAE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25770-0824-410B-88FC-984F5256AD8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CEEB7-8BBD-40B9-816B-7B092275C8C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95767-FD3A-41E9-9D63-FDDE3A28C5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CAF4D-F35C-45CD-BCC5-03FBC84B1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F4BB-AD66-4908-99D3-53000D7CA9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1D639-D49B-4BAE-BF56-4EC57D786B2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C34F6-6D4E-42A6-8C98-932ACDDECB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3D940-CCB5-4AA4-ADEC-19716AB967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90F4D-DE51-42FD-9B78-B5B4832EB50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5F327-1199-4E09-925B-25B512DB6D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4DD37-B876-486B-8F65-AAF7024DC7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E64A3-4FEA-4262-96F8-6CBDBF02ACC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3A139D-1FF0-4D90-906C-A63D76358AF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B1D451-7D2E-4978-BA5A-81C2DFD166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2D9333-DD05-4758-9ACD-EA35F323E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84D2-19A9-40A9-90A5-CE148CC1BD0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ftr" idx="20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AD1A-D120-4CFB-AEF2-405350C7C62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ftr" idx="22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Num" idx="2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6B58-C56A-4405-BB80-344743B82D2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ftr" idx="24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Num" idx="2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18B0-7C6B-4289-AF0F-1F0FFFEEA3D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TCP/IP Protocol S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0743-90A8-4206-830A-9B94D8708775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ftr" idx="6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42AB-9708-4618-A4EF-3E0F070BD82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ftr" idx="8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C290-3B04-49D7-A4F3-F679C02F7BD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ftr" idx="10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Num" idx="1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DFCF-C17B-450C-AA0D-897CACB51F4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ftr" idx="12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Num" idx="1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A2CD-CC61-44A1-A899-00F4090179E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ftr" idx="14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9065-9A0C-4D0E-A669-11CDEEAB388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ftr" idx="16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Num" idx="1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805C-2DF5-4872-AEC3-094F4A5CC03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ftr" idx="18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1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0C27-7BB1-434C-B2D5-FB45AAF109F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C9E2-D778-4A71-BB65-DB5424737E5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قسم الحاسو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المرحلة الرابعة - شبكات الحاسو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مدرس المادة: م.نشوان السلام عل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Communications and Networking 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المصادر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Behrouz A.Forouz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5" descr="E:\شعار جديد.png"/>
          <p:cNvPicPr/>
          <p:nvPr/>
        </p:nvPicPr>
        <p:blipFill>
          <a:blip r:embed="rId1"/>
          <a:stretch/>
        </p:blipFill>
        <p:spPr>
          <a:xfrm>
            <a:off x="3530520" y="838080"/>
            <a:ext cx="2081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18A2-CC5C-4ED5-AD1F-EEF2DB77424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838080" y="2195640"/>
            <a:ext cx="7543800" cy="2323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repeater or a bridge connects segments of a LA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router connects independent LANs or WANs to create an internetwork (internet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2135880" y="1143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C49-BA67-4077-A82E-B033493B0CA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3.33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outing examp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0" descr=""/>
          <p:cNvPicPr/>
          <p:nvPr/>
        </p:nvPicPr>
        <p:blipFill>
          <a:blip r:embed="rId1"/>
          <a:stretch/>
        </p:blipFill>
        <p:spPr>
          <a:xfrm>
            <a:off x="152280" y="1463760"/>
            <a:ext cx="8739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D393-D92E-4554-A0F7-5307DB883C1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838080" y="2914560"/>
            <a:ext cx="754380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router changes the physical address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 a packe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ubRRectCallout"/>
          <p:cNvSpPr/>
          <p:nvPr/>
        </p:nvSpPr>
        <p:spPr>
          <a:xfrm>
            <a:off x="838080" y="170964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914400" y="170964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2135880" y="18622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826E-BE63-44B3-B0CE-3939D4C55D2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228600" y="550800"/>
            <a:ext cx="89154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7CAE-D43C-4381-9936-5D5B54F76D5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0" y="1504800"/>
            <a:ext cx="91440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62A7-5872-4B46-9BF3-507E6A90FCD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36CD-B906-4A91-A1A3-9FE2541F742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392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7F8-109A-4CF5-A4B5-088B662B780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A00-CA85-4FC0-8209-E3208C08DCE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80880" y="539640"/>
            <a:ext cx="853452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860-929B-4369-9075-D9091694EB6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838080" y="2914560"/>
            <a:ext cx="754380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bridge does not change the physical (MAC) addresses in a fra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ubRRectCallout"/>
          <p:cNvSpPr/>
          <p:nvPr/>
        </p:nvSpPr>
        <p:spPr>
          <a:xfrm>
            <a:off x="838080" y="170964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914400" y="170964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2135880" y="18622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677-9AE7-42B7-BBB7-611EB1BDB2D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3.32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earning brid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1"/>
          <a:stretch/>
        </p:blipFill>
        <p:spPr>
          <a:xfrm>
            <a:off x="1008000" y="1523880"/>
            <a:ext cx="67644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8FD2-98F9-423F-B8ED-078779DC865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38080" y="2746440"/>
            <a:ext cx="7543800" cy="161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router is a three-layer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physical, data link, and network)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ubRRectCallout"/>
          <p:cNvSpPr/>
          <p:nvPr/>
        </p:nvSpPr>
        <p:spPr>
          <a:xfrm>
            <a:off x="838080" y="15415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914400" y="15415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2135880" y="16938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Ahmed Saker</cp:lastModifiedBy>
  <dcterms:modified xsi:type="dcterms:W3CDTF">2019-03-26T17:43:55Z</dcterms:modified>
  <cp:revision>123</cp:revision>
  <dc:subject/>
  <dc:title>PowerPoint Presentation</dc:title>
</cp:coreProperties>
</file>