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22.png" ContentType="image/png"/>
  <Override PartName="/ppt/media/image5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63816-FB48-44D8-8D84-5F3D5DF9F9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C32C7-EA7D-4844-8968-C96B544D6A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0151E-9451-44C8-B985-CDB9FC04F5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9C7AA-780E-465D-A809-5805101042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5D526-54C6-4D86-8ED5-22F62DF50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8B50B-2485-46E0-BFF5-F3546404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3291A8-33A1-4884-88CB-8A6BFF42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F35CEE-DB50-4A1A-B7C7-18734D5B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DBE74C-43E8-42DC-9ED3-F4C904C4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E91FC-9C3B-4BA1-B2DC-BA89561C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1C3919-5EDA-4B4B-8338-543047CA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C0242-9C89-4E99-AA8C-D5F3EE5B56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BAF1E0-0987-44F0-A36C-4051A9D2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70ABB-C4FE-4F26-9BD0-21A02A74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B14E1E-16CB-4C26-9171-E32AD563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C7A34-159B-4345-AD91-D69D055D1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CD110D-FD31-4DEA-B156-22D485F1B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DB993-2F99-42DE-BEBC-6E64FBAE56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EEA1A-7FF1-4231-8004-826A29D822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0D9CF-CD98-448B-9CCA-010CA328A4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E8344-FC18-4E19-9BCE-6FDF3C4A98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DCDA8-24F9-4652-A4DB-7ED4F46689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AC663-72FC-4549-A0AF-C6EF3FE31C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F7C7A-5AFF-4532-8942-144C92E647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75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BBB6-7DD3-44E3-B4B1-1915E593AE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" name="Text Box 17"/>
          <p:cNvSpPr/>
          <p:nvPr/>
        </p:nvSpPr>
        <p:spPr>
          <a:xfrm>
            <a:off x="0" y="6553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cGrawHill-Italic"/>
              </a:rPr>
              <a:t>McGraw-Hi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Text Box 18"/>
          <p:cNvSpPr/>
          <p:nvPr/>
        </p:nvSpPr>
        <p:spPr>
          <a:xfrm>
            <a:off x="4572000" y="65530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cGrawHill-Italic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cGrawHill-Italic"/>
              </a:rPr>
              <a:t>The McGraw-Hill Companies, Inc., 2000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TCP/IP Protocol Suit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1881-31D6-4EA1-8DB2-6CC808C957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A893-5B61-40EB-94CC-CD116ECDDF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851040" y="920880"/>
            <a:ext cx="74674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000000"/>
                </a:solidFill>
                <a:latin typeface="Tahoma"/>
              </a:rPr>
              <a:t>قسم الحاسوب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000000"/>
                </a:solidFill>
                <a:latin typeface="Tahoma"/>
              </a:rPr>
              <a:t>المرحلة الرابعة - شبكات الحاسوب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000000"/>
                </a:solidFill>
                <a:latin typeface="Tahoma"/>
              </a:rPr>
              <a:t>مدرس المادة: م.نشوان السلام علي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Communications and Networking </a:t>
            </a:r>
            <a:r>
              <a:rPr b="1" lang="ar-IQ" sz="2000" spc="-1" strike="noStrike">
                <a:solidFill>
                  <a:srgbClr val="000000"/>
                </a:solidFill>
                <a:latin typeface="Tahoma"/>
              </a:rPr>
              <a:t>المصادر</a:t>
            </a:r>
            <a:r>
              <a:rPr b="1" lang="ar-IQ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Behrouz A.Forouza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Picture 4" descr="E:\شعار جديد.png"/>
          <p:cNvPicPr/>
          <p:nvPr/>
        </p:nvPicPr>
        <p:blipFill>
          <a:blip r:embed="rId1"/>
          <a:stretch/>
        </p:blipFill>
        <p:spPr>
          <a:xfrm>
            <a:off x="3429000" y="838080"/>
            <a:ext cx="20811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6D9D-8D5E-47B9-BA7F-4A8CE66BF1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990720" y="9036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4.18</a:t>
            </a:r>
            <a:r>
              <a:rPr b="1" lang="en-US" sz="1800" spc="-1" strike="noStrike">
                <a:solidFill>
                  <a:srgbClr val="ffcf01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xample of loopback addres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3" name="Picture 10" descr=""/>
          <p:cNvPicPr/>
          <p:nvPr/>
        </p:nvPicPr>
        <p:blipFill>
          <a:blip r:embed="rId1"/>
          <a:stretch/>
        </p:blipFill>
        <p:spPr>
          <a:xfrm>
            <a:off x="663480" y="984240"/>
            <a:ext cx="716616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8B40-518D-4582-90AB-A61FC664DF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Picture 42" descr=""/>
          <p:cNvPicPr/>
          <p:nvPr/>
        </p:nvPicPr>
        <p:blipFill>
          <a:blip r:embed="rId1"/>
          <a:stretch/>
        </p:blipFill>
        <p:spPr>
          <a:xfrm>
            <a:off x="1668600" y="2359080"/>
            <a:ext cx="5806800" cy="21416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3"/>
          <p:cNvSpPr/>
          <p:nvPr/>
        </p:nvSpPr>
        <p:spPr>
          <a:xfrm>
            <a:off x="1881360" y="1905120"/>
            <a:ext cx="53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able 4.5  Addresses for private network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F862-9767-4AF4-A217-AF89967262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838080" y="2714760"/>
            <a:ext cx="7543800" cy="119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ulticast delivery will be discussed in depth in Chapter 15.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ubRRectCallout"/>
          <p:cNvSpPr/>
          <p:nvPr/>
        </p:nvSpPr>
        <p:spPr>
          <a:xfrm>
            <a:off x="838080" y="1509840"/>
            <a:ext cx="2743200" cy="1143000"/>
          </a:xfrm>
          <a:custGeom>
            <a:avLst/>
            <a:gdLst>
              <a:gd name="textAreaLeft" fmla="*/ 18360 w 2743200"/>
              <a:gd name="textAreaRight" fmla="*/ 2719080 w 2743200"/>
              <a:gd name="textAreaTop" fmla="*/ 7560 h 1143000"/>
              <a:gd name="textAreaBottom" fmla="*/ 905400 h 114300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cubicBezTo>
                  <a:pt x="238" y="0"/>
                  <a:pt x="0" y="238"/>
                  <a:pt x="0" y="532"/>
                </a:cubicBezTo>
                <a:lnTo>
                  <a:pt x="0" y="16745"/>
                </a:lnTo>
                <a:cubicBezTo>
                  <a:pt x="0" y="17039"/>
                  <a:pt x="238" y="17277"/>
                  <a:pt x="532" y="17277"/>
                </a:cubicBezTo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cubicBezTo>
                  <a:pt x="21339" y="17277"/>
                  <a:pt x="21600" y="17039"/>
                  <a:pt x="21600" y="16745"/>
                </a:cubicBezTo>
                <a:lnTo>
                  <a:pt x="21600" y="532"/>
                </a:lnTo>
                <a:cubicBezTo>
                  <a:pt x="21600" y="238"/>
                  <a:pt x="21339" y="0"/>
                  <a:pt x="21016" y="0"/>
                </a:cubicBezTo>
                <a:lnTo>
                  <a:pt x="532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914400" y="1509840"/>
            <a:ext cx="782640" cy="9144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5"/>
          <p:cNvSpPr/>
          <p:nvPr/>
        </p:nvSpPr>
        <p:spPr>
          <a:xfrm>
            <a:off x="2135880" y="166212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6521-A0E5-4B13-81F0-44B8DB531C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752120" y="217440"/>
            <a:ext cx="39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able 4.5  Category address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Picture 42" descr=""/>
          <p:cNvPicPr/>
          <p:nvPr/>
        </p:nvPicPr>
        <p:blipFill>
          <a:blip r:embed="rId1"/>
          <a:stretch/>
        </p:blipFill>
        <p:spPr>
          <a:xfrm>
            <a:off x="1623960" y="739800"/>
            <a:ext cx="589752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6147-05CE-4449-8C54-2E29BECF1D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2133000" y="457200"/>
            <a:ext cx="49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able 4.6  Addresses for conferenci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1" name="Picture 41" descr=""/>
          <p:cNvPicPr/>
          <p:nvPr/>
        </p:nvPicPr>
        <p:blipFill>
          <a:blip r:embed="rId1"/>
          <a:stretch/>
        </p:blipFill>
        <p:spPr>
          <a:xfrm>
            <a:off x="1752480" y="990720"/>
            <a:ext cx="58327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7F6B-EF38-442D-9942-0A09556C5A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990720" y="9036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4.19</a:t>
            </a:r>
            <a:r>
              <a:rPr b="1" lang="en-US" sz="1800" spc="-1" strike="noStrike">
                <a:solidFill>
                  <a:srgbClr val="ffcf01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ample internet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Picture 10" descr=""/>
          <p:cNvPicPr/>
          <p:nvPr/>
        </p:nvPicPr>
        <p:blipFill>
          <a:blip r:embed="rId1"/>
          <a:stretch/>
        </p:blipFill>
        <p:spPr>
          <a:xfrm>
            <a:off x="719280" y="762120"/>
            <a:ext cx="712944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AD34-8821-49D7-9D1D-AB76789DF7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" name="Group 2"/>
          <p:cNvGrpSpPr/>
          <p:nvPr/>
        </p:nvGrpSpPr>
        <p:grpSpPr>
          <a:xfrm>
            <a:off x="152280" y="0"/>
            <a:ext cx="8686800" cy="6400440"/>
            <a:chOff x="152280" y="0"/>
            <a:chExt cx="8686800" cy="6400440"/>
          </a:xfrm>
        </p:grpSpPr>
        <p:sp>
          <p:nvSpPr>
            <p:cNvPr id="216" name="AutoShape 3"/>
            <p:cNvSpPr/>
            <p:nvPr/>
          </p:nvSpPr>
          <p:spPr>
            <a:xfrm>
              <a:off x="533160" y="399960"/>
              <a:ext cx="8305920" cy="600048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AutoShape 4"/>
            <p:cNvSpPr/>
            <p:nvPr/>
          </p:nvSpPr>
          <p:spPr>
            <a:xfrm>
              <a:off x="152280" y="0"/>
              <a:ext cx="8534520" cy="128016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80160"/>
                <a:gd name="textAreaBottom" fmla="*/ 1280520 h 128016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169" y="0"/>
                  </a:lnTo>
                  <a:cubicBezTo>
                    <a:pt x="6446" y="0"/>
                    <a:pt x="6670" y="223"/>
                    <a:pt x="6670" y="500"/>
                  </a:cubicBezTo>
                  <a:cubicBezTo>
                    <a:pt x="6670" y="776"/>
                    <a:pt x="6446" y="999"/>
                    <a:pt x="617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Line 5"/>
            <p:cNvSpPr/>
            <p:nvPr/>
          </p:nvSpPr>
          <p:spPr>
            <a:xfrm>
              <a:off x="152280" y="1120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9" name="Text Box 6"/>
          <p:cNvSpPr/>
          <p:nvPr/>
        </p:nvSpPr>
        <p:spPr>
          <a:xfrm>
            <a:off x="535320" y="49320"/>
            <a:ext cx="541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4   SUBNETTING AND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SUPERNETTING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533520" y="1371600"/>
            <a:ext cx="7848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n the previous sections we discussed the problems associated with classful addressing. Specifically, the network addresses available for assignment to organizations are close to depletion. This is coupled with the ever-increasing demand for addresses from organizations that want connection to the Internet. In this section we briefly discuss two solutions: subnetting and supernetting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Rectangle 12"/>
          <p:cNvSpPr/>
          <p:nvPr/>
        </p:nvSpPr>
        <p:spPr>
          <a:xfrm>
            <a:off x="685800" y="36417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The topics discussed in this section include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Rectangle 13"/>
          <p:cNvSpPr/>
          <p:nvPr/>
        </p:nvSpPr>
        <p:spPr>
          <a:xfrm>
            <a:off x="685800" y="4022640"/>
            <a:ext cx="7315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2000" spc="-1" strike="noStrike">
                <a:solidFill>
                  <a:srgbClr val="000000"/>
                </a:solidFill>
                <a:latin typeface="Times New Roman"/>
              </a:rPr>
              <a:t>Subnett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2000" spc="-1" strike="noStrike">
                <a:solidFill>
                  <a:srgbClr val="000000"/>
                </a:solidFill>
                <a:latin typeface="Times New Roman"/>
              </a:rPr>
              <a:t>Supernett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2000" spc="-1" strike="noStrike">
                <a:solidFill>
                  <a:srgbClr val="000000"/>
                </a:solidFill>
                <a:latin typeface="Times New Roman"/>
              </a:rPr>
              <a:t>Supernet Mask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2000" spc="-1" strike="noStrike">
                <a:solidFill>
                  <a:srgbClr val="000000"/>
                </a:solidFill>
                <a:latin typeface="Times New Roman"/>
              </a:rPr>
              <a:t>Obsolescenc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CEDC-8CEB-4232-94F0-DC2339BD8D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838080" y="2638440"/>
            <a:ext cx="7543800" cy="119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P addresses are designed with two levels of hierarchy.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ubRRectCallout"/>
          <p:cNvSpPr/>
          <p:nvPr/>
        </p:nvSpPr>
        <p:spPr>
          <a:xfrm>
            <a:off x="838080" y="1433520"/>
            <a:ext cx="2743200" cy="1143000"/>
          </a:xfrm>
          <a:custGeom>
            <a:avLst/>
            <a:gdLst>
              <a:gd name="textAreaLeft" fmla="*/ 18360 w 2743200"/>
              <a:gd name="textAreaRight" fmla="*/ 2719080 w 2743200"/>
              <a:gd name="textAreaTop" fmla="*/ 7560 h 1143000"/>
              <a:gd name="textAreaBottom" fmla="*/ 905400 h 114300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cubicBezTo>
                  <a:pt x="238" y="0"/>
                  <a:pt x="0" y="238"/>
                  <a:pt x="0" y="532"/>
                </a:cubicBezTo>
                <a:lnTo>
                  <a:pt x="0" y="16745"/>
                </a:lnTo>
                <a:cubicBezTo>
                  <a:pt x="0" y="17039"/>
                  <a:pt x="238" y="17277"/>
                  <a:pt x="532" y="17277"/>
                </a:cubicBezTo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cubicBezTo>
                  <a:pt x="21339" y="17277"/>
                  <a:pt x="21600" y="17039"/>
                  <a:pt x="21600" y="16745"/>
                </a:cubicBezTo>
                <a:lnTo>
                  <a:pt x="21600" y="532"/>
                </a:lnTo>
                <a:cubicBezTo>
                  <a:pt x="21600" y="238"/>
                  <a:pt x="21339" y="0"/>
                  <a:pt x="21016" y="0"/>
                </a:cubicBezTo>
                <a:lnTo>
                  <a:pt x="532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914400" y="1433520"/>
            <a:ext cx="782640" cy="9144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5"/>
          <p:cNvSpPr/>
          <p:nvPr/>
        </p:nvSpPr>
        <p:spPr>
          <a:xfrm>
            <a:off x="2135880" y="158580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7F89-F2A2-4FF4-9937-CBBC4BB57D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990720" y="9036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4.20</a:t>
            </a:r>
            <a:r>
              <a:rPr b="1" lang="en-US" sz="1800" spc="-1" strike="noStrike">
                <a:solidFill>
                  <a:srgbClr val="ffcf01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 network with two levels of hierarchy (not subnetted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Rectangle 9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9" name="Picture 11" descr=""/>
          <p:cNvPicPr/>
          <p:nvPr/>
        </p:nvPicPr>
        <p:blipFill>
          <a:blip r:embed="rId1"/>
          <a:stretch/>
        </p:blipFill>
        <p:spPr>
          <a:xfrm>
            <a:off x="195120" y="2595600"/>
            <a:ext cx="872028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BE76-95FB-44FE-9FE4-EA838730EC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Text Box 2"/>
          <p:cNvSpPr/>
          <p:nvPr/>
        </p:nvSpPr>
        <p:spPr>
          <a:xfrm>
            <a:off x="990720" y="9036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4.21</a:t>
            </a:r>
            <a:r>
              <a:rPr b="1" lang="en-US" sz="1800" spc="-1" strike="noStrike">
                <a:solidFill>
                  <a:srgbClr val="ffcf01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 network with three levels of hierarchy (subnetted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0" name="Picture 10" descr=""/>
          <p:cNvPicPr/>
          <p:nvPr/>
        </p:nvPicPr>
        <p:blipFill>
          <a:blip r:embed="rId1"/>
          <a:stretch/>
        </p:blipFill>
        <p:spPr>
          <a:xfrm>
            <a:off x="1117440" y="990720"/>
            <a:ext cx="7112160" cy="55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1511-473E-4B40-9904-7A6710C55C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5" name="Group 2"/>
          <p:cNvGrpSpPr/>
          <p:nvPr/>
        </p:nvGrpSpPr>
        <p:grpSpPr>
          <a:xfrm>
            <a:off x="0" y="0"/>
            <a:ext cx="8686800" cy="6400440"/>
            <a:chOff x="0" y="0"/>
            <a:chExt cx="8686800" cy="6400440"/>
          </a:xfrm>
        </p:grpSpPr>
        <p:sp>
          <p:nvSpPr>
            <p:cNvPr id="96" name="AutoShape 3"/>
            <p:cNvSpPr/>
            <p:nvPr/>
          </p:nvSpPr>
          <p:spPr>
            <a:xfrm>
              <a:off x="380880" y="399960"/>
              <a:ext cx="8305920" cy="600048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0" y="0"/>
              <a:ext cx="8534520" cy="128016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80160"/>
                <a:gd name="textAreaBottom" fmla="*/ 1280520 h 128016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169" y="0"/>
                  </a:lnTo>
                  <a:cubicBezTo>
                    <a:pt x="6446" y="0"/>
                    <a:pt x="6670" y="223"/>
                    <a:pt x="6670" y="500"/>
                  </a:cubicBezTo>
                  <a:cubicBezTo>
                    <a:pt x="6670" y="776"/>
                    <a:pt x="6446" y="999"/>
                    <a:pt x="617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Line 5"/>
            <p:cNvSpPr/>
            <p:nvPr/>
          </p:nvSpPr>
          <p:spPr>
            <a:xfrm>
              <a:off x="0" y="1120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9" name="Text Box 6"/>
          <p:cNvSpPr/>
          <p:nvPr/>
        </p:nvSpPr>
        <p:spPr>
          <a:xfrm>
            <a:off x="231120" y="353880"/>
            <a:ext cx="459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3   OTHER ISSUE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533520" y="137160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n this section, we discuss some other issues that are related to addressing in general and classful addressing in particular.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685800" y="265104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The topics discussed in this section include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685800" y="3108240"/>
            <a:ext cx="7315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ultihomed Device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ocation, Not Name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pecial Addresse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rivate Addresse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nicast, Multicast, and Broadcast Addresse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E42B-C58B-4078-BB44-CB688E04ED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Text Box 2"/>
          <p:cNvSpPr/>
          <p:nvPr/>
        </p:nvSpPr>
        <p:spPr>
          <a:xfrm>
            <a:off x="990720" y="9036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4.22</a:t>
            </a:r>
            <a:r>
              <a:rPr b="1" lang="en-US" sz="1800" spc="-1" strike="noStrike">
                <a:solidFill>
                  <a:srgbClr val="ffcf01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ddresses in a network with and without subnetting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1" name="Picture 10" descr=""/>
          <p:cNvPicPr/>
          <p:nvPr/>
        </p:nvPicPr>
        <p:blipFill>
          <a:blip r:embed="rId1"/>
          <a:stretch/>
        </p:blipFill>
        <p:spPr>
          <a:xfrm>
            <a:off x="1434960" y="1521000"/>
            <a:ext cx="6272280" cy="38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0378-897B-4ACF-BAA4-3B020274C4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990720" y="9036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4.23</a:t>
            </a:r>
            <a:r>
              <a:rPr b="1" lang="en-US" sz="1800" spc="-1" strike="noStrike">
                <a:solidFill>
                  <a:srgbClr val="ffcf01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ierarchy concept in a telephone numbe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Rectangle 8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Rectangle 9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2" name="Picture 10" descr=""/>
          <p:cNvPicPr/>
          <p:nvPr/>
        </p:nvPicPr>
        <p:blipFill>
          <a:blip r:embed="rId1"/>
          <a:stretch/>
        </p:blipFill>
        <p:spPr>
          <a:xfrm>
            <a:off x="2357280" y="2987640"/>
            <a:ext cx="442764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9876-E7B6-4861-83AB-7ADC4E0D0D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990720" y="9036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4.24</a:t>
            </a:r>
            <a:r>
              <a:rPr b="1" lang="en-US" sz="1800" spc="-1" strike="noStrike">
                <a:solidFill>
                  <a:srgbClr val="ffcf01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efault mask and subnet mask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3" name="Picture 10" descr=""/>
          <p:cNvPicPr/>
          <p:nvPr/>
        </p:nvPicPr>
        <p:blipFill>
          <a:blip r:embed="rId1"/>
          <a:stretch/>
        </p:blipFill>
        <p:spPr>
          <a:xfrm>
            <a:off x="1143000" y="1160640"/>
            <a:ext cx="63802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FF69-36A3-4BCF-ABCB-A4E8189158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Rectangle 2"/>
          <p:cNvSpPr/>
          <p:nvPr/>
        </p:nvSpPr>
        <p:spPr>
          <a:xfrm>
            <a:off x="392040" y="144792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at is the subnetwork address if the destination address is 200.45.34.56 and the subnet mask is 255.255.240.0?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143000" y="3808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comic"/>
              </a:rPr>
              <a:t>Example</a:t>
            </a:r>
            <a:r>
              <a:rPr b="1" i="1" lang="en-US" sz="2800" spc="-1" strike="noStrike">
                <a:solidFill>
                  <a:srgbClr val="3333cc"/>
                </a:solidFill>
                <a:latin typeface="comic"/>
              </a:rPr>
              <a:t> 15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457200" y="152280"/>
            <a:ext cx="609480" cy="1067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533520" y="27432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olution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e apply the AND operation on the address and the subnet mask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457200" y="4114800"/>
            <a:ext cx="8153280" cy="1326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ddres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➡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11001000 00101101 00100010 00111000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ubnet Mask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➡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11111111 11111111 11110000 00000000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ubnetwork Address  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➡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11001000 00101101 00100000 00000000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F8FB-A7D0-458B-A677-50068F3FC6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Text Box 2"/>
          <p:cNvSpPr/>
          <p:nvPr/>
        </p:nvSpPr>
        <p:spPr>
          <a:xfrm>
            <a:off x="990720" y="9036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4.25</a:t>
            </a:r>
            <a:r>
              <a:rPr b="1" lang="en-US" sz="1800" spc="-1" strike="noStrike">
                <a:solidFill>
                  <a:srgbClr val="ffcf01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parison of a default mask and a subnet mask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Rectangle 9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1" name="Picture 10" descr=""/>
          <p:cNvPicPr/>
          <p:nvPr/>
        </p:nvPicPr>
        <p:blipFill>
          <a:blip r:embed="rId1"/>
          <a:stretch/>
        </p:blipFill>
        <p:spPr>
          <a:xfrm>
            <a:off x="403200" y="2147760"/>
            <a:ext cx="833760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395A-0CE5-4362-8FFE-57BBA0F2DB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Text Box 2"/>
          <p:cNvSpPr/>
          <p:nvPr/>
        </p:nvSpPr>
        <p:spPr>
          <a:xfrm>
            <a:off x="990720" y="9036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4.26</a:t>
            </a:r>
            <a:r>
              <a:rPr b="1" lang="en-US" sz="1800" spc="-1" strike="noStrike">
                <a:solidFill>
                  <a:srgbClr val="ffcf01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 supernetwork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Rectangle 8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Rectangle 9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2" name="Picture 10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1536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5CB0-5872-44DB-B735-CFF6287117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838080" y="1981080"/>
            <a:ext cx="7543800" cy="421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n subnetting, we need the first address of the subnet and the subnet mask to define the range of addresses.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n supernetting, we need the first address of the supernet and the supernet mask to define the range of addresses.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ubRRectCallout"/>
          <p:cNvSpPr/>
          <p:nvPr/>
        </p:nvSpPr>
        <p:spPr>
          <a:xfrm>
            <a:off x="838080" y="762120"/>
            <a:ext cx="2743200" cy="1143000"/>
          </a:xfrm>
          <a:custGeom>
            <a:avLst/>
            <a:gdLst>
              <a:gd name="textAreaLeft" fmla="*/ 18360 w 2743200"/>
              <a:gd name="textAreaRight" fmla="*/ 2719080 w 2743200"/>
              <a:gd name="textAreaTop" fmla="*/ 7560 h 1143000"/>
              <a:gd name="textAreaBottom" fmla="*/ 905400 h 114300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cubicBezTo>
                  <a:pt x="238" y="0"/>
                  <a:pt x="0" y="238"/>
                  <a:pt x="0" y="532"/>
                </a:cubicBezTo>
                <a:lnTo>
                  <a:pt x="0" y="16745"/>
                </a:lnTo>
                <a:cubicBezTo>
                  <a:pt x="0" y="17039"/>
                  <a:pt x="238" y="17277"/>
                  <a:pt x="532" y="17277"/>
                </a:cubicBezTo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cubicBezTo>
                  <a:pt x="21339" y="17277"/>
                  <a:pt x="21600" y="17039"/>
                  <a:pt x="21600" y="16745"/>
                </a:cubicBezTo>
                <a:lnTo>
                  <a:pt x="21600" y="532"/>
                </a:lnTo>
                <a:cubicBezTo>
                  <a:pt x="21600" y="238"/>
                  <a:pt x="21339" y="0"/>
                  <a:pt x="21016" y="0"/>
                </a:cubicBezTo>
                <a:lnTo>
                  <a:pt x="532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7" name="Picture 4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82640" cy="91440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5"/>
          <p:cNvSpPr/>
          <p:nvPr/>
        </p:nvSpPr>
        <p:spPr>
          <a:xfrm>
            <a:off x="2135880" y="114300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DA01-829E-48ED-9046-BE78E92F78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Text Box 2"/>
          <p:cNvSpPr/>
          <p:nvPr/>
        </p:nvSpPr>
        <p:spPr>
          <a:xfrm>
            <a:off x="990720" y="90360"/>
            <a:ext cx="71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4.27</a:t>
            </a:r>
            <a:r>
              <a:rPr b="1" lang="en-US" sz="1800" spc="-1" strike="noStrike">
                <a:solidFill>
                  <a:srgbClr val="ffcf01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parison of subnet, default, and supernet mask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Rectangle 6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Rectangle 8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9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9" name="Picture 10" descr=""/>
          <p:cNvPicPr/>
          <p:nvPr/>
        </p:nvPicPr>
        <p:blipFill>
          <a:blip r:embed="rId1"/>
          <a:stretch/>
        </p:blipFill>
        <p:spPr>
          <a:xfrm>
            <a:off x="1143000" y="1778040"/>
            <a:ext cx="672768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EC09-E0FB-4754-9418-7F94EE3996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2"/>
          <p:cNvSpPr/>
          <p:nvPr/>
        </p:nvSpPr>
        <p:spPr>
          <a:xfrm>
            <a:off x="838080" y="2546280"/>
            <a:ext cx="7543800" cy="17398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he idea of subnetting and supernetting of classful addresses is almost obsolete.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ubRRectCallout"/>
          <p:cNvSpPr/>
          <p:nvPr/>
        </p:nvSpPr>
        <p:spPr>
          <a:xfrm>
            <a:off x="838080" y="1341360"/>
            <a:ext cx="2743200" cy="1143000"/>
          </a:xfrm>
          <a:custGeom>
            <a:avLst/>
            <a:gdLst>
              <a:gd name="textAreaLeft" fmla="*/ 18360 w 2743200"/>
              <a:gd name="textAreaRight" fmla="*/ 2719080 w 2743200"/>
              <a:gd name="textAreaTop" fmla="*/ 7560 h 1143000"/>
              <a:gd name="textAreaBottom" fmla="*/ 905400 h 114300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cubicBezTo>
                  <a:pt x="238" y="0"/>
                  <a:pt x="0" y="238"/>
                  <a:pt x="0" y="532"/>
                </a:cubicBezTo>
                <a:lnTo>
                  <a:pt x="0" y="16745"/>
                </a:lnTo>
                <a:cubicBezTo>
                  <a:pt x="0" y="17039"/>
                  <a:pt x="238" y="17277"/>
                  <a:pt x="532" y="17277"/>
                </a:cubicBezTo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cubicBezTo>
                  <a:pt x="21339" y="17277"/>
                  <a:pt x="21600" y="17039"/>
                  <a:pt x="21600" y="16745"/>
                </a:cubicBezTo>
                <a:lnTo>
                  <a:pt x="21600" y="532"/>
                </a:lnTo>
                <a:cubicBezTo>
                  <a:pt x="21600" y="238"/>
                  <a:pt x="21339" y="0"/>
                  <a:pt x="21016" y="0"/>
                </a:cubicBezTo>
                <a:lnTo>
                  <a:pt x="532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4" name="Picture 4" descr=""/>
          <p:cNvPicPr/>
          <p:nvPr/>
        </p:nvPicPr>
        <p:blipFill>
          <a:blip r:embed="rId1"/>
          <a:stretch/>
        </p:blipFill>
        <p:spPr>
          <a:xfrm>
            <a:off x="914400" y="1341360"/>
            <a:ext cx="782640" cy="91440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5"/>
          <p:cNvSpPr/>
          <p:nvPr/>
        </p:nvSpPr>
        <p:spPr>
          <a:xfrm>
            <a:off x="2135880" y="149400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2BB5-6EB7-405F-9604-72B80593B2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990720" y="9036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4.12</a:t>
            </a:r>
            <a:r>
              <a:rPr b="1" lang="en-US" sz="1800" spc="-1" strike="noStrike">
                <a:solidFill>
                  <a:srgbClr val="ffcf01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ultihomed device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10" descr=""/>
          <p:cNvPicPr/>
          <p:nvPr/>
        </p:nvPicPr>
        <p:blipFill>
          <a:blip r:embed="rId1"/>
          <a:stretch/>
        </p:blipFill>
        <p:spPr>
          <a:xfrm>
            <a:off x="1192320" y="1581120"/>
            <a:ext cx="6757920" cy="36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839F-0783-49B4-B86B-2E6BAD31D3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227520" y="1600200"/>
            <a:ext cx="36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able 4.3  Special address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41" descr=""/>
          <p:cNvPicPr/>
          <p:nvPr/>
        </p:nvPicPr>
        <p:blipFill>
          <a:blip r:embed="rId1"/>
          <a:stretch/>
        </p:blipFill>
        <p:spPr>
          <a:xfrm>
            <a:off x="152280" y="2016000"/>
            <a:ext cx="8940960" cy="33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06AB-8242-4ED4-875A-90DC35A27C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990720" y="9036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4.13</a:t>
            </a:r>
            <a:r>
              <a:rPr b="1" lang="en-US" sz="1800" spc="-1" strike="noStrike">
                <a:solidFill>
                  <a:srgbClr val="ffcf01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etwork addres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Picture 10" descr=""/>
          <p:cNvPicPr/>
          <p:nvPr/>
        </p:nvPicPr>
        <p:blipFill>
          <a:blip r:embed="rId1"/>
          <a:stretch/>
        </p:blipFill>
        <p:spPr>
          <a:xfrm>
            <a:off x="268200" y="2184480"/>
            <a:ext cx="841860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F8D7-4ACE-4DC2-B226-46EC592D04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990720" y="9036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4.14</a:t>
            </a:r>
            <a:r>
              <a:rPr b="1" lang="en-US" sz="1800" spc="-1" strike="noStrike">
                <a:solidFill>
                  <a:srgbClr val="ffcf01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xample of direct broadcast addres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1"/>
          <a:stretch/>
        </p:blipFill>
        <p:spPr>
          <a:xfrm>
            <a:off x="1217520" y="1663560"/>
            <a:ext cx="6554880" cy="36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4F23-368B-4490-A62D-A40B7E1376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990720" y="9036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4.15</a:t>
            </a:r>
            <a:r>
              <a:rPr b="1" lang="en-US" sz="1800" spc="-1" strike="noStrike">
                <a:solidFill>
                  <a:srgbClr val="ffcf01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xample of limited broadcast addres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1"/>
          <a:stretch/>
        </p:blipFill>
        <p:spPr>
          <a:xfrm>
            <a:off x="868320" y="1371600"/>
            <a:ext cx="7284960" cy="41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7C21-8262-4063-9288-56EB9FC894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990720" y="9036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4.16</a:t>
            </a:r>
            <a:r>
              <a:rPr b="1" lang="en-US" sz="1800" spc="-1" strike="noStrike">
                <a:solidFill>
                  <a:srgbClr val="ffcf01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xamples of “this host on this network”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Picture 10" descr=""/>
          <p:cNvPicPr/>
          <p:nvPr/>
        </p:nvPicPr>
        <p:blipFill>
          <a:blip r:embed="rId1"/>
          <a:stretch/>
        </p:blipFill>
        <p:spPr>
          <a:xfrm>
            <a:off x="1544760" y="1459080"/>
            <a:ext cx="569412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A64D-6B4D-4C05-BC9B-AC4AB2756D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Text Box 2"/>
          <p:cNvSpPr/>
          <p:nvPr/>
        </p:nvSpPr>
        <p:spPr>
          <a:xfrm>
            <a:off x="990720" y="9036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4.17</a:t>
            </a:r>
            <a:r>
              <a:rPr b="1" lang="en-US" sz="1800" spc="-1" strike="noStrike">
                <a:solidFill>
                  <a:srgbClr val="ffcf01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xample of “specific host on this network”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Picture 10" descr=""/>
          <p:cNvPicPr/>
          <p:nvPr/>
        </p:nvPicPr>
        <p:blipFill>
          <a:blip r:embed="rId1"/>
          <a:stretch/>
        </p:blipFill>
        <p:spPr>
          <a:xfrm>
            <a:off x="357120" y="1047600"/>
            <a:ext cx="842976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5T04:50:39Z</dcterms:created>
  <dc:creator>Valued Gateway Client</dc:creator>
  <dc:description/>
  <dc:language>en-US</dc:language>
  <cp:lastModifiedBy>DR.Ahmed Saker</cp:lastModifiedBy>
  <dcterms:modified xsi:type="dcterms:W3CDTF">2019-03-26T17:45:22Z</dcterms:modified>
  <cp:revision>114</cp:revision>
  <dc:subject/>
  <dc:title>PowerPoint Presentation</dc:title>
</cp:coreProperties>
</file>