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595D-81EC-48F9-A9EA-13AC6E969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34BD-7FEB-4AD9-95AF-54673C390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D567-5A49-41E1-ADCF-DCBDD7BFF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96B4-28EE-4456-9B89-C96F5421B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89C9-D276-4D3A-828D-6DC12B6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8ACD3-350A-4523-99AE-F1DB3547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11BC8-A963-4926-B1CA-C5E9F7B1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10D9A-FC98-4010-B718-4D78754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EDAD-A254-4495-B878-FE1400F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A4A1C-2F40-4B3C-8A45-EB475857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4F9BD-3705-4280-BDF9-8B7B655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2118-9813-4CC2-8957-B42C656BA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B54AC-99A0-4D95-BB0C-26CEB4E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FB86A-0B47-4A6C-82E8-09A4127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537B1-9094-4E8E-8272-385EBC5A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FF48-C567-4E05-A987-0CF94348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F628-9ACA-404C-8941-7650E222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70E5-3691-43CD-B5CF-6B9191C19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7040-895A-4648-A2E7-3F23AA866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A3A0-8B56-48C1-9916-D9C2BA9E0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8CB6-1CA1-4A6E-B83E-3D1A8D218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F022-28D9-4B59-A564-7584814C6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9FCA-2272-4A87-81D1-9602074B3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C924-0182-4750-877F-06349005E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B0B-B740-41BB-85AC-8FFEFCDD3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8A9-0CB5-4EDD-B2F1-6B11D8CBC2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7139-F05B-48D0-BD53-92C6A8DD2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92088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:\شعار جديد.png"/>
          <p:cNvPicPr/>
          <p:nvPr/>
        </p:nvPicPr>
        <p:blipFill>
          <a:blip r:embed="rId1"/>
          <a:stretch/>
        </p:blipFill>
        <p:spPr>
          <a:xfrm>
            <a:off x="3429000" y="76212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D121-029C-445C-8AC0-8938DD4AEB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990720" y="90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5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ison of a default mask and a subnet mas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1"/>
          <a:stretch/>
        </p:blipFill>
        <p:spPr>
          <a:xfrm>
            <a:off x="403200" y="2147760"/>
            <a:ext cx="833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079-AC46-4E3B-A72E-620A29600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6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supernetwor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536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14F-65CB-4977-86E5-B9C8F08B12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838080" y="1981080"/>
            <a:ext cx="7543800" cy="421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 subnetting, we need the first address of the subnet and the subnet mask to define the range of addresses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 supernetting, we need the first address of the supernet and the supernet mask to define the range of addresses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ubRRectCallout"/>
          <p:cNvSpPr/>
          <p:nvPr/>
        </p:nvSpPr>
        <p:spPr>
          <a:xfrm>
            <a:off x="838080" y="7621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85D-4169-4631-91BA-70B0791FB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990720" y="9036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7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ison of subnet, default, and supernet mask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1143000" y="1778040"/>
            <a:ext cx="67276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AB4-528D-4FFD-BA4A-B31993D14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838080" y="254628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 of subnetting and supernetting of classful addresses is almost obsolete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ubRRectCallout"/>
          <p:cNvSpPr/>
          <p:nvPr/>
        </p:nvSpPr>
        <p:spPr>
          <a:xfrm>
            <a:off x="838080" y="134136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914400" y="134136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135880" y="1494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2E1-07B3-4691-BA1E-D1324BABC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152280" y="0"/>
            <a:ext cx="8686800" cy="6400440"/>
            <a:chOff x="152280" y="0"/>
            <a:chExt cx="8686800" cy="6400440"/>
          </a:xfrm>
        </p:grpSpPr>
        <p:sp>
          <p:nvSpPr>
            <p:cNvPr id="96" name="AutoShape 3"/>
            <p:cNvSpPr/>
            <p:nvPr/>
          </p:nvSpPr>
          <p:spPr>
            <a:xfrm>
              <a:off x="53316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15228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5"/>
            <p:cNvSpPr/>
            <p:nvPr/>
          </p:nvSpPr>
          <p:spPr>
            <a:xfrm>
              <a:off x="15228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535320" y="493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4   SUBNETT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SUPERNETTING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33520" y="1371600"/>
            <a:ext cx="78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e previous sections we discussed the problems associated with classful addressing. Specifically, the network addresses available for assignment to organizations are close to depletion. This is coupled with the ever-increasing demand for addresses from organizations that want connection to the Internet. In this section we briefly discuss two solutions: subnetting and supernetting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85800" y="3641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85800" y="40226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pernet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pernet Mas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Obsolesc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256D-FDB8-4A9E-9657-A952EF73E4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838080" y="2638440"/>
            <a:ext cx="754380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 addresses are designed with two levels of hierarchy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ubRRectCallout"/>
          <p:cNvSpPr/>
          <p:nvPr/>
        </p:nvSpPr>
        <p:spPr>
          <a:xfrm>
            <a:off x="838080" y="14335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914400" y="14335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135880" y="15858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D0B7-EFF1-41AA-8DA5-C08266ED90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990720" y="90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0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network with two levels of hierarchy (not subnetted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195120" y="2595600"/>
            <a:ext cx="8720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827E-2E17-44C8-9E47-D667E2903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90720" y="903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1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network with three levels of hierarchy (subnetted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1117440" y="990720"/>
            <a:ext cx="71121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D4B-28B7-44B9-AEBB-09A6E74D8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990720" y="903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dresses in a network with and without subnett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34960" y="1521000"/>
            <a:ext cx="627228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30A-E63E-44BA-9E01-E6B31F697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ierarchy concept in a telephone numb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2357280" y="2987640"/>
            <a:ext cx="44276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CBF-A3CA-4564-BC4A-E41343802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4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ault mask and subnet mas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1143000" y="1160640"/>
            <a:ext cx="6380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DFE-E4E7-488F-BDE2-68AEB3B8F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92040" y="1447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subnetwork address if the destination address is 200.45.34.56 and the subnet mask is 255.255.240.0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43000" y="380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"/>
              </a:rPr>
              <a:t>Example</a:t>
            </a:r>
            <a:r>
              <a:rPr b="1" i="1" lang="en-US" sz="2800" spc="-1" strike="noStrike">
                <a:solidFill>
                  <a:srgbClr val="3333cc"/>
                </a:solidFill>
                <a:latin typeface="comic"/>
              </a:rPr>
              <a:t> 15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7200" y="152280"/>
            <a:ext cx="6094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olu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 apply the AND operation on the address and the subnet mas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57200" y="4114800"/>
            <a:ext cx="8153280" cy="1326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11001000 00101101 00100010 0011100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bnet Mas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111111 11111111 11110000 0000000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bnetwork Address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11001000 00101101 00100000 00000000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45:54Z</dcterms:modified>
  <cp:revision>115</cp:revision>
  <dc:subject/>
  <dc:title>PowerPoint Presentation</dc:title>
</cp:coreProperties>
</file>