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CBA-173E-4EB8-8B2C-BBD62879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29F-F123-4B06-85FF-A4726F79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347-F7D1-4C62-90CA-B785A8DE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B7F-3336-4E26-80F6-C8FF19BD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4519-90B9-40BE-A4E7-504FC3C4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D7D0-BFC9-4072-AE96-D4B11200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ED6F-4DFD-4F94-8DCD-A1F001A6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51F3-58B5-4898-83C5-B1D7DFDB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18CF-0E09-4685-8B0D-F98BBA5F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6C85-B1B8-4ABD-B2C2-E8BD6985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B898-286B-4D87-B62E-B6ADC0A8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3BC-CABE-43CF-B90F-4B20B997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1801-475B-4126-B118-9090A4DB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9CAD-4934-4B79-90E6-7DBE3875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F6A4-920C-4BC7-81CD-5DB58354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9EE2-F153-45A3-80F1-BF9EF7C2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9A10-7CB6-4C48-A2FF-CC854BFB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05B0-1587-45C1-9175-FE5EDFBE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3B0B0-4A9A-4BE2-B572-2DDB436C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E987-DD4A-4227-AD50-6AABC50A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60A1B-AC82-48ED-8EFA-AD7C508F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86B3E-7259-4CEF-A79A-9FC1D51C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808-FDE1-4685-8D4B-634A5DB7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84869-56AD-4209-806D-4308C96A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363A7-B775-4EC3-9CD2-CC8AE554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1939-FA75-4358-9910-FD45FE85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16B6E-7986-4B79-BF3D-696B66BB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709F4-C6F9-4C2F-942A-102E1873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852F-75FE-4236-B9D8-F5EE29CD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9E9F0-3359-43EE-BDF6-21F397DA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0CD16-DB33-4A0A-A571-6A56CBC3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120A1-2464-4A20-BDAF-00F0CB24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CDE04-B6C5-4F3D-BFC4-3AC08AFD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12D-7552-40E0-BE7E-1DF2FF98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5F8E2-58E5-456B-BD2F-77BCA0C3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C3721-812E-48E8-B436-0C880171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D1173-2926-4814-92E1-F696B5AE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C6456-90F1-451A-9912-EC0F5F69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2A806-84B7-4742-AD7C-14FA6AC4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F1E59-C039-4CD7-8C1A-1BA072FB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BB65C-E632-410C-9212-69222AF0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9597D-BAF2-4E58-8205-D70C4CF5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EFCB9-4B76-4884-9045-4D18C90B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A9A7C-E3D1-4D97-BBC2-E9ABEAE6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B9C-01D4-4209-A169-D7D404C7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8CED7-896A-439E-8DB3-EBADD9CB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3026A-E9F0-4D24-9311-B2C85EDF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7E0ED-5C18-40C0-8280-723EE32C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85205-F451-4C7C-8475-AB72FF67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C789C-424A-4176-A5BF-288F92DF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411D6-4714-4CAA-A196-D2610C28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34CEA-EC66-4983-B3BA-51407EFE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1FCA6-0BCD-4148-B044-781C6944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B83F9-E112-4F09-AAA7-B9D3ACEA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50182-96CB-4589-92D0-D39B54CA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154-D860-4B9B-859C-C1AA411B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3B282-98A0-41A8-B0FB-FA2F065C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56396-0F4C-411D-97D7-5D140FE1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F2D7B-2303-48A4-AE33-1F2F62D7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C87DF-D9CB-4B3A-B0BE-3F30C37C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AD2D7-A924-4D1B-A665-A3E75B4D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ED573-EE3F-4BEB-A084-350E572D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E7AB0-ACF7-4C78-ACD2-E493A514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F2C31-913C-40EC-A1DF-231AB585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240A4-5E3A-4E0A-B664-760CEFBD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B7FD4-FE6E-407E-8855-488EA218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749-D17C-4E1E-9A10-ECD8E0AD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F6E79-9D11-4BE9-8626-48B3EEFF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53B04-7E6C-4528-A8D6-A409B2E5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75B7E-DE4B-48FD-9982-64414CA4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23B-E7BA-40E8-A1B1-E7D58E4C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3CF-2818-4E4F-9B53-8E5173E2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BA60-25B1-4AFB-850B-C41AE962D8A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4020-5F2D-4CC6-A072-6BE9583DB1F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8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5CFD-87F3-4C15-9ADD-B6E566236C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86AF-C949-4232-BD5F-0AA8F90B06B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6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30B8-DADD-4707-B9A0-D52F90B04B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5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2E4C-43BB-4D27-BA47-1FF31959476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57120" y="785880"/>
            <a:ext cx="84297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جامعة بغداد/ كلية التربية للبنا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قسم اللغة العرب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محاضرات في مناهج وطرائ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 تدريس اللغة العربي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إعدا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أ.م.د عدي راشد محمد القلمج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28920" y="1643040"/>
            <a:ext cx="6229440" cy="3857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نه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غة: نهج: سبيل – طريق – اتبع – سلك، ومنه قوله تعال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كل جعلنا منكم شرعة و منهاجا)، وفي معجم لسان العرب (باب نهج): طريق نهج بيّن واضح، ونهجت الطريق سلكته والمنهاج الطريق الواضح، وأي طريق يسلكه الإنسان للوصول لنهاية محددة , لهدف محدد, لغاية محددة فهو منهج.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Verdana"/>
              </a:rPr>
              <a:t>مفهوم المنهج (التقليدي ، الحديث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cc"/>
                </a:solidFill>
                <a:latin typeface="Arial"/>
              </a:rPr>
              <a:t>المنهج التقليدي : هو المعرفة المقدمة و التي تتمثل في مجموعة من الحقائق والمعلومات والمفاهيم والأفكار التي يدرسها ال</a:t>
            </a:r>
            <a:r>
              <a:rPr b="0" lang="ar-IQ" sz="2800" spc="-1" strike="noStrike">
                <a:solidFill>
                  <a:srgbClr val="ffffcc"/>
                </a:solidFill>
                <a:latin typeface="Arial"/>
              </a:rPr>
              <a:t>طالب</a:t>
            </a:r>
            <a:r>
              <a:rPr b="0" lang="ar-SA" sz="2800" spc="-1" strike="noStrike">
                <a:solidFill>
                  <a:srgbClr val="ffffcc"/>
                </a:solidFill>
                <a:latin typeface="Arial"/>
              </a:rPr>
              <a:t> في صورة مواد دراسية اصطلح على تسميتها بالمقررات الدراسية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AutoShape 10"/>
          <p:cNvSpPr/>
          <p:nvPr/>
        </p:nvSpPr>
        <p:spPr>
          <a:xfrm>
            <a:off x="1357200" y="1928880"/>
            <a:ext cx="795600" cy="4429080"/>
          </a:xfrm>
          <a:custGeom>
            <a:avLst/>
            <a:gdLst>
              <a:gd name="textAreaLeft" fmla="*/ 508320 w 795600"/>
              <a:gd name="textAreaRight" fmla="*/ 795960 w 795600"/>
              <a:gd name="textAreaTop" fmla="*/ 97560 h 4429080"/>
              <a:gd name="textAreaBottom" fmla="*/ 4331520 h 44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2"/>
                  <a:pt x="10800" y="1524"/>
                </a:cubicBezTo>
                <a:lnTo>
                  <a:pt x="10800" y="9109"/>
                </a:lnTo>
                <a:cubicBezTo>
                  <a:pt x="10800" y="9871"/>
                  <a:pt x="5400" y="10633"/>
                  <a:pt x="0" y="10633"/>
                </a:cubicBezTo>
                <a:cubicBezTo>
                  <a:pt x="5400" y="10633"/>
                  <a:pt x="10800" y="11395"/>
                  <a:pt x="10800" y="12157"/>
                </a:cubicBezTo>
                <a:lnTo>
                  <a:pt x="10800" y="20076"/>
                </a:lnTo>
                <a:cubicBezTo>
                  <a:pt x="10800" y="208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7904160" y="1874880"/>
            <a:ext cx="739800" cy="448308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4483080"/>
              <a:gd name="textAreaBottom" fmla="*/ 4376880 h 448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8"/>
                  <a:pt x="10800" y="1636"/>
                </a:cubicBezTo>
                <a:lnTo>
                  <a:pt x="10800" y="9164"/>
                </a:lnTo>
                <a:cubicBezTo>
                  <a:pt x="10800" y="9982"/>
                  <a:pt x="16200" y="10800"/>
                  <a:pt x="21600" y="10800"/>
                </a:cubicBezTo>
                <a:cubicBezTo>
                  <a:pt x="16200" y="10800"/>
                  <a:pt x="10800" y="11618"/>
                  <a:pt x="10800" y="12436"/>
                </a:cubicBezTo>
                <a:lnTo>
                  <a:pt x="10800" y="19964"/>
                </a:lnTo>
                <a:cubicBezTo>
                  <a:pt x="10800" y="2078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755640" y="1785960"/>
            <a:ext cx="710244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إيجابيات المنهج التقليدي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أ- اختصار الوقت والجه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ب- تسهيل مهمة المعل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ت- لا 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ي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حتاج إلى إمكانيات كبيرة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ث- إمكانية تطبيقه في ظل أي ظروف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سلبيات المنهج التقليدي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eaeaea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لتركيز على الناحية العقلية وإغفال بقية الجوانب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eaeaea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إغفال الميول والحاجات والاتجاهات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eaeaea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إغفال دور المدرس في اختيار المحتوى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eaeaea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تقليل أهمية النشاط داخل غرفة ال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ص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eaeaea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عتماد التلقين في نقل المعرفة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eaeaea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إهمال الفروق الفردية بين الطلبة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cc"/>
                </a:solidFill>
                <a:latin typeface="Arial"/>
              </a:rPr>
              <a:t>المنهج الحديث هو: مجموعة من الخبرات والأنشطة التربوية والاجتماعية والثقافية والعملية والفنية والرياضية التي تخططها المدرسة وتهيئها لتلاميذها ليقوموا بتعلمها داخل المدرسة أو خارجها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1357200" y="1928880"/>
            <a:ext cx="795600" cy="4429080"/>
          </a:xfrm>
          <a:custGeom>
            <a:avLst/>
            <a:gdLst>
              <a:gd name="textAreaLeft" fmla="*/ 508320 w 795600"/>
              <a:gd name="textAreaRight" fmla="*/ 795960 w 795600"/>
              <a:gd name="textAreaTop" fmla="*/ 97560 h 4429080"/>
              <a:gd name="textAreaBottom" fmla="*/ 4331520 h 44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2"/>
                  <a:pt x="10800" y="1524"/>
                </a:cubicBezTo>
                <a:lnTo>
                  <a:pt x="10800" y="9109"/>
                </a:lnTo>
                <a:cubicBezTo>
                  <a:pt x="10800" y="9871"/>
                  <a:pt x="5400" y="10633"/>
                  <a:pt x="0" y="10633"/>
                </a:cubicBezTo>
                <a:cubicBezTo>
                  <a:pt x="5400" y="10633"/>
                  <a:pt x="10800" y="11395"/>
                  <a:pt x="10800" y="12157"/>
                </a:cubicBezTo>
                <a:lnTo>
                  <a:pt x="10800" y="20076"/>
                </a:lnTo>
                <a:cubicBezTo>
                  <a:pt x="10800" y="208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7904160" y="1874880"/>
            <a:ext cx="739800" cy="448308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4483080"/>
              <a:gd name="textAreaBottom" fmla="*/ 4376880 h 448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8"/>
                  <a:pt x="10800" y="1636"/>
                </a:cubicBezTo>
                <a:lnTo>
                  <a:pt x="10800" y="9164"/>
                </a:lnTo>
                <a:cubicBezTo>
                  <a:pt x="10800" y="9982"/>
                  <a:pt x="16200" y="10800"/>
                  <a:pt x="21600" y="10800"/>
                </a:cubicBezTo>
                <a:cubicBezTo>
                  <a:pt x="16200" y="10800"/>
                  <a:pt x="10800" y="11618"/>
                  <a:pt x="10800" y="12436"/>
                </a:cubicBezTo>
                <a:lnTo>
                  <a:pt x="10800" y="19964"/>
                </a:lnTo>
                <a:cubicBezTo>
                  <a:pt x="10800" y="2078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755640" y="1785960"/>
            <a:ext cx="710244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ايجابيات المنهج الحديث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أ-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يراعي واقع المجتمع وطبيعة المتعلم وخصائص نموه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ب- يساعد التلاميذ على التكيف مع المجتم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ت- التنوع في اختيار طرق التدريس ومراعاة الفروق الفردية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ث- استخدام الوسائل المتنوعة وجعل التعليم أكثر ثباتا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ج- يعد بطريقة تعاونية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ح- دور ال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مدر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فيه تنظيم التعليم وليس التلقين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عيوب المنهج الحديث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eaeaea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لمعلم لابد أن توجد لدية قدرة على توجيه وتنظيم العملية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ولذلك نحن بحاجة لمعلمين أكفاء في عمله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cc"/>
                </a:solidFill>
                <a:latin typeface="Arial"/>
              </a:rPr>
              <a:t>المنهج الحديث هو: مجموعة من الخبرات والأنشطة التربوية والاجتماعية والثقافية والعملية والفنية والرياضية التي تخططها المدرسة وتهيئها لتلاميذها ليقوموا بتعلمها داخل المدرسة أو خارجها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AutoShape 10"/>
          <p:cNvSpPr/>
          <p:nvPr/>
        </p:nvSpPr>
        <p:spPr>
          <a:xfrm>
            <a:off x="1357200" y="1928880"/>
            <a:ext cx="795600" cy="4429080"/>
          </a:xfrm>
          <a:custGeom>
            <a:avLst/>
            <a:gdLst>
              <a:gd name="textAreaLeft" fmla="*/ 508320 w 795600"/>
              <a:gd name="textAreaRight" fmla="*/ 795960 w 795600"/>
              <a:gd name="textAreaTop" fmla="*/ 97560 h 4429080"/>
              <a:gd name="textAreaBottom" fmla="*/ 4331520 h 44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2"/>
                  <a:pt x="10800" y="1524"/>
                </a:cubicBezTo>
                <a:lnTo>
                  <a:pt x="10800" y="9109"/>
                </a:lnTo>
                <a:cubicBezTo>
                  <a:pt x="10800" y="9871"/>
                  <a:pt x="5400" y="10633"/>
                  <a:pt x="0" y="10633"/>
                </a:cubicBezTo>
                <a:cubicBezTo>
                  <a:pt x="5400" y="10633"/>
                  <a:pt x="10800" y="11395"/>
                  <a:pt x="10800" y="12157"/>
                </a:cubicBezTo>
                <a:lnTo>
                  <a:pt x="10800" y="20076"/>
                </a:lnTo>
                <a:cubicBezTo>
                  <a:pt x="10800" y="208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AutoShape 11"/>
          <p:cNvSpPr/>
          <p:nvPr/>
        </p:nvSpPr>
        <p:spPr>
          <a:xfrm>
            <a:off x="7904160" y="1874880"/>
            <a:ext cx="739800" cy="448308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4483080"/>
              <a:gd name="textAreaBottom" fmla="*/ 4376880 h 448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8"/>
                  <a:pt x="10800" y="1636"/>
                </a:cubicBezTo>
                <a:lnTo>
                  <a:pt x="10800" y="9164"/>
                </a:lnTo>
                <a:cubicBezTo>
                  <a:pt x="10800" y="9982"/>
                  <a:pt x="16200" y="10800"/>
                  <a:pt x="21600" y="10800"/>
                </a:cubicBezTo>
                <a:cubicBezTo>
                  <a:pt x="16200" y="10800"/>
                  <a:pt x="10800" y="11618"/>
                  <a:pt x="10800" y="12436"/>
                </a:cubicBezTo>
                <a:lnTo>
                  <a:pt x="10800" y="19964"/>
                </a:lnTo>
                <a:cubicBezTo>
                  <a:pt x="10800" y="2078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Text Box 27"/>
          <p:cNvSpPr/>
          <p:nvPr/>
        </p:nvSpPr>
        <p:spPr>
          <a:xfrm>
            <a:off x="755640" y="1785960"/>
            <a:ext cx="710244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ايجابيات المنهج الحديث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أ-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يراعي واقع المجتمع وطبيعة المتعلم وخصائص نموه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ب- يساعد التلاميذ على التكيف مع المجتم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ت- التنوع في اختيار طرق التدريس ومراعاة الفروق الفردية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ث- استخدام الوسائل المتنوعة وجعل التعليم أكثر ثباتا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ج- يعد بطريقة تعاونية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ح- دور ال</a:t>
            </a:r>
            <a:r>
              <a:rPr b="0" lang="ar-IQ" sz="2400" spc="-1" strike="noStrike">
                <a:solidFill>
                  <a:srgbClr val="ffffff"/>
                </a:solidFill>
                <a:latin typeface="Verdana"/>
              </a:rPr>
              <a:t>مدر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فيه تنظيم التعليم وليس التلقين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عيوب المنهج الحديث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eaeaea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لمعلم لابد أن توجد لدية قدرة على توجيه وتنظيم العملية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ولذلك نحن بحاجة لمعلمين أكفاء في عمله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14080" y="2205000"/>
            <a:ext cx="5472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000000"/>
                </a:solidFill>
                <a:latin typeface="Arial Black"/>
                <a:cs typeface="Andalus"/>
              </a:rPr>
              <a:t>شكرا لحسن إصغائكم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43:54Z</dcterms:created>
  <dc:creator>GsM</dc:creator>
  <dc:description/>
  <dc:language>en-US</dc:language>
  <cp:lastModifiedBy>DR.Ahmed Saker 2o1O</cp:lastModifiedBy>
  <dcterms:modified xsi:type="dcterms:W3CDTF">2019-04-08T20:22:35Z</dcterms:modified>
  <cp:revision>39</cp:revision>
  <dc:subject/>
  <dc:title>وزارة التعليم العالي والبحث العلمي جامعة بغداد بالتعاون مع منظمة</dc:title>
</cp:coreProperties>
</file>