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94206-FDBF-4F58-978B-08C5E5F3C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0D4B7-42FA-45B3-A141-5E39EF7B7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9D5B4-58B2-46D1-9A0B-B286E9C9A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85309-8467-4426-BC2D-747086412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59887-A7C2-4C7F-A52A-345516326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2D7BE-D5DC-41F7-9B3B-A0D721F76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1F4BB-7236-4E38-84B7-004E11478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6F934-46B8-46E0-8546-3C5FD3C6D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22E26-087C-4853-B7AF-967ED9B9B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C8CE1-8EED-4EAF-A934-E608AB6B3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C94B9-CC07-4873-BC17-A425C0212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67A6A-190B-4BC6-97BC-C054A74F8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AF3F5-E619-40C1-A2ED-7E202A374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85E99-877F-4413-A27B-6E46D2C17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747A3-839F-44BC-8564-860A4BC40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C013E-7C6D-43B8-9982-20C9DE044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336B6E-00AE-4FC9-AD29-062D1E2771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42770A-5403-4459-BBCE-FAA5FB99DA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BBBEF0-CDDD-4ABE-905A-3D0F3FCA90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0ACE18-36D7-46C2-9B67-E9F50EF284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26B88C-8369-42F7-B0FA-549FA3BFCB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C6CB0E-1785-4ECA-BC2C-7C24A7CDBC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310D3-07ED-41E2-83E4-8FD3DFF85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AC15E1-5AEE-427A-BEDB-158E67F815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99CD2A-AFC9-475F-A2EF-F437DA2522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605CA-5202-4879-B4D9-29B34DF08D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A37854-C4EE-42D7-8A5A-8FB471016C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97194D-6B80-4092-A3D0-28A749BB3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8685EB-B62A-443F-8BBB-569BC6AB34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CB07AF-388C-415D-B51E-CFB05B7905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FA65A4-5131-4D30-A546-3A383A506C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82EB7D-720E-4BCF-9A84-9E7C05C541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8A42DD-67A0-45AF-8FB2-E04298FD7B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BB84A-FF93-4A81-A255-BE4DDABCF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96259C-2A09-4EE5-B8F7-50422DA2D1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EBCAA4-60DD-4EA4-8A5B-524D08AF83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668316-2237-49A6-9893-0F59C0BE1F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DCAD00-6FCF-4A8E-A5C6-BD9E833856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DB94C-DA82-477D-8853-276E040CA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19780A-4F06-4BBE-A8FB-A55F0A4AA0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4C5895-A178-4851-97E5-5DF7206834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1C67CA-C009-40D9-8343-D56F779CE5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F939FE-0954-4D32-A4C5-6481124E3A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372A56-6F92-432B-85F6-90C64DFE24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590A7-5A3C-47B5-942F-688A46A5B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D4FB99-9C37-465E-B698-A9CF32AA42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79F717-E51E-4D39-BA66-ED593F42F9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FD4090-0F2D-4F2E-81C9-B76FE92F4D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8F4E9E-88AF-4B95-A4BC-1750CCC800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8E0B31-A71F-402E-B4CA-0CCADE2F2A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99171-A752-471B-955C-39881CE1E8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51FAC8-4F3E-48F6-AD15-2F9C006005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AE03E2-8A5F-4520-B4A0-46D6419B2A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218DDF-7D10-4A28-861C-AA03ADE73A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D8225E-2A51-4C3C-81F1-6E08F5F450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7DB83-0980-4100-966C-AA36C87CD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DC3596-4E40-49CB-9DFC-F3DEE4CF37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03054A-606A-4978-863A-DA522834C2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28EEFA-75B3-4C14-85F7-A02A6C5E95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4C54B8-5DB4-4F47-924C-CE3F1BFD95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DD4389-072B-4C4A-9ED5-56C1B6222F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A7CB05-A1DE-456D-86E4-705AAA0C91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3BB424-0935-4C60-8ACC-A7FEA244DD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FE83F9-31B6-41BB-905C-DC1E853E6E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755A74-98A4-4BB4-9158-755702658C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D3B561-CC2B-4C2D-A60C-DC6BF86728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08756-2AC9-41F2-BC82-5BE388CD9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45662F-E2F6-4FFD-AEA4-E59071BBB3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928251-2BBE-4E7E-862E-2C77548687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D89D3F-0E73-4EE5-9A00-12E02F3567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37CCF-813E-4005-8BEB-57E3ED9DC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1B1E2-2F0D-4BFB-B475-F8B42803D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8F0CC-900A-4A5C-B9E4-3B9AB0C6AC8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80" name="Group 2"/>
          <p:cNvGrpSpPr/>
          <p:nvPr/>
        </p:nvGrpSpPr>
        <p:grpSpPr>
          <a:xfrm>
            <a:off x="4716360" y="5345280"/>
            <a:ext cx="4427640" cy="1512720"/>
            <a:chOff x="4716360" y="5345280"/>
            <a:chExt cx="4427640" cy="1512720"/>
          </a:xfrm>
        </p:grpSpPr>
        <p:sp>
          <p:nvSpPr>
            <p:cNvPr id="8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9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AA8C-C56D-4F75-94A7-3AEC9847B08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 name="Group 2"/>
          <p:cNvGrpSpPr/>
          <p:nvPr/>
        </p:nvGrpSpPr>
        <p:grpSpPr>
          <a:xfrm>
            <a:off x="318960" y="1828800"/>
            <a:ext cx="8825040" cy="5029200"/>
            <a:chOff x="318960" y="1828800"/>
            <a:chExt cx="8825040" cy="5029200"/>
          </a:xfrm>
        </p:grpSpPr>
        <p:sp>
          <p:nvSpPr>
            <p:cNvPr id="138"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1"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2"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5"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46"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495D-6A0A-4DF8-B4FB-CD90D6A7AF12}"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5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87" name="Group 2"/>
          <p:cNvGrpSpPr/>
          <p:nvPr/>
        </p:nvGrpSpPr>
        <p:grpSpPr>
          <a:xfrm>
            <a:off x="0" y="0"/>
            <a:ext cx="9140760" cy="6851520"/>
            <a:chOff x="0" y="0"/>
            <a:chExt cx="9140760" cy="6851520"/>
          </a:xfrm>
        </p:grpSpPr>
        <p:sp>
          <p:nvSpPr>
            <p:cNvPr id="188"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9"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0"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2"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4"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6"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7"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200" name="Group 15"/>
            <p:cNvGrpSpPr/>
            <p:nvPr/>
          </p:nvGrpSpPr>
          <p:grpSpPr>
            <a:xfrm>
              <a:off x="304920" y="3625920"/>
              <a:ext cx="1990440" cy="1465200"/>
              <a:chOff x="304920" y="3625920"/>
              <a:chExt cx="1990440" cy="1465200"/>
            </a:xfrm>
          </p:grpSpPr>
          <p:sp>
            <p:nvSpPr>
              <p:cNvPr id="201"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2"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4"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6"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7"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8"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9"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0"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1"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2"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3"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5"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6"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8"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9"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0"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1"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4"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5"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2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DBE6-266B-4EDF-9FFA-A382E043724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267" name="Group 2"/>
          <p:cNvGrpSpPr/>
          <p:nvPr/>
        </p:nvGrpSpPr>
        <p:grpSpPr>
          <a:xfrm>
            <a:off x="4716360" y="5345280"/>
            <a:ext cx="4427640" cy="1512720"/>
            <a:chOff x="4716360" y="5345280"/>
            <a:chExt cx="4427640" cy="1512720"/>
          </a:xfrm>
        </p:grpSpPr>
        <p:sp>
          <p:nvSpPr>
            <p:cNvPr id="26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8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87F8-3A0E-4D51-89F4-924C6DBC745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24" name="Group 2"/>
          <p:cNvGrpSpPr/>
          <p:nvPr/>
        </p:nvGrpSpPr>
        <p:grpSpPr>
          <a:xfrm>
            <a:off x="318960" y="1752480"/>
            <a:ext cx="8825040" cy="5129280"/>
            <a:chOff x="318960" y="1752480"/>
            <a:chExt cx="8825040" cy="5129280"/>
          </a:xfrm>
        </p:grpSpPr>
        <p:sp>
          <p:nvSpPr>
            <p:cNvPr id="325"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6"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7"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8"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9"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0"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3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32"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3" name="PlaceHolder 3"/>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4" name="PlaceHolder 4"/>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5" name="PlaceHolder 5"/>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C71D-5A6F-4516-A3B4-F74FBED6DC63}"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57120" y="785880"/>
            <a:ext cx="8429760" cy="5286240"/>
          </a:xfrm>
          <a:prstGeom prst="rect">
            <a:avLst/>
          </a:prstGeom>
          <a:noFill/>
          <a:ln w="0">
            <a:noFill/>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جامعة بغداد/ كلية التربية للبنات</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قسم اللغة العربية</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محاضرات في مناهج وطرائق</a:t>
            </a:r>
            <a:endParaRPr b="0" lang="en-US" sz="4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 تدريس اللغة العربية</a:t>
            </a:r>
            <a:endParaRPr b="0" lang="en-US" sz="4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إعداد</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أ.م.د عدي راشد محمد القلمجي</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71720" y="1143000"/>
            <a:ext cx="7586640" cy="5572080"/>
          </a:xfrm>
          <a:prstGeom prst="rect">
            <a:avLst/>
          </a:prstGeom>
          <a:solidFill>
            <a:srgbClr val="ffff66"/>
          </a:solidFill>
          <a:ln w="9360">
            <a:solidFill>
              <a:srgbClr val="ff0000"/>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همية الكتاب المدرسي</a:t>
            </a:r>
            <a:br>
              <a:rPr sz="2400"/>
            </a:br>
            <a:r>
              <a:rPr b="0" lang="ar-SA" sz="2400" spc="-1" strike="noStrike">
                <a:solidFill>
                  <a:srgbClr val="000000"/>
                </a:solidFill>
                <a:latin typeface="Arial"/>
              </a:rPr>
              <a:t> الكتاب المدرسي ذو أهمية حيوية ودور فاعل في العملية التعليمية والتربوية لا غنى عنه, بل هو كما يقال: حجر الزاوية في عملية التعلم، وترجع أهميته للمميزات التالية: </a:t>
            </a:r>
            <a:br>
              <a:rPr sz="2400"/>
            </a:br>
            <a:r>
              <a:rPr b="0" lang="en-US" sz="2400" spc="-1" strike="noStrike">
                <a:solidFill>
                  <a:srgbClr val="000000"/>
                </a:solidFill>
                <a:latin typeface="Arial"/>
              </a:rPr>
              <a:t> -</a:t>
            </a:r>
            <a:r>
              <a:rPr b="0" lang="ar-SA" sz="2400" spc="-1" strike="noStrike">
                <a:solidFill>
                  <a:srgbClr val="000000"/>
                </a:solidFill>
                <a:latin typeface="Arial"/>
              </a:rPr>
              <a:t>يفسر الخطوط العريضة للمادة الدراسية, وطرائق تدريسها. </a:t>
            </a:r>
            <a:br>
              <a:rPr sz="2400"/>
            </a:br>
            <a:r>
              <a:rPr b="0" lang="en-US" sz="2400" spc="-1" strike="noStrike">
                <a:solidFill>
                  <a:srgbClr val="000000"/>
                </a:solidFill>
                <a:latin typeface="Arial"/>
              </a:rPr>
              <a:t> -</a:t>
            </a:r>
            <a:r>
              <a:rPr b="0" lang="ar-SA" sz="2400" spc="-1" strike="noStrike">
                <a:solidFill>
                  <a:srgbClr val="000000"/>
                </a:solidFill>
                <a:latin typeface="Arial"/>
              </a:rPr>
              <a:t>يقدم المعلومات والأفكار والمفاهيم الأساسية في مقرر معين. </a:t>
            </a:r>
            <a:br>
              <a:rPr sz="2400"/>
            </a:br>
            <a:r>
              <a:rPr b="0" lang="en-US" sz="2400" spc="-1" strike="noStrike">
                <a:solidFill>
                  <a:srgbClr val="000000"/>
                </a:solidFill>
                <a:latin typeface="Arial"/>
              </a:rPr>
              <a:t> -</a:t>
            </a:r>
            <a:r>
              <a:rPr b="0" lang="ar-SA" sz="2400" spc="-1" strike="noStrike">
                <a:solidFill>
                  <a:srgbClr val="000000"/>
                </a:solidFill>
                <a:latin typeface="Arial"/>
              </a:rPr>
              <a:t>يكسب التلاميذ الصفات الاجتماعية المرغوبة.</a:t>
            </a:r>
            <a:br>
              <a:rPr sz="2400"/>
            </a:br>
            <a:r>
              <a:rPr b="0" lang="en-US" sz="2400" spc="-1" strike="noStrike">
                <a:solidFill>
                  <a:srgbClr val="000000"/>
                </a:solidFill>
                <a:latin typeface="Arial"/>
              </a:rPr>
              <a:t> -</a:t>
            </a:r>
            <a:r>
              <a:rPr b="0" lang="ar-SA" sz="2400" spc="-1" strike="noStrike">
                <a:solidFill>
                  <a:srgbClr val="000000"/>
                </a:solidFill>
                <a:latin typeface="Arial"/>
              </a:rPr>
              <a:t>يُمَكِّنْ المعلمين من معرفة وسائل الإصلاح التربوي عند تغيير المناهج والإلمام بها, وتطوير طرائق تدريسها وتحسينها. </a:t>
            </a:r>
            <a:br>
              <a:rPr sz="2400"/>
            </a:br>
            <a:r>
              <a:rPr b="0" lang="en-US" sz="2400" spc="-1" strike="noStrike">
                <a:solidFill>
                  <a:srgbClr val="000000"/>
                </a:solidFill>
                <a:latin typeface="Arial"/>
              </a:rPr>
              <a:t> -</a:t>
            </a:r>
            <a:r>
              <a:rPr b="0" lang="ar-SA" sz="2400" spc="-1" strike="noStrike">
                <a:solidFill>
                  <a:srgbClr val="000000"/>
                </a:solidFill>
                <a:latin typeface="Arial"/>
              </a:rPr>
              <a:t>يحوي على الوسائل والأشكال, والصور التوضيحية ذات الفائدة في توضيح ما يقرأه </a:t>
            </a:r>
            <a:br>
              <a:rPr sz="2400"/>
            </a:br>
            <a:r>
              <a:rPr b="0" lang="en-US" sz="2400" spc="-1" strike="noStrike">
                <a:solidFill>
                  <a:srgbClr val="000000"/>
                </a:solidFill>
                <a:latin typeface="Arial"/>
              </a:rPr>
              <a:t> -</a:t>
            </a:r>
            <a:r>
              <a:rPr b="0" lang="ar-SA" sz="2400" spc="-1" strike="noStrike">
                <a:solidFill>
                  <a:srgbClr val="000000"/>
                </a:solidFill>
                <a:latin typeface="Arial"/>
              </a:rPr>
              <a:t>الكتاب المدرسي معلم ينمي في التلاميذ القيم, المهارات, الأخلاقيات, وجوانب الإصلاح المتعددة في صور مرتبة ومنظمة. </a:t>
            </a:r>
            <a:br>
              <a:rPr sz="2400"/>
            </a:br>
            <a:endParaRPr b="0" lang="en-US" sz="2400" spc="-1" strike="noStrike">
              <a:solidFill>
                <a:srgbClr val="ffff99"/>
              </a:solidFill>
              <a:latin typeface="Arial"/>
            </a:endParaRPr>
          </a:p>
        </p:txBody>
      </p:sp>
      <p:sp>
        <p:nvSpPr>
          <p:cNvPr id="374" name="PlaceHolder 2"/>
          <p:cNvSpPr>
            <a:spLocks noGrp="1"/>
          </p:cNvSpPr>
          <p:nvPr>
            <p:ph/>
          </p:nvPr>
        </p:nvSpPr>
        <p:spPr>
          <a:xfrm>
            <a:off x="457200" y="228600"/>
            <a:ext cx="8229600" cy="843120"/>
          </a:xfrm>
          <a:prstGeom prst="rect">
            <a:avLst/>
          </a:prstGeom>
          <a:solidFill>
            <a:srgbClr val="ffffff"/>
          </a:solidFill>
          <a:ln w="0">
            <a:noFill/>
          </a:ln>
        </p:spPr>
        <p:txBody>
          <a:bodyPr anchor="t">
            <a:normAutofit/>
          </a:bodyPr>
          <a:p>
            <a:pPr marL="343080" indent="0" algn="ctr"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200" spc="-1" strike="noStrike">
                <a:solidFill>
                  <a:srgbClr val="ff0000"/>
                </a:solidFill>
                <a:latin typeface="Verdana"/>
              </a:rPr>
              <a:t>الكتاب المدرسي</a:t>
            </a:r>
            <a:endParaRPr b="0" lang="en-US" sz="4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73"/>
                                        </p:tgtEl>
                                        <p:attrNameLst>
                                          <p:attrName>style.visibility</p:attrName>
                                        </p:attrNameLst>
                                      </p:cBhvr>
                                      <p:to>
                                        <p:strVal val="visible"/>
                                      </p:to>
                                    </p:set>
                                    <p:anim calcmode="lin" valueType="num">
                                      <p:cBhvr additive="base">
                                        <p:cTn id="7" dur="500" fill="hold"/>
                                        <p:tgtEl>
                                          <p:spTgt spid="373"/>
                                        </p:tgtEl>
                                        <p:attrNameLst>
                                          <p:attrName>ppt_x</p:attrName>
                                        </p:attrNameLst>
                                      </p:cBhvr>
                                      <p:tavLst>
                                        <p:tav tm="0">
                                          <p:val>
                                            <p:strVal val="#ppt_x"/>
                                          </p:val>
                                        </p:tav>
                                        <p:tav tm="100000">
                                          <p:val>
                                            <p:strVal val="#ppt_x"/>
                                          </p:val>
                                        </p:tav>
                                      </p:tavLst>
                                    </p:anim>
                                    <p:anim calcmode="lin" valueType="num">
                                      <p:cBhvr additive="base">
                                        <p:cTn id="8"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6" name="Text Box 27"/>
          <p:cNvSpPr/>
          <p:nvPr/>
        </p:nvSpPr>
        <p:spPr>
          <a:xfrm>
            <a:off x="142920" y="0"/>
            <a:ext cx="8858160" cy="8382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Verdana"/>
              </a:rPr>
              <a:t> </a:t>
            </a:r>
            <a:r>
              <a:rPr b="0" lang="ar-SA" sz="2400" spc="-1" strike="noStrike">
                <a:solidFill>
                  <a:srgbClr val="000000"/>
                </a:solidFill>
                <a:latin typeface="Verdana"/>
              </a:rPr>
              <a:t> </a:t>
            </a:r>
            <a:r>
              <a:rPr b="1" lang="ar-IQ" sz="2800" spc="-1" strike="noStrike">
                <a:solidFill>
                  <a:srgbClr val="ffff9e"/>
                </a:solidFill>
                <a:latin typeface="Verdana"/>
              </a:rPr>
              <a:t>خصائص أو معايير الكتاب الجيد</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كي يحقق الكتاب المدرسي أغراضه العلمية والتربوية على أفضل وجه ممكن ينبغي أن تتوافر فيه مجموعة من الشروط التي يمكن حصرها في مجالات أربعة يمكن حصرها فيما يلي: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9e"/>
                </a:solidFill>
                <a:latin typeface="Verdana"/>
              </a:rPr>
              <a:t>أ- كفاءة المؤلف وسمعته: </a:t>
            </a:r>
            <a:r>
              <a:rPr b="0" lang="ar-SA" sz="2800" spc="-1" strike="noStrike">
                <a:solidFill>
                  <a:srgbClr val="000000"/>
                </a:solidFill>
                <a:latin typeface="Verdana"/>
              </a:rPr>
              <a:t>أن يكون مؤلف الكتاب المدرسي معروفاً بكفاءته العلمية والتربوية وله من الخبرة والتجربة العلمية في ميدان التعليم بعامة, وخبرة تدريس المادة بخاصة، وأن يتصف بالدقة والحيادية، والأمانة العلمية، وأن يكون المؤلف على وعي تام بواقع المجتمع, وظروفه, واتجاهاته الثقافية , وأعرافه, وتقاليده, وأن يكون قادراً على تحديد تلك الظروف والاتجاهات بصدق وأمانة، أن يوجه المؤلف عنايته إلى مقدمة الكتاب وفهرسه؛ لأن ذلك يعطي التلميذ فكرة عامة عن أهداف الكتاب ومادته التعليمية والموضوعات المضمنة فيه, على أن تعرض هذه المقدمة بأسلوب كتابي جذاب ومناسب لمستوى التلاميذ أي أن التلميذ حين يقرؤها ويقرأ الكتاب يشعر بأن المؤلف يخاطبه شخصياً في حديث فردي وبأسلوب ممتع يحمله إلى مواصلة قراءة الكتاب حتى النهاية.</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8" name="Text Box 27"/>
          <p:cNvSpPr/>
          <p:nvPr/>
        </p:nvSpPr>
        <p:spPr>
          <a:xfrm>
            <a:off x="714240" y="142920"/>
            <a:ext cx="778680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9e"/>
                </a:solidFill>
                <a:latin typeface="Verdana"/>
              </a:rPr>
              <a:t>ب- مادة الكتاب ومحتوياته:</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e"/>
                </a:solidFill>
                <a:latin typeface="Verdana"/>
              </a:rPr>
              <a:t> </a:t>
            </a:r>
            <a:r>
              <a:rPr b="0" lang="ar-SA" sz="2800" spc="-1" strike="noStrike">
                <a:solidFill>
                  <a:srgbClr val="000000"/>
                </a:solidFill>
                <a:latin typeface="Verdana"/>
              </a:rPr>
              <a:t>أن تكون هناك علاقة واضحة بين مادة الكتاب وتنظيمه, وبين مفردات المنهاج الدراسي وأهدافه, وأن تتصف تلك المادة بالحداثة والعمق والشمول, وأن يكون ما يحتويه الكتاب من معلومات وحقائق ومفاهيم ومصطلحات ملائمة لمستويات التلاميذ العقلية, والثقافية, والاجتماعية, واللغوية، أن تراعي المعلومات والحقائق العلمية والخبرات والمهارات والأسئلة والتمرينات الموجودة في الكتاب حاجات التلاميذ وميولهم, أن تكون وسائل الإيضاح على اختلاف أنواعها كالصور, والرسوم, والخرائط, والنماذج, والمخططات كثيرة ومتنوعة وحديثة، أن تتصل محتويات الكتاب بالكتب السابقة واللاحقة من نفس المادة لئلا يهمل التلميذ ما تعلمه من معلومات وخبرات في سنوات أو مرحلة دراسية سابقة.</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0" name="Text Box 27"/>
          <p:cNvSpPr/>
          <p:nvPr/>
        </p:nvSpPr>
        <p:spPr>
          <a:xfrm>
            <a:off x="642960" y="345960"/>
            <a:ext cx="7858080" cy="6918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9e"/>
                </a:solidFill>
                <a:latin typeface="Verdana"/>
              </a:rPr>
              <a:t> </a:t>
            </a:r>
            <a:r>
              <a:rPr b="1" lang="ar-SA" sz="3200" spc="-1" strike="noStrike">
                <a:solidFill>
                  <a:srgbClr val="ffff9e"/>
                </a:solidFill>
                <a:latin typeface="Verdana"/>
              </a:rPr>
              <a:t>ج- لغة الكتاب وأسلوب العرض والتنظيم فيه:</a:t>
            </a:r>
            <a:endParaRPr b="0" lang="en-US" sz="32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9e"/>
                </a:solidFill>
                <a:latin typeface="Verdana"/>
              </a:rPr>
              <a:t> </a:t>
            </a:r>
            <a:r>
              <a:rPr b="0" lang="ar-SA" sz="3200" spc="-1" strike="noStrike">
                <a:solidFill>
                  <a:srgbClr val="000000"/>
                </a:solidFill>
                <a:latin typeface="Verdana"/>
              </a:rPr>
              <a:t>أن يكون الكتاب في جملته سهل الأسلوب في لغته, مشوق العرض في موضوعاته, متدرج الصعوبة في معلوماته, ملائماً لمستوى التلميذ اللغوي في تعبيره, متنوع الغرض والاتجاه في موضوعاته، أن تكون موضوعاته منظمة مناسبة من الناحية السيكولوجية والتربوية وأن تكون لغة الشرح والتوضيح فيه ملائمة لمستوى التلاميذ من حيث السهولة والدقة والوضوح، وأن يعنى الكتاب في لغته وأسلوبه بتبسيط المفاهيم والمصطلحات العلمية.</a:t>
            </a:r>
            <a:endParaRPr b="0" lang="en-US" sz="32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endParaRPr b="0" lang="en-US" sz="32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2" name="Text Box 27"/>
          <p:cNvSpPr/>
          <p:nvPr/>
        </p:nvSpPr>
        <p:spPr>
          <a:xfrm>
            <a:off x="500040" y="457200"/>
            <a:ext cx="8072640" cy="588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e"/>
                </a:solidFill>
                <a:latin typeface="Verdana"/>
              </a:rPr>
              <a:t>د- الشكل العام للكتاب وإخراجه الطباعي: </a:t>
            </a:r>
            <a:endParaRPr b="0" lang="en-US" sz="32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أن يكون الكتاب في شكله العام أنيق المظهر, جذاب الشكل, ملائم الحجم, جيد الورق, خفيف الوزن, متقن وواضح الأحرف, متناسق المسافات بين الأسطر والكلمات, خالٍ من الأخطاء اللغوية والمطبعية , واضح الصور والرسوم والخرائط , والبيانات في الصفحات, جميل الغلاف, متين التجليد, موفقاً في اختيار اسمه وعنوانه الرئيس وعناوينه الفرعية؛ ليكون شائقاً للتلاميذ ومغرياً للقراءة وللاعتماد عليه في المذاكر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b7"/>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314080" y="2205000"/>
            <a:ext cx="5472360" cy="14320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000000"/>
                </a:solidFill>
                <a:latin typeface="Arial Black"/>
                <a:cs typeface="Andalus"/>
              </a:rPr>
              <a:t>شكرا لحسن إصغائكم</a:t>
            </a:r>
            <a:endParaRPr b="1" lang="en-US" sz="6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1:43:54Z</dcterms:created>
  <dc:creator>GsM</dc:creator>
  <dc:description/>
  <dc:language>en-US</dc:language>
  <cp:lastModifiedBy>DR.Ahmed Saker 2o1O</cp:lastModifiedBy>
  <dcterms:modified xsi:type="dcterms:W3CDTF">2019-05-06T19:13:27Z</dcterms:modified>
  <cp:revision>53</cp:revision>
  <dc:subject/>
  <dc:title>وزارة التعليم العالي والبحث العلمي جامعة بغداد بالتعاون مع منظمة</dc:title>
</cp:coreProperties>
</file>