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AB43-168C-4DC0-AF06-15BCD1C2C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696B-D0FC-4E48-AA55-F1BDBABE2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B232-6205-487F-A4DB-BD4341D71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F148-63AB-4EAF-BE3F-5992CD8B4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38569-4327-465C-9B40-8AE7CA49C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2985C-AF8B-46BD-90A3-2428A7A1F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1AAD4-D68E-4370-A355-B4306FFFA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F0DA0-03F5-4D60-83F0-9E51E20F9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9FC04-28C3-4DCB-B705-22AF8336B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4B263-6F72-43E5-A754-369D81913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2A39C-0BDA-46BF-884E-8F25CAC6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32DF-5DF4-4D82-B748-F8BD959F7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2FD1B-4FF0-4D53-ADC9-521C64AB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2AA7B-154C-4EFD-ABF2-DE8F6B3A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B7806-0A07-4EE7-96E4-57E852C2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6CEB0-ABFF-4B83-B564-68B1B4FE5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93735-46E3-4424-A79B-8411E0D6D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1393D-CE42-41B5-9232-332EC63FC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6B265-B33C-404C-9135-66E7749FE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7A30E-188F-49D0-963D-EAA7D2F13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67DE1-D321-4321-8118-A6CFE5D85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CD3D8-4769-4BA5-95BB-B1FC545D2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1D76-9EA1-4618-BA0A-E8E8A2513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C4CC1-C3D0-4FB8-8E7E-5135047AD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A77A3-7505-4D78-9C9C-4C6BBD6C8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3D7E6-2EB3-453B-9EF1-63280055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0BD89-6403-4755-AAD0-6DB885FE2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81D2B-A22C-442F-B2DF-11A7DF509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91AC1-467D-4DEA-8DF0-C5CD07F62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4B9EC-ED11-477B-A792-BB6E5D7F8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4B757-DE31-4985-98D3-4363FEDD0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AAF24-5601-4B8A-9BF4-A8490A578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B670D-F338-40E9-9192-86223A93C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E0CB-469F-476E-BCC9-1F7467D96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02DD2-22BF-459E-8EEA-29109BC65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D53D0-3574-4DC5-BA7B-88C5349DB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2B8A6-120C-4AB2-84AA-69A6B200E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2FF8C-3428-4AE8-8D7E-0CF662D7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80D71-7425-4E65-B900-1B3D093C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34C82-37F6-498C-A7EA-3CB7AAB5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9DAA4-A232-44D5-A06B-96473DBB7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3E0BD-5859-43B5-986B-4E51E84FA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003DC-3C2D-4188-9175-F939B6243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79E80-8810-471C-AE07-81F132E65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E770-BF5B-4894-A480-3CC0FA903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A4D18-DCE1-4904-9BA3-3E7B8727C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5CF03-07B2-4409-A09B-0E30EC551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17078-4028-418F-B157-CF7C2CA05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8F251-9BA7-40FA-BEE7-1C5CA27EA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C2DCF-F7FE-453E-B479-CFDBA02E7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F9B25-48B3-4C3F-ABD8-0068A484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A2169-BDA3-409C-A23F-899B8865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01DCC-A676-434D-8665-450CE1B0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9DE45-B97E-48E4-8175-32244FB43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2BD55-3CDA-4D82-9266-D84C966EF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7BA6-FEBE-47EC-BA36-4DA558067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074CD-9FFC-41DF-8EF8-091372F56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27C21-4A66-4D90-A9C4-93E2BD4FE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58F21-4E6C-4539-B5DE-B73634019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DCB93B-3097-4244-A2A0-2376FD4FE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8E358-DEF0-4D25-ACD4-AF5E504C9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46C9FF-3E35-4B77-8602-B324806D9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9B485-2F7B-4A7B-A7E1-62556DFBC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74E118-CDAE-46CB-A507-E19945A4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C65F35-A9A8-4D60-941B-A9B34647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0427C-4AD1-499A-8E02-F480EF3B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C261-58DB-43A8-B645-7DD50283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977F3-E5B1-4797-9B62-D3939C6FF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99D07-2183-4ED5-8900-575E7F64F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C12FA6-EA17-4B14-9130-539A5B4B2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5835-B0E8-4072-85F2-C06EFE2D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E8D8-70A8-4478-BB70-F21AEE9E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1627C-D31B-47F2-89BE-86AAE3335F0A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8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1E590-5051-4B12-93C8-6A105AC56E8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38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9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0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1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2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3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4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5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58042-0DF8-4F32-99A8-1626E6AC0EF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88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9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0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1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2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3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4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5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6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7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8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9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00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01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2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3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4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5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6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7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8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9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0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1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2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3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4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5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6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7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8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9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0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1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2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3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4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5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E8103-780F-48CF-B0CB-1B6DDC0BE4BB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6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79909-DDAD-4500-91FD-04F7C33544D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325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6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7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8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9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0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543B-4FE8-4213-9D25-69242C62325B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357120" y="785880"/>
            <a:ext cx="842976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161616"/>
                </a:solidFill>
                <a:latin typeface="Verdana"/>
              </a:rPr>
              <a:t>جامعة بغداد/ كلية التربية للبنات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161616"/>
                </a:solidFill>
                <a:latin typeface="Verdana"/>
              </a:rPr>
              <a:t>قسم اللغة العربي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800" spc="-1" strike="noStrike">
                <a:solidFill>
                  <a:srgbClr val="161616"/>
                </a:solidFill>
                <a:latin typeface="Verdana"/>
              </a:rPr>
              <a:t>محاضرات في مناهج وطرائق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800" spc="-1" strike="noStrike">
                <a:solidFill>
                  <a:srgbClr val="161616"/>
                </a:solidFill>
                <a:latin typeface="Verdana"/>
              </a:rPr>
              <a:t> تدريس اللغة العربية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ffff66"/>
                </a:solidFill>
                <a:latin typeface="Verdana"/>
              </a:rPr>
              <a:t>إعدا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ffff66"/>
                </a:solidFill>
                <a:latin typeface="Verdana"/>
              </a:rPr>
              <a:t>أ.م.د عدي راشد محمد القلمجي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928960" y="1856880"/>
            <a:ext cx="6143760" cy="342900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هو عملية تحضير ذهني وكتابي يضعه المعلم قبل الدرس بفترة كافية ويشتمل على عناصر مختلفة لتحقيق أهداف محددة.</a:t>
            </a:r>
            <a:br>
              <a:rPr sz="3600"/>
            </a:br>
            <a:br>
              <a:rPr sz="3200"/>
            </a:b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8229600" cy="84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000" spc="-1" strike="noStrike">
                <a:solidFill>
                  <a:srgbClr val="ff0000"/>
                </a:solidFill>
                <a:latin typeface="Verdana"/>
              </a:rPr>
              <a:t>تخطيط التدريس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4"/>
          <p:cNvSpPr/>
          <p:nvPr/>
        </p:nvSpPr>
        <p:spPr>
          <a:xfrm>
            <a:off x="6567480" y="2363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Text Box 27"/>
          <p:cNvSpPr/>
          <p:nvPr/>
        </p:nvSpPr>
        <p:spPr>
          <a:xfrm>
            <a:off x="142920" y="428760"/>
            <a:ext cx="8858160" cy="78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9e"/>
                </a:solidFill>
                <a:latin typeface="Verdana"/>
              </a:rPr>
              <a:t> </a:t>
            </a:r>
            <a:r>
              <a:rPr b="1" lang="ar-SA" sz="2800" spc="-1" strike="noStrike">
                <a:solidFill>
                  <a:srgbClr val="ffff9e"/>
                </a:solidFill>
                <a:latin typeface="Verdana"/>
              </a:rPr>
              <a:t>أهمية تخطيط الدرس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- يجعل عملية التدريس متقنة الأدوار وفق خطوات محددة ومنظمة ومترابطة الأجزاء وخالية من الارتجالية والعشوائية محققة للأهداف الجزئية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- يجنب المعلم الكثير من المواقف الطارئة المحرجة مما يكسبه احتراماً لدى المتعلمين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- يساعد على رسم وتحديد أفضل الإجراءات المناسبة لتنفيذ </a:t>
            </a:r>
            <a:r>
              <a:rPr b="0" lang="ar-IQ" sz="2400" spc="-1" strike="noStrike">
                <a:solidFill>
                  <a:srgbClr val="000000"/>
                </a:solidFill>
                <a:latin typeface="Verdana"/>
              </a:rPr>
              <a:t>الدروس </a:t>
            </a: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وتقويمها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- يُعين على الاستفادة من زمن الدرس بالصورة الأمثل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ar-IQ" sz="2400" spc="-1" strike="noStrike">
                <a:solidFill>
                  <a:srgbClr val="000000"/>
                </a:solidFill>
                <a:latin typeface="Verdana"/>
              </a:rPr>
              <a:t>التخطيط </a:t>
            </a: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يبعد عن المدرس التخبط وعدم اكتشاف طرائق جديدة والبقاء على أساليب محددة مما يسبب لهم الملل من التدريس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- يسه</a:t>
            </a:r>
            <a:r>
              <a:rPr b="0" lang="ar-IQ" sz="2400" spc="-1" strike="noStrike">
                <a:solidFill>
                  <a:srgbClr val="000000"/>
                </a:solidFill>
                <a:latin typeface="Verdana"/>
              </a:rPr>
              <a:t>م التخطيط </a:t>
            </a: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في التعرف على مفردات المقررات الدراسية وتحديد جوانب القوة والضعف فيها وتقديم المقترحات لتحسينها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- يُعين المعلم على التعرف على الأهداف العامة والخاصة وكيفية تحقيقها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- يساعد المعلم على اختيار الوسيلة التعليمية المناسبة وإعدادها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- يعزز الثقة في نفس المعلم وخاصة المبتدئ مما يشعره بالاطمئنان وعدم الاضطراب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- يعتقد الكثير من المعلمين بعدم أهمية </a:t>
            </a:r>
            <a:r>
              <a:rPr b="0" lang="ar-IQ" sz="2400" spc="-1" strike="noStrike">
                <a:solidFill>
                  <a:srgbClr val="000000"/>
                </a:solidFill>
                <a:latin typeface="Verdana"/>
              </a:rPr>
              <a:t>تخطيط </a:t>
            </a: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للدروس وهذا الاعتقاد الخاطئ ينبع من ثقتهم الزائدة بقدراتهم أو تكاسلهم والحقيقة أن عد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ar-IQ" sz="2400" spc="-1" strike="noStrike">
                <a:solidFill>
                  <a:srgbClr val="000000"/>
                </a:solidFill>
                <a:latin typeface="Verdana"/>
              </a:rPr>
              <a:t> التخطيط </a:t>
            </a: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هو أحد أسباب ضعف التعلم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e"/>
                </a:solidFill>
                <a:latin typeface="Arial"/>
              </a:rPr>
              <a:t>أنواع تخطيط الدرس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8" name="Text Box 4"/>
          <p:cNvSpPr/>
          <p:nvPr/>
        </p:nvSpPr>
        <p:spPr>
          <a:xfrm>
            <a:off x="6567480" y="2363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Text Box 27"/>
          <p:cNvSpPr/>
          <p:nvPr/>
        </p:nvSpPr>
        <p:spPr>
          <a:xfrm>
            <a:off x="285840" y="1143000"/>
            <a:ext cx="857232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بعيد المدى: وهو التخطيط الذي يتم الإعداد له من قبل المعلم ويشمل عام دراسي وعادة يكون في بداية دفتر التحضير ويتضمن الآتي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أ- بيانات عن المعلم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ب- جدول الحصص الخاص بالمعلم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ت- الأهداف الخاصة بالمقرر الدراسي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ث- توزيع المقرر على أشهر وأسابيع السنة لكل فصل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ج- الوسائل التعليمية والمواد والأجهزة اللازمة لخدمة موضوعات المقرر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ح- المراجع التي تساعد المعلم على التدريس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التخطيط قصير المدى: وهو التخطيط الذي يتم الإعداد له من قبل المعلم ويشمل تحضير الدرس اليومي ويتضمن الآتي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أ- البيانات التنظيمية: اليوم والتاريخ والحصة (الدرس) وموضوع الدرس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ب- أهداف الدرس والوسائل التعليمية وإستراتيجيات التدريس والتمهيد وعرض سير الدرس والتقويم المصاحب (التشخيصى) والتغذية الراجعة والواجب المنزلي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4"/>
          <p:cNvSpPr/>
          <p:nvPr/>
        </p:nvSpPr>
        <p:spPr>
          <a:xfrm>
            <a:off x="6567480" y="2363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Text Box 27"/>
          <p:cNvSpPr/>
          <p:nvPr/>
        </p:nvSpPr>
        <p:spPr>
          <a:xfrm>
            <a:off x="500040" y="142920"/>
            <a:ext cx="80726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9e"/>
                </a:solidFill>
                <a:latin typeface="Verdana"/>
              </a:rPr>
              <a:t> </a:t>
            </a:r>
            <a:r>
              <a:rPr b="1" lang="ar-SA" sz="3200" spc="-1" strike="noStrike">
                <a:solidFill>
                  <a:srgbClr val="ffff9e"/>
                </a:solidFill>
                <a:latin typeface="Verdana"/>
              </a:rPr>
              <a:t>العناصر الرئيسة لخطة الدرس اليومية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Verdana"/>
              </a:rPr>
              <a:t>- موضوع الدرس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Verdana"/>
              </a:rPr>
              <a:t>- أهداف الدرس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Verdana"/>
              </a:rPr>
              <a:t>- المدخل للدرس (</a:t>
            </a:r>
            <a:r>
              <a:rPr b="0" lang="ar-IQ" sz="3200" spc="-1" strike="noStrike">
                <a:solidFill>
                  <a:srgbClr val="000000"/>
                </a:solidFill>
                <a:latin typeface="Verdana"/>
              </a:rPr>
              <a:t>مهارة التهيئة</a:t>
            </a:r>
            <a:r>
              <a:rPr b="0" lang="ar-SA" sz="32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Verdana"/>
              </a:rPr>
              <a:t>- محتوى الدرس ( ما سيدرسه المعلم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ar-SA" sz="3200" spc="-1" strike="noStrike">
                <a:solidFill>
                  <a:srgbClr val="000000"/>
                </a:solidFill>
                <a:latin typeface="Verdana"/>
              </a:rPr>
              <a:t>- النشاطات (أساليب المعلم في التدريس، ونشاطات الطالب للتعلم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ar-SA" sz="3200" spc="-1" strike="noStrike">
                <a:solidFill>
                  <a:srgbClr val="000000"/>
                </a:solidFill>
                <a:latin typeface="Verdana"/>
              </a:rPr>
              <a:t>-  الوسائل والأدوات التعليمي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0" lang="ar-SA" sz="3200" spc="-1" strike="noStrike">
                <a:solidFill>
                  <a:srgbClr val="000000"/>
                </a:solidFill>
                <a:latin typeface="Verdana"/>
              </a:rPr>
              <a:t>- التقويم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lang="ar-SA" sz="3200" spc="-1" strike="noStrike">
                <a:solidFill>
                  <a:srgbClr val="000000"/>
                </a:solidFill>
                <a:latin typeface="Verdana"/>
              </a:rPr>
              <a:t>- الواجب المنزلي كجزء من التقويم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4"/>
          <p:cNvSpPr/>
          <p:nvPr/>
        </p:nvSpPr>
        <p:spPr>
          <a:xfrm>
            <a:off x="6567480" y="2363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Text Box 27"/>
          <p:cNvSpPr/>
          <p:nvPr/>
        </p:nvSpPr>
        <p:spPr>
          <a:xfrm>
            <a:off x="500040" y="142920"/>
            <a:ext cx="807264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9e"/>
                </a:solidFill>
                <a:latin typeface="Verdana"/>
              </a:rPr>
              <a:t>أنواع التقويم في خطة تدريس (الوحدة الدراسية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ـ التقويم القبلي : ويهدف منه التأكد من الخلفية العلمية للتلميذ قبل الشروع في تدريس الوحدة الدراسية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ـ التقويم التكويني أو البنائي: ويستخدم أثناء العملية التعليمية ، وخلال تدريس الوحدة الدراسية، وهدفه تزويد المعلم والمتعلم بالتغذية الراجعة لتحسين التعليم والمتعلم ومعرفة مدى تقدم التلاميذ ، ومن أنواعه التمارين الصفية والواجبات المنزلية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ـ التقويم الختامي: ويهدف إلى تشخيص صعوبات التعلم وتحديد جوانب القوة والضعف في مستوى التحصيل الدراسي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28760" y="1213920"/>
            <a:ext cx="8215200" cy="17859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 anchorCtr="1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أول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معلومات العامة عن الدرس</a:t>
            </a:r>
            <a:r>
              <a:rPr b="1" lang="ar-IQ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يوم: الأربعاء      التاريخ: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2018</a:t>
            </a:r>
            <a:r>
              <a:rPr b="1" lang="ar-IQ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درس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ثاني   المادة : قواعد اللغة العربية</a:t>
            </a:r>
            <a:br>
              <a:rPr sz="1800"/>
            </a:b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ثانياً : عنوان الدرس : الأفعال الخمس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.</a:t>
            </a:r>
            <a:br>
              <a:rPr sz="1800"/>
            </a:br>
            <a:br>
              <a:rPr sz="1800"/>
            </a:br>
            <a:r>
              <a:rPr b="1" lang="ar-IQ" sz="1800" spc="-1" strike="noStrike">
                <a:solidFill>
                  <a:srgbClr val="000000"/>
                </a:solidFill>
                <a:latin typeface="Arial"/>
              </a:rPr>
              <a:t>الهدف العام: تمكين الطلبة من استعمال الأفعال الخمسة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8229600" cy="8431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000" spc="-1" strike="noStrike">
                <a:solidFill>
                  <a:srgbClr val="ff0000"/>
                </a:solidFill>
                <a:latin typeface="Verdana"/>
              </a:rPr>
              <a:t>أنموذج خطة درس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142920" y="3236760"/>
          <a:ext cx="8858160" cy="2743200"/>
        </p:xfrm>
        <a:graphic>
          <a:graphicData uri="http://schemas.openxmlformats.org/drawingml/2006/table">
            <a:tbl>
              <a:tblPr/>
              <a:tblGrid>
                <a:gridCol w="1771560"/>
                <a:gridCol w="1238400"/>
                <a:gridCol w="2305080"/>
                <a:gridCol w="1390680"/>
                <a:gridCol w="21524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لملاحظات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لتقوي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عرض الدر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لأنشطة والوسائل التعليمي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لأهداف السلوكي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buClr>
                          <a:srgbClr val="000000"/>
                        </a:buClr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IQ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لبنائي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 rtl="1">
                        <a:buClr>
                          <a:srgbClr val="000000"/>
                        </a:buClr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IQ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الختامي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IQ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لسبورة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IQ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لقلام الملون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أن يناقش الطالب الحالات المختلفة للأفعال الخمسة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IQ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حل التمارين واجب بيتي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IQ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لداتاشو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IQ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قطع الكارتون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أن يذكر الطالب جملاً تتضمن الأفعال الخمسة بصورة صحيح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314080" y="2205000"/>
            <a:ext cx="547236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000" spc="-1" strike="noStrike">
                <a:solidFill>
                  <a:srgbClr val="000000"/>
                </a:solidFill>
                <a:latin typeface="Arial Black"/>
                <a:cs typeface="Andalus"/>
              </a:rPr>
              <a:t>شكرا لحسن إصغائكم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7T11:43:54Z</dcterms:created>
  <dc:creator>GsM</dc:creator>
  <dc:description/>
  <dc:language>en-US</dc:language>
  <cp:lastModifiedBy>DR.Ahmed Saker 2o1O</cp:lastModifiedBy>
  <dcterms:modified xsi:type="dcterms:W3CDTF">2019-05-06T20:12:05Z</dcterms:modified>
  <cp:revision>57</cp:revision>
  <dc:subject/>
  <dc:title>وزارة التعليم العالي والبحث العلمي جامعة بغداد بالتعاون مع منظمة</dc:title>
</cp:coreProperties>
</file>