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C7234-ECAA-45B8-B2F9-907BDD744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D14AD-6818-4FEA-8C71-EFD122084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C74FB-6511-49A8-B0BB-09AEE3392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9B35B-6582-400F-A40D-96460F70C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867AD2-F932-4212-8999-076C901E27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D6C68-6F0A-48FF-9A95-F07A01940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01036-B72D-4232-951D-092212713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81435-8D62-40FF-81A9-ADC02BC31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1607B-6A90-40BA-A179-B66CBE2C0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5F361-46B4-4E04-89AC-0292076E9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D74FA-5967-440E-865D-3EA96F983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F2183-8523-48A4-9EF9-3C1122778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946B9-6094-498D-8102-7C3DA20F2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7860C-FEF6-4492-81AC-CF1A61BAC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F237C-9FA6-42DC-8081-6840094C0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FE34C4-58C6-455C-A5AC-F1498128F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E6A8CD-C33A-499E-B070-8736B6D572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6C4556-191D-47B7-8A32-4FF05E13CF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877106-322D-4A51-A1E8-2835DAAAC9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0A7580-4EE0-460C-AC27-5D7C4C79CF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D1C13A-657F-4E7E-BC1B-C45A8249EF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05208E-7C96-41C0-834F-B7F510C7A0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D29C5-38E8-446D-AE5A-1B252B56A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DF898C-10BA-41E3-998C-20758D3608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C0417C-5DA2-434F-A637-D1EB76C925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C96C74-7708-4367-92BE-1CFB2CD30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DE4FE8-1488-4A12-822C-E6DC7F98D9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2D1B7D-E931-4A22-8E29-FE4ACC43FC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B25861-7EE8-4F3A-BF5A-3CC69F534E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CBCBEC-9B15-4A78-BAF7-DEC6406C06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52E8FF-C870-4C39-8C65-B7BD843125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DB741E-F7E4-47AB-8C3A-151964052A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67179C-879E-49EE-8941-82CFFBB257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FFB7C-7ED3-49B7-B790-807CD7D79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164D35-1C51-4662-BAB3-CE27939B49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73E99B-854A-4302-929B-E32B19C7DE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05ADF0-A51F-4CBE-962A-B098A70B0F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F84A1C-ECDE-4353-8833-EDA1252460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5F62E8-C2FE-45A9-8AD0-C7B1BB371D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58D3F1-771A-4B2F-9768-02760405D5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CCF070-127A-4460-9A33-EC38818556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D110A0-640A-498C-ACBB-F681307516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B0CFD7-2777-4F90-B8B8-FFA2D582D8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ACE9D7-5C71-4828-A710-738BFDEF1C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01FED-65C0-41ED-980C-4F255353D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F09DF9-B44F-48B7-B2F7-864660A1C3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21B66B-69BE-4566-9D4E-A1C55354B8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5A660D-0ECD-44AD-9282-F6EF022F62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691378-4E31-49C9-921D-AA4E815933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FF2B5C-D99C-42FE-A7DB-1172102986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470A4C-0EB2-4622-A30A-1B4CD94C8D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FFB923-2B31-4788-9793-1B81571F52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C47832-A14B-4E06-84AD-4620660F48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6A5385-DE82-48CE-8A55-E032AE17E5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78780F-AC63-4434-BDC2-67D0934A27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2C013-AFBB-40EE-95CF-38BF944E2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15A4F8-3479-45AA-85DA-66D54759C7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C6601E-E570-43F6-8943-08A5C33E56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525429-86DD-410C-8931-F1C6584F40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44C9B4-0580-4FCD-820F-7CBA02AD6E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1F33C2-9B57-45DD-9274-03F7A0B9D8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054AF3-BC34-43F5-A2BE-CFE2D289E2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FA40E2-FD07-4A51-BD42-5667FEBB97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FCD4C8-472B-45FD-B08D-F190BB10C6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71DFE6-00A8-4D83-A024-DF6FE8CB46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D6B3F9-4BF1-4E91-8795-D689BD7342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630CC-234C-453C-9A33-577891806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58AFEB-E4B3-4C9F-9663-859650BAB6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6CB92B-B113-4C46-B0CE-53F9D1746D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B12156-F10C-4260-87DE-6F481E3CFD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70F8E-2099-44F4-A136-5FFCABB8E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9BA02-8F0B-4FAE-836B-C824D1FC1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DF7D1-89A5-42D6-BF0D-1CA4CC486A3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80" name="Group 2"/>
          <p:cNvGrpSpPr/>
          <p:nvPr/>
        </p:nvGrpSpPr>
        <p:grpSpPr>
          <a:xfrm>
            <a:off x="4716360" y="5345280"/>
            <a:ext cx="4427640" cy="1512720"/>
            <a:chOff x="4716360" y="5345280"/>
            <a:chExt cx="4427640" cy="1512720"/>
          </a:xfrm>
        </p:grpSpPr>
        <p:sp>
          <p:nvSpPr>
            <p:cNvPr id="8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9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EAA9D-4E57-4D3F-8A10-97EFCC8C57C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7" name="Group 2"/>
          <p:cNvGrpSpPr/>
          <p:nvPr/>
        </p:nvGrpSpPr>
        <p:grpSpPr>
          <a:xfrm>
            <a:off x="318960" y="1828800"/>
            <a:ext cx="8825040" cy="5029200"/>
            <a:chOff x="318960" y="1828800"/>
            <a:chExt cx="8825040" cy="5029200"/>
          </a:xfrm>
        </p:grpSpPr>
        <p:sp>
          <p:nvSpPr>
            <p:cNvPr id="138"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9"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0"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1"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2"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3"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4"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5"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46"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7"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8"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0C128-2BAB-4BEA-8249-BD5F562570B9}"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50"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87" name="Group 2"/>
          <p:cNvGrpSpPr/>
          <p:nvPr/>
        </p:nvGrpSpPr>
        <p:grpSpPr>
          <a:xfrm>
            <a:off x="0" y="0"/>
            <a:ext cx="9140760" cy="6851520"/>
            <a:chOff x="0" y="0"/>
            <a:chExt cx="9140760" cy="6851520"/>
          </a:xfrm>
        </p:grpSpPr>
        <p:sp>
          <p:nvSpPr>
            <p:cNvPr id="188"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9"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0"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1"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2"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3"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4"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5"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6"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7"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200" name="Group 15"/>
            <p:cNvGrpSpPr/>
            <p:nvPr/>
          </p:nvGrpSpPr>
          <p:grpSpPr>
            <a:xfrm>
              <a:off x="304920" y="3625920"/>
              <a:ext cx="1990440" cy="1465200"/>
              <a:chOff x="304920" y="3625920"/>
              <a:chExt cx="1990440" cy="1465200"/>
            </a:xfrm>
          </p:grpSpPr>
          <p:sp>
            <p:nvSpPr>
              <p:cNvPr id="201"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2"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4"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5"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6"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7"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8"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9"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0"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1"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2"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3"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4"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5"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6"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7"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8"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9"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0"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1"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3"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4"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5"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2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143C5-3254-4B70-8576-13A4A8CFE32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267" name="Group 2"/>
          <p:cNvGrpSpPr/>
          <p:nvPr/>
        </p:nvGrpSpPr>
        <p:grpSpPr>
          <a:xfrm>
            <a:off x="4716360" y="5345280"/>
            <a:ext cx="4427640" cy="1512720"/>
            <a:chOff x="4716360" y="5345280"/>
            <a:chExt cx="4427640" cy="1512720"/>
          </a:xfrm>
        </p:grpSpPr>
        <p:sp>
          <p:nvSpPr>
            <p:cNvPr id="26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8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0F84-0308-453D-8224-C9B38B7CD55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24" name="Group 2"/>
          <p:cNvGrpSpPr/>
          <p:nvPr/>
        </p:nvGrpSpPr>
        <p:grpSpPr>
          <a:xfrm>
            <a:off x="318960" y="1752480"/>
            <a:ext cx="8825040" cy="5129280"/>
            <a:chOff x="318960" y="1752480"/>
            <a:chExt cx="8825040" cy="5129280"/>
          </a:xfrm>
        </p:grpSpPr>
        <p:sp>
          <p:nvSpPr>
            <p:cNvPr id="325"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6"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7"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8"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9"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0"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3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32"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3" name="PlaceHolder 3"/>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4" name="PlaceHolder 4"/>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5" name="PlaceHolder 5"/>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FF8A-B3D4-4F97-8E5D-AA1E1999EBFF}" type="slidenum">
              <a:rPr b="0" lang="ar-SA"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ubTitle"/>
          </p:nvPr>
        </p:nvSpPr>
        <p:spPr>
          <a:xfrm>
            <a:off x="357120" y="785880"/>
            <a:ext cx="8429760" cy="5286240"/>
          </a:xfrm>
          <a:prstGeom prst="rect">
            <a:avLst/>
          </a:prstGeom>
          <a:noFill/>
          <a:ln w="0">
            <a:noFill/>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جامعة بغداد/ كلية التربية للبنات</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قسم اللغة العربية</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محاضرات في مناهج وطرائق</a:t>
            </a:r>
            <a:endParaRPr b="0" lang="en-US" sz="4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 تدريس اللغة العربية</a:t>
            </a:r>
            <a:endParaRPr b="0" lang="en-US" sz="4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إعداد</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أ.م.د عدي راشد محمد القلمجي</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928960" y="1856880"/>
            <a:ext cx="6143760" cy="3429000"/>
          </a:xfrm>
          <a:prstGeom prst="rect">
            <a:avLst/>
          </a:prstGeom>
          <a:solidFill>
            <a:srgbClr val="ffff66"/>
          </a:solidFill>
          <a:ln w="9360">
            <a:solidFill>
              <a:srgbClr val="ff0000"/>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Arial"/>
              </a:rPr>
              <a:t>وهي التي يتولى فيها المعلم عرض موضوع معين بأسلوب شفهي يلائم مستويات المتعلمين من أجل تحقيق أهداف الدرس، وقد يكتفي المعلم في عرض الموضوع بالكلمة المنطوقة، وقد يستعين ببعض الوسائل التعليمية.</a:t>
            </a:r>
            <a:endParaRPr b="0" lang="en-US" sz="3600" spc="-1" strike="noStrike">
              <a:solidFill>
                <a:srgbClr val="ffff99"/>
              </a:solidFill>
              <a:latin typeface="Arial"/>
            </a:endParaRPr>
          </a:p>
        </p:txBody>
      </p:sp>
      <p:sp>
        <p:nvSpPr>
          <p:cNvPr id="374" name="PlaceHolder 2"/>
          <p:cNvSpPr>
            <a:spLocks noGrp="1"/>
          </p:cNvSpPr>
          <p:nvPr>
            <p:ph/>
          </p:nvPr>
        </p:nvSpPr>
        <p:spPr>
          <a:xfrm>
            <a:off x="457200" y="228600"/>
            <a:ext cx="8229600" cy="843120"/>
          </a:xfrm>
          <a:prstGeom prst="rect">
            <a:avLst/>
          </a:prstGeom>
          <a:solidFill>
            <a:srgbClr val="ffffff"/>
          </a:solidFill>
          <a:ln w="0">
            <a:noFill/>
          </a:ln>
        </p:spPr>
        <p:txBody>
          <a:bodyPr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Verdana"/>
              </a:rPr>
              <a:t>طريقة الإلقاء (المحاضرة)</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73"/>
                                        </p:tgtEl>
                                        <p:attrNameLst>
                                          <p:attrName>style.visibility</p:attrName>
                                        </p:attrNameLst>
                                      </p:cBhvr>
                                      <p:to>
                                        <p:strVal val="visible"/>
                                      </p:to>
                                    </p:set>
                                    <p:anim calcmode="lin" valueType="num">
                                      <p:cBhvr additive="base">
                                        <p:cTn id="7" dur="500" fill="hold"/>
                                        <p:tgtEl>
                                          <p:spTgt spid="373"/>
                                        </p:tgtEl>
                                        <p:attrNameLst>
                                          <p:attrName>ppt_x</p:attrName>
                                        </p:attrNameLst>
                                      </p:cBhvr>
                                      <p:tavLst>
                                        <p:tav tm="0">
                                          <p:val>
                                            <p:strVal val="#ppt_x"/>
                                          </p:val>
                                        </p:tav>
                                        <p:tav tm="100000">
                                          <p:val>
                                            <p:strVal val="#ppt_x"/>
                                          </p:val>
                                        </p:tav>
                                      </p:tavLst>
                                    </p:anim>
                                    <p:anim calcmode="lin" valueType="num">
                                      <p:cBhvr additive="base">
                                        <p:cTn id="8"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6" name="Text Box 27"/>
          <p:cNvSpPr/>
          <p:nvPr/>
        </p:nvSpPr>
        <p:spPr>
          <a:xfrm>
            <a:off x="142920" y="0"/>
            <a:ext cx="8858160" cy="753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e"/>
                </a:solidFill>
                <a:latin typeface="Verdana"/>
              </a:rPr>
              <a:t> </a:t>
            </a:r>
            <a:r>
              <a:rPr b="1" lang="ar-SA" sz="2000" spc="-1" strike="noStrike">
                <a:solidFill>
                  <a:srgbClr val="ffff9e"/>
                </a:solidFill>
                <a:latin typeface="Verdana"/>
              </a:rPr>
              <a:t>شروط الطريقة الجيدة للإلقاء:</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الإعداد المسبق.</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التدرج في العرض.</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التوازن في العرض (من حيث السرعة والبطء فيسير وفقا لمستويات الطلاب) .</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إثارة التساؤلات.</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استخدام الوسائل التعليمية.</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حرية المناقشة.</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التقويم والمتابعة.</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9e"/>
                </a:solidFill>
                <a:latin typeface="Verdana"/>
              </a:rPr>
              <a:t>ايجابيات طريقة الإلقاء</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إثراء الرصيد اللغوي لدى الطلاب.</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تتيح للمتعلم استقبال المعلومات بسهولة دون بذل مجهود كبير لتحصيلها.</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تصلح للأعداد الكبيرة من الطلاب.</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غير مكلفة من الناحية الاقتصادية.</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9e"/>
                </a:solidFill>
                <a:latin typeface="Verdana"/>
              </a:rPr>
              <a:t>سلبيات طريقة الإلقاء</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قلة تفاعل المتعلم وسلبيته .</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المحاضرة قد تشعر الطالب بالملل وخاصة الصغار منهم .</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المحاضرة قد تؤدي إلى عدم مراعاة الفروق الفردية .</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التركيز الكبير في المحاضــرة على الجانب المعرفي .</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ضعف العمل الجماعي.</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560"/>
            <a:ext cx="8229600" cy="7938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Arial"/>
              </a:rPr>
              <a:t>طريقة المناقشة</a:t>
            </a:r>
            <a:endParaRPr b="0" lang="en-US" sz="3600" spc="-1" strike="noStrike">
              <a:solidFill>
                <a:srgbClr val="ffffcc"/>
              </a:solidFill>
              <a:latin typeface="Arial"/>
            </a:endParaRPr>
          </a:p>
        </p:txBody>
      </p:sp>
      <p:sp>
        <p:nvSpPr>
          <p:cNvPr id="378"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9" name="Text Box 27"/>
          <p:cNvSpPr/>
          <p:nvPr/>
        </p:nvSpPr>
        <p:spPr>
          <a:xfrm>
            <a:off x="285840" y="1143000"/>
            <a:ext cx="8572320" cy="484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وهي التي تسمح للمعلم بالمشاركة مع تلاميذه في فهم موضوع أو فكرة أو مشكلة ما وتحليلها وتفسيرها وتقويمها وبيان مواطن الاختلاف والاتفاق حولها.</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 </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خطوات طريقة المناقشة</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1</a:t>
            </a:r>
            <a:r>
              <a:rPr b="1" lang="ar-SA" sz="2400" spc="-1" strike="noStrike">
                <a:solidFill>
                  <a:srgbClr val="000000"/>
                </a:solidFill>
                <a:latin typeface="Verdana"/>
              </a:rPr>
              <a:t>- ترتيب حجرة الدراسة بحيث يتمكن الجميع من مشاهدة من يتحدث .</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2</a:t>
            </a:r>
            <a:r>
              <a:rPr b="1" lang="ar-SA" sz="2400" spc="-1" strike="noStrike">
                <a:solidFill>
                  <a:srgbClr val="000000"/>
                </a:solidFill>
                <a:latin typeface="Verdana"/>
              </a:rPr>
              <a:t>- أن يتابع المعلم سير المناقشة حتى لا تخرج عن أهدافها.</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3</a:t>
            </a:r>
            <a:r>
              <a:rPr b="1" lang="ar-SA" sz="2400" spc="-1" strike="noStrike">
                <a:solidFill>
                  <a:srgbClr val="000000"/>
                </a:solidFill>
                <a:latin typeface="Verdana"/>
              </a:rPr>
              <a:t>- أن يشجع المعلم المحجمين عن النقاش.</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4</a:t>
            </a:r>
            <a:r>
              <a:rPr b="1" lang="ar-SA" sz="2400" spc="-1" strike="noStrike">
                <a:solidFill>
                  <a:srgbClr val="000000"/>
                </a:solidFill>
                <a:latin typeface="Verdana"/>
              </a:rPr>
              <a:t>- أن يتيح المعلم وقتا مناسبا لتقويم الموضوع.</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1" name="Text Box 27"/>
          <p:cNvSpPr/>
          <p:nvPr/>
        </p:nvSpPr>
        <p:spPr>
          <a:xfrm>
            <a:off x="500040" y="142920"/>
            <a:ext cx="8072640" cy="8260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9e"/>
                </a:solidFill>
                <a:latin typeface="Verdana"/>
              </a:rPr>
              <a:t> </a:t>
            </a:r>
            <a:r>
              <a:rPr b="1" lang="ar-SA" sz="2800" spc="-1" strike="noStrike">
                <a:solidFill>
                  <a:srgbClr val="ffff9e"/>
                </a:solidFill>
                <a:latin typeface="Verdana"/>
              </a:rPr>
              <a:t>ايجابيات طريقة المناقشة</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 التفاعل الايجابي بين المعلم والمتعلم وبين الطلاب أنفسهم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 تساعد المعلم في التعرف على قدرات الطلاب وميولهم واستعداداتهم</a:t>
            </a:r>
            <a:r>
              <a:rPr b="1" lang="ar-IQ" sz="2800" spc="-1" strike="noStrike">
                <a:solidFill>
                  <a:srgbClr val="000000"/>
                </a:solidFill>
                <a:latin typeface="Verdana"/>
              </a:rPr>
              <a:t>.</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 تساعد المعلم على تنمية وسائل الاتصال اللغوي لدى الطلبة والتعاون فيما بينهم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 تنمي لدى المتعلم القدرة على تقبل الآراء.</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9e"/>
                </a:solidFill>
                <a:latin typeface="Verdana"/>
              </a:rPr>
              <a:t>سلبيات طريقة المناقشة</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 اهتمام بعض المعلمين بشكل المناقشة دون مضمونها.</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 تركيز بعض المعلمين على المميزين من الطلاب دون غيرهم.</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 بعض المعلمين قد يتخلى عن دوره في المتابعة مما قد يؤدي إلى التشــويش من قبل بعض الطلاب.</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 أنها تنجح بشكل كبـير مع الأعداد القليلة من الطلاب.</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3" name="Text Box 27"/>
          <p:cNvSpPr/>
          <p:nvPr/>
        </p:nvSpPr>
        <p:spPr>
          <a:xfrm>
            <a:off x="500040" y="142920"/>
            <a:ext cx="8072640" cy="6066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9e"/>
                </a:solidFill>
                <a:latin typeface="Verdana"/>
              </a:rPr>
              <a:t>طريقة حل المشكلات</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ويقصد بها النشاط أو الإجراءات التي يقوم بها المتعلم عند مواجهته لموقف مشكل للتغلب على الصعوبات التي تحول دون توصله إلى الحل.</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9e"/>
                </a:solidFill>
                <a:latin typeface="Verdana"/>
              </a:rPr>
              <a:t>خطوات طريقة حل المشكلات</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1</a:t>
            </a:r>
            <a:r>
              <a:rPr b="1" lang="ar-SA" sz="2800" spc="-1" strike="noStrike">
                <a:solidFill>
                  <a:srgbClr val="000000"/>
                </a:solidFill>
                <a:latin typeface="Verdana"/>
              </a:rPr>
              <a:t>- الإحساس بالمشكلة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2</a:t>
            </a:r>
            <a:r>
              <a:rPr b="1" lang="ar-SA" sz="2800" spc="-1" strike="noStrike">
                <a:solidFill>
                  <a:srgbClr val="000000"/>
                </a:solidFill>
                <a:latin typeface="Verdana"/>
              </a:rPr>
              <a:t>- تحديد المشكلة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3</a:t>
            </a:r>
            <a:r>
              <a:rPr b="1" lang="ar-SA" sz="2800" spc="-1" strike="noStrike">
                <a:solidFill>
                  <a:srgbClr val="000000"/>
                </a:solidFill>
                <a:latin typeface="Verdana"/>
              </a:rPr>
              <a:t>- جمع البيانات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4</a:t>
            </a:r>
            <a:r>
              <a:rPr b="1" lang="ar-SA" sz="2800" spc="-1" strike="noStrike">
                <a:solidFill>
                  <a:srgbClr val="000000"/>
                </a:solidFill>
                <a:latin typeface="Verdana"/>
              </a:rPr>
              <a:t>- فرض الفروض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5</a:t>
            </a:r>
            <a:r>
              <a:rPr b="1" lang="ar-SA" sz="2800" spc="-1" strike="noStrike">
                <a:solidFill>
                  <a:srgbClr val="000000"/>
                </a:solidFill>
                <a:latin typeface="Verdana"/>
              </a:rPr>
              <a:t>- التحقق من صحة الفروض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6</a:t>
            </a:r>
            <a:r>
              <a:rPr b="1" lang="ar-SA" sz="2800" spc="-1" strike="noStrike">
                <a:solidFill>
                  <a:srgbClr val="000000"/>
                </a:solidFill>
                <a:latin typeface="Verdana"/>
              </a:rPr>
              <a:t>- الوصول إلى حلٍ للمشكلة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28760" y="356760"/>
            <a:ext cx="8215200" cy="6072120"/>
          </a:xfrm>
          <a:prstGeom prst="rect">
            <a:avLst/>
          </a:prstGeom>
          <a:noFill/>
          <a:ln w="9360">
            <a:solidFill>
              <a:srgbClr val="ff0000"/>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9e"/>
                </a:solidFill>
                <a:latin typeface="Arial"/>
              </a:rPr>
              <a:t>ايجابيات طريقة حل المشكلات</a:t>
            </a:r>
            <a:br>
              <a:rPr sz="2800"/>
            </a:br>
            <a:r>
              <a:rPr b="1" lang="ar-SA" sz="2800" spc="-1" strike="noStrike">
                <a:solidFill>
                  <a:srgbClr val="000000"/>
                </a:solidFill>
                <a:latin typeface="Arial"/>
              </a:rPr>
              <a:t>- تنمي القدرة على التفكير .</a:t>
            </a:r>
            <a:br>
              <a:rPr sz="2800"/>
            </a:br>
            <a:r>
              <a:rPr b="1" lang="ar-SA" sz="2800" spc="-1" strike="noStrike">
                <a:solidFill>
                  <a:srgbClr val="000000"/>
                </a:solidFill>
                <a:latin typeface="Arial"/>
              </a:rPr>
              <a:t>- تنمي مهارة استخدام المراجع العلمية.</a:t>
            </a:r>
            <a:br>
              <a:rPr sz="2800"/>
            </a:br>
            <a:r>
              <a:rPr b="1" lang="ar-SA" sz="2800" spc="-1" strike="noStrike">
                <a:solidFill>
                  <a:srgbClr val="000000"/>
                </a:solidFill>
                <a:latin typeface="Arial"/>
              </a:rPr>
              <a:t>- تساعد المتعلم على إبراز شخصيته.</a:t>
            </a:r>
            <a:br>
              <a:rPr sz="2800"/>
            </a:br>
            <a:r>
              <a:rPr b="1" lang="ar-SA" sz="2800" spc="-1" strike="noStrike">
                <a:solidFill>
                  <a:srgbClr val="000000"/>
                </a:solidFill>
                <a:latin typeface="Arial"/>
              </a:rPr>
              <a:t>- تساعد المتعلم على تنمية المنهج العلمي واستخدامه في حياته اليومية.</a:t>
            </a:r>
            <a:br>
              <a:rPr sz="2800"/>
            </a:br>
            <a:r>
              <a:rPr b="1" lang="ar-SA" sz="2800" spc="-1" strike="noStrike">
                <a:solidFill>
                  <a:srgbClr val="000000"/>
                </a:solidFill>
                <a:latin typeface="Arial"/>
              </a:rPr>
              <a:t> </a:t>
            </a:r>
            <a:br>
              <a:rPr sz="2800"/>
            </a:br>
            <a:r>
              <a:rPr b="1" lang="ar-SA" sz="2800" spc="-1" strike="noStrike">
                <a:solidFill>
                  <a:srgbClr val="ffff9e"/>
                </a:solidFill>
                <a:latin typeface="Arial"/>
              </a:rPr>
              <a:t>سلبيات طريقة حل المشكلات</a:t>
            </a:r>
            <a:br>
              <a:rPr sz="2800"/>
            </a:br>
            <a:r>
              <a:rPr b="1" lang="ar-SA" sz="2800" spc="-1" strike="noStrike">
                <a:solidFill>
                  <a:srgbClr val="000000"/>
                </a:solidFill>
                <a:latin typeface="Arial"/>
              </a:rPr>
              <a:t>- تحتاج إلى وقت طويل نسبيا.</a:t>
            </a:r>
            <a:br>
              <a:rPr sz="2800"/>
            </a:br>
            <a:r>
              <a:rPr b="1" lang="ar-SA" sz="2800" spc="-1" strike="noStrike">
                <a:solidFill>
                  <a:srgbClr val="000000"/>
                </a:solidFill>
                <a:latin typeface="Arial"/>
              </a:rPr>
              <a:t>- المراجع القديمة والحديثة ضرورية في هذه الطريقة وهذا غير متوفر في الكثير من المدارس وهذا يـــؤدي إلى صعوبة استخدامها.</a:t>
            </a:r>
            <a:br>
              <a:rPr sz="2800"/>
            </a:b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84"/>
                                        </p:tgtEl>
                                        <p:attrNameLst>
                                          <p:attrName>style.visibility</p:attrName>
                                        </p:attrNameLst>
                                      </p:cBhvr>
                                      <p:to>
                                        <p:strVal val="visible"/>
                                      </p:to>
                                    </p:set>
                                    <p:anim calcmode="lin" valueType="num">
                                      <p:cBhvr additive="base">
                                        <p:cTn id="15" dur="500" fill="hold"/>
                                        <p:tgtEl>
                                          <p:spTgt spid="384"/>
                                        </p:tgtEl>
                                        <p:attrNameLst>
                                          <p:attrName>ppt_x</p:attrName>
                                        </p:attrNameLst>
                                      </p:cBhvr>
                                      <p:tavLst>
                                        <p:tav tm="0">
                                          <p:val>
                                            <p:strVal val="#ppt_x"/>
                                          </p:val>
                                        </p:tav>
                                        <p:tav tm="100000">
                                          <p:val>
                                            <p:strVal val="#ppt_x"/>
                                          </p:val>
                                        </p:tav>
                                      </p:tavLst>
                                    </p:anim>
                                    <p:anim calcmode="lin" valueType="num">
                                      <p:cBhvr additive="base">
                                        <p:cTn id="16"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b7"/>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314080" y="2205000"/>
            <a:ext cx="5472360" cy="14320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000000"/>
                </a:solidFill>
                <a:latin typeface="Arial Black"/>
                <a:cs typeface="Andalus"/>
              </a:rPr>
              <a:t>شكرا لحسن إصغائكم</a:t>
            </a:r>
            <a:endParaRPr b="1" lang="en-US" sz="6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1:43:54Z</dcterms:created>
  <dc:creator>GsM</dc:creator>
  <dc:description/>
  <dc:language>en-US</dc:language>
  <cp:lastModifiedBy>DR.Ahmed Saker 2o1O</cp:lastModifiedBy>
  <dcterms:modified xsi:type="dcterms:W3CDTF">2019-06-02T17:33:18Z</dcterms:modified>
  <cp:revision>58</cp:revision>
  <dc:subject/>
  <dc:title>وزارة التعليم العالي والبحث العلمي جامعة بغداد بالتعاون مع منظمة</dc:title>
</cp:coreProperties>
</file>