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C7987-A820-4408-8764-04F5CAE5C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4DEEC-AFE1-47DD-9851-2752F725B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89C2B-D00C-464B-A235-BDE977E6D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FFCB7-2BDA-4508-8681-0DA7392CA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2160E-0ABE-454D-AC96-E14CD9374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D63E2-BCD0-4562-8751-C000125B4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BFD60-3D27-440E-8F97-983BAD9B9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31ED5-554B-4C2C-A037-552B54D77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E7A69-DE4F-41E0-A47C-B7D17066B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38B2B-8F3E-4102-A008-E9F091F6C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D6920-15B2-4EEB-BA77-06A1788AE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92324-94DF-4914-9659-65C98B854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3A9BE-B7C3-4235-8679-9BD22733C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A20AC-723A-4A55-AD33-BD081DEAB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46725-2335-4D0F-920D-66CD77F9D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1DC24-C408-42A2-A444-64B48C649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244CC-856F-4043-85A1-9059F1F3E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B61E30-E24A-43B5-85F4-CCC1C0249A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A18E2-2DAA-4DF0-87AC-5C2988007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99DD6-D14B-43F1-B55E-2518637A41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F7C5BD-7256-4F3D-926C-3A0ECAFBB6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5C1C67-8A97-42A5-9A61-35108DC72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6D23C-F3EE-4B07-A3D2-4F648A122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C38BF-2375-40A7-B32E-493250295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C79E1-8E12-4189-926B-F45E576BB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7B6F9-D262-4733-940B-5D0375BD7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6B008-24F1-4760-8004-619FB5E41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68A19-950D-4DB4-B242-900890613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B29A67-C1DE-4626-920A-5315003319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27D3C4-FA03-470A-9794-8A001793C9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2F3218-EB9D-4FD3-8A69-8ABCFC518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4884C7-892A-4EF8-B98E-58F4E8D3F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C9CA7-F544-4A89-814E-D62C54E07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5FA47-7FE5-499A-B7AA-376A1F96B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39E2E-271A-4099-847B-204E612CD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4DC246-0038-4D3D-A5AF-E9781CA03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49E658-A220-4905-A134-B1E212AF3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DFDDA-0F99-40D9-AD6F-6CBF84F22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E4165-E057-49AD-AD84-01EC508C0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CD0B5-B936-44B0-9FFA-8197767B2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07337-EFF6-4F5B-B157-495B6B6FD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ABF28D-B3E8-4410-9A46-C11E039FC4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19C0A6-5BA2-4601-B8F1-076DF5D563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5E38A4-9C25-48FA-AD81-775F47C0EB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F408F-447C-4DB0-88D5-8C5C66DA3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3B8BD7-F85B-413B-8E82-AEF4B878C6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D13E50-B4A0-460D-88A4-EACD3F7657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2DE08D-B226-46AB-8A52-C1A659082D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5629E-C25E-40A5-ADA9-BB6C92AA4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EB4537-D821-467C-AA6B-6FFEB7FA04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7D8E7-1AD3-4802-9C46-77C0747C7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86391-274B-469E-B8CD-5B7E1AFF6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6F21F-F488-4C45-BF5C-E1CA4DE23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D32C3-90C1-4812-B9C6-342BA91DD7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25A7C6-F52F-4AB5-B5B6-CE4341CE18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77EFC-57E3-48FF-B0D6-18EBF553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C313E8-040A-464B-885F-3A797536FB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27E7CC-098F-4C98-A2F7-C4AFA99180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23E43B-C3A6-4C9A-BD68-E070CCD8E4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6E913E-F7E2-4F5B-91D8-A17F5DF73A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289DA7-8B58-4E50-B451-A8E37114E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43F9B-F3EC-4BA0-8ECC-5CE98CE48A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05DCB-88B4-4A64-8F15-5D58D6D4F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12912-172A-45B4-A5DC-5B97CE0DF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64944-156E-4D96-B4B2-FD56E2009B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4E3DBB-30E4-4726-A64A-0F8CDF184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C9306-5DBC-495C-9873-11ACFBC7A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42F0EC-67A7-4F39-80A7-A3E73AD027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B35A69-5021-4133-BFF8-D9340B9E46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55580D-7113-4E99-9FA3-8AA270ECBD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C4D68-0A58-4B59-BEFF-C213B981A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03A0-1868-4C5B-A2F2-473709BB6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8BE8-B6FC-4B96-888F-3A7479C056D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6B20-B5B3-448C-A94D-5B773163C75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617D-B2ED-484E-BE95-67B3308E0108}"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C8FC-4B99-4307-BCD0-B32E052000F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06C7-DBEC-4968-BC14-62E6D5645DD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3282-8411-4F97-8D5C-09E5EDD12657}"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786040" y="1714680"/>
            <a:ext cx="6143760" cy="4071600"/>
          </a:xfrm>
          <a:prstGeom prst="rect">
            <a:avLst/>
          </a:prstGeom>
          <a:solidFill>
            <a:srgbClr val="ffff66"/>
          </a:solidFill>
          <a:ln w="9360">
            <a:solidFill>
              <a:srgbClr val="ff0000"/>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Arial"/>
              </a:rPr>
              <a:t>تقوم هذه الطريقة على استقراء آراء التلاميذ للوصول الى النتيجة النهائية وهي معرفة القاعدة النحوية، ومن شروطها أن يكون عدد الطلبة أو التلاميذ مناسبا ومشجعا لإجراء الحوار والمناقشة، وان تكون لديهم فكرة أو معلومات عن الموضوع الذي سيناقش</a:t>
            </a:r>
            <a:endParaRPr b="0" lang="en-US" sz="3600" spc="-1" strike="noStrike">
              <a:solidFill>
                <a:srgbClr val="ffff99"/>
              </a:solidFill>
              <a:latin typeface="Arial"/>
            </a:endParaRPr>
          </a:p>
        </p:txBody>
      </p:sp>
      <p:sp>
        <p:nvSpPr>
          <p:cNvPr id="374" name="PlaceHolder 2"/>
          <p:cNvSpPr>
            <a:spLocks noGrp="1"/>
          </p:cNvSpPr>
          <p:nvPr>
            <p:ph/>
          </p:nvPr>
        </p:nvSpPr>
        <p:spPr>
          <a:xfrm>
            <a:off x="457200" y="228600"/>
            <a:ext cx="8229600" cy="843120"/>
          </a:xfrm>
          <a:prstGeom prst="rect">
            <a:avLst/>
          </a:prstGeom>
          <a:solidFill>
            <a:srgbClr val="ffffff"/>
          </a:solid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0000"/>
                </a:solidFill>
                <a:latin typeface="Verdana"/>
              </a:rPr>
              <a:t>الطريقة الاستقرائية</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6" name="Text Box 27"/>
          <p:cNvSpPr/>
          <p:nvPr/>
        </p:nvSpPr>
        <p:spPr>
          <a:xfrm>
            <a:off x="142920" y="0"/>
            <a:ext cx="8858160" cy="9298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e"/>
                </a:solidFill>
                <a:latin typeface="Verdana"/>
              </a:rPr>
              <a:t> </a:t>
            </a:r>
            <a:r>
              <a:rPr b="1" lang="ar-IQ" sz="2400" spc="-1" strike="noStrike">
                <a:solidFill>
                  <a:srgbClr val="ffff9e"/>
                </a:solidFill>
                <a:latin typeface="Verdana"/>
              </a:rPr>
              <a:t>خطوات الطريقة الاستقرائي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cc"/>
                </a:solidFill>
                <a:latin typeface="Verdana"/>
              </a:rPr>
              <a:t>التمهيد:</a:t>
            </a:r>
            <a:r>
              <a:rPr b="1" lang="ar-IQ" sz="2400" spc="-1" strike="noStrike">
                <a:solidFill>
                  <a:srgbClr val="000000"/>
                </a:solidFill>
                <a:latin typeface="Verdana"/>
              </a:rPr>
              <a:t> يبدأ المعلم أو المدرس بتمهيد بسيط للموضوع الغاية منه جذب انتباه التلاميذ للدرس أولا فإذا كان الموضوع  المراد مناقشته الفاعل مثلا فيمكن للمعلم أن يمهد للموضوع بذكر الفعل وأنواعه وحاجة الفعل الى فاعل.</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cc"/>
                </a:solidFill>
                <a:latin typeface="Verdana"/>
              </a:rPr>
              <a:t>عرض الأمثلة : </a:t>
            </a:r>
            <a:r>
              <a:rPr b="1" lang="ar-IQ" sz="2400" spc="-1" strike="noStrike">
                <a:solidFill>
                  <a:srgbClr val="000000"/>
                </a:solidFill>
                <a:latin typeface="Verdana"/>
              </a:rPr>
              <a:t>بعد انتهاء خطوة التمهيد يعرض المعلم على السبورة مجموعة من الأمثلة المناسبة لموضوع الدرس والتي تشمل جوانب الموضوع جميعها والتي تتناسب مع المعلومات الموجودة في القاعدة النحوي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cc"/>
                </a:solidFill>
                <a:latin typeface="Verdana"/>
              </a:rPr>
              <a:t>الربط والموازنة: </a:t>
            </a:r>
            <a:r>
              <a:rPr b="1" lang="ar-IQ" sz="2400" spc="-1" strike="noStrike">
                <a:solidFill>
                  <a:srgbClr val="000000"/>
                </a:solidFill>
                <a:latin typeface="Verdana"/>
              </a:rPr>
              <a:t>بعد انتهاء المعلم من عرضه للأمثلة يطلب المعلم من التلاميذ الإصغاء إليه ويشرح مضمون هذه الأمثلة بشكل مفصل ويبين للتلاميذ أوجه التشابه والاختلاف بينها بشكل عام وهذه الخطوة من أهم الخطوات قبل الوصول الى اشتقاق القاعدة النحوي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cc"/>
                </a:solidFill>
                <a:latin typeface="Verdana"/>
              </a:rPr>
              <a:t>اشتقاق القاعدة النحوية: </a:t>
            </a:r>
            <a:r>
              <a:rPr b="1" lang="ar-IQ" sz="2400" spc="-1" strike="noStrike">
                <a:solidFill>
                  <a:srgbClr val="000000"/>
                </a:solidFill>
                <a:latin typeface="Verdana"/>
              </a:rPr>
              <a:t>بعد انتهاء خطوة الموازنة والربط بين الأمثلة يحاور المعلم تلاميذه حوارا الغرض منه إشراكهم معه في اشتقاق القاعدة النحوية من خلال المعلومات التي حصلوا عليها من خطوتي عرض الأمثلة والموازنة والربط فيشتق المعلم وبالتعاون مع تلاميذه من خلال الحوار القاعدة النحوية المطلوب اشتقاقها.</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cc"/>
                </a:solidFill>
                <a:latin typeface="Verdana"/>
              </a:rPr>
              <a:t>التطبيق:</a:t>
            </a:r>
            <a:r>
              <a:rPr b="1" lang="ar-IQ" sz="2400" spc="-1" strike="noStrike">
                <a:solidFill>
                  <a:srgbClr val="000000"/>
                </a:solidFill>
                <a:latin typeface="Verdana"/>
              </a:rPr>
              <a:t> بعد اشتقاق المعلم والتلاميذ القاعدة النحوية يطلب المعلم من تلاميذه تأليف  أمثلة مشابهة ومناسبة للمعلومات الموجودة في القاعدة النحوي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793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cc"/>
                </a:solidFill>
                <a:latin typeface="Arial"/>
              </a:rPr>
              <a:t>الطريقة القياسية</a:t>
            </a:r>
            <a:endParaRPr b="0" lang="en-US" sz="3600" spc="-1" strike="noStrike">
              <a:solidFill>
                <a:srgbClr val="ffffcc"/>
              </a:solidFill>
              <a:latin typeface="Arial"/>
            </a:endParaRPr>
          </a:p>
        </p:txBody>
      </p:sp>
      <p:sp>
        <p:nvSpPr>
          <p:cNvPr id="378"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9" name="Text Box 27"/>
          <p:cNvSpPr/>
          <p:nvPr/>
        </p:nvSpPr>
        <p:spPr>
          <a:xfrm>
            <a:off x="285840" y="1143000"/>
            <a:ext cx="857232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a:t>
            </a:r>
            <a:r>
              <a:rPr b="1" lang="ar-IQ" sz="2800" spc="-1" strike="noStrike">
                <a:solidFill>
                  <a:srgbClr val="000000"/>
                </a:solidFill>
                <a:latin typeface="Verdana"/>
              </a:rPr>
              <a:t>تعتمد هذه الطريقة على جهد المعلم بالدرجة الأولى ويلجا المعلم الى استخدام هذه الطريقة لأسباب منها:</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1</a:t>
            </a:r>
            <a:r>
              <a:rPr b="1" lang="ar-IQ" sz="2800" spc="-1" strike="noStrike">
                <a:solidFill>
                  <a:srgbClr val="000000"/>
                </a:solidFill>
                <a:latin typeface="Verdana"/>
              </a:rPr>
              <a:t>- قلة عدد الطلبة أو التلاميذ الموجودين  في الصف والذي لا يسمح عددهم بإقامة حوار ومناقشة لاستنتاج واشتقاق القاعدة النحوي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2</a:t>
            </a:r>
            <a:r>
              <a:rPr b="1" lang="ar-IQ" sz="2800" spc="-1" strike="noStrike">
                <a:solidFill>
                  <a:srgbClr val="000000"/>
                </a:solidFill>
                <a:latin typeface="Verdana"/>
              </a:rPr>
              <a:t>- إن التلاميذ غير متهيئين علميا للموضوع الدراسي.</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أما خطواتها فهي:</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1</a:t>
            </a:r>
            <a:r>
              <a:rPr b="1" lang="ar-IQ" sz="2800" spc="-1" strike="noStrike">
                <a:solidFill>
                  <a:srgbClr val="000000"/>
                </a:solidFill>
                <a:latin typeface="Verdana"/>
              </a:rPr>
              <a:t>- التمهيد: يبدأ المعلم درسه بتمهيد بسيط ولا باس في أن يعرج على الموضوع السابق ويربطه بالموضوع الحالي لغرض جذب انتباه التلاميذ إليه.</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1" name="Text Box 27"/>
          <p:cNvSpPr/>
          <p:nvPr/>
        </p:nvSpPr>
        <p:spPr>
          <a:xfrm>
            <a:off x="500040" y="142920"/>
            <a:ext cx="8072640" cy="9052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2</a:t>
            </a:r>
            <a:r>
              <a:rPr b="1" lang="ar-IQ" sz="2800" spc="-1" strike="noStrike">
                <a:solidFill>
                  <a:srgbClr val="000000"/>
                </a:solidFill>
                <a:latin typeface="Verdana"/>
              </a:rPr>
              <a:t>- عرض القاعدة النحوية: بعد انتهاء المعلم من التمهيد يعرض نص القاعدة النحوية مكتوبا على ورقة  فايل أو يكتبها على السبورة، بعد ذلك يشرح المعلم القاعدة النحوية ويوضح المفاهيم الجديدة الواردة فيها ولا باس من أن يطلب من التلاميذ قراءة النص المكتوب أمامهم لغرض ترسيخ معلوماته الجديدة في أذهانهم</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3</a:t>
            </a:r>
            <a:r>
              <a:rPr b="1" lang="ar-IQ" sz="2800" spc="-1" strike="noStrike">
                <a:solidFill>
                  <a:srgbClr val="000000"/>
                </a:solidFill>
                <a:latin typeface="Verdana"/>
              </a:rPr>
              <a:t>- عرض المعلم لمجموعة من الأمثلة: بعد انتهاء المعلم من عرضه وشرحه للقاعدة النحوية يكتب على السبورة مجموعة من الأمثلة تتناسب مع المعلومات الموجودة في القاعدة النحوية ويوضح المعلم خلال هذه الخطوة علاقة هذه الأمثلة بالقاعدة النحوي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4</a:t>
            </a:r>
            <a:r>
              <a:rPr b="1" lang="ar-IQ" sz="2800" spc="-1" strike="noStrike">
                <a:solidFill>
                  <a:srgbClr val="000000"/>
                </a:solidFill>
                <a:latin typeface="Verdana"/>
              </a:rPr>
              <a:t>- التطبيق: بعد انتهاء المعلم من عرضه للأمثلة يطالب تلاميذه بان يأتوا بأمثلة مشابهة لأمثلته على أن تكون هذه الأمثلة مراعية للمعلومات الجديدة الموجودة في القاعدة النحوية، وفي حالة نجاح التلاميذ في التطبيق فإنهم يكونوا قد تمكنوا من فهم موضوع الدرس ووصلوا الى الهدف المطلوب</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3" name="Text Box 27"/>
          <p:cNvSpPr/>
          <p:nvPr/>
        </p:nvSpPr>
        <p:spPr>
          <a:xfrm>
            <a:off x="0" y="0"/>
            <a:ext cx="9144000" cy="947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9e"/>
                </a:solidFill>
                <a:latin typeface="Verdana"/>
              </a:rPr>
              <a:t>طريقة إلقاء النص</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تعتمد هذه الطريقة على حديث المدرس والطلبة يسجلون ملاحظاتهم أثناء حديثه، ومحاسن هذه الطريقة أنها تنفع في الصفوف المتقدمة من التعليم الثانوي ويفضل أن تكون في التدريس الجامعي حيث غزارة علم الأستاذ وارتفاع مستوى إدراك الطلبة وقدرتهم على استيعاب المادة العلمية وعلى تسجيل الملاحظات وتفيد أيضا في الصفوف التي يكثر فيها عدد الطلبة أو يهبط فيها مستوى التحضير كما هو الحال في المدارس المسائية، وكذلك تنفع في عرض الموضوعات الجديدة والغريبة والموضوعات الصعبة التي تحتاج الى جهد كبير في التفكير مما يدفع المدرس الى تيسيرها بأسلوب عرض شيق وحلاوة حديث، كما تنفع أيضا في سرعة انجاز المنهج عند المدرس المتأخر من خلال اختصاره للماد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  أما عيوب هذه الطريقة فتتمثل باقتصار المدرس على الإلقاء دون مناقشة الطلبة أو استجوابهم مما يعودهم على الكسل والاتكال ، ولتفادي ذلك يفضل تكليف الطلبة بالواجبات البيتية وبعدها استجوابهم، إذ أن أسئلة المدرس ومتابعته تساعدان على التحضير المسبق للدرس.</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6-02T17:42:24Z</dcterms:modified>
  <cp:revision>58</cp:revision>
  <dc:subject/>
  <dc:title>وزارة التعليم العالي والبحث العلمي جامعة بغداد بالتعاون مع منظمة</dc:title>
</cp:coreProperties>
</file>