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86B84-587F-42E3-8545-534FA4EBB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38742-381C-4B2E-B1AE-63DB341B3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89C76-7DDB-4A79-95B5-75D9380B7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B18C8-6EB7-445D-ABAC-896BFE933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59D4F-8230-438E-802A-7E00B2C6C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3E48C-DC01-484B-8B9D-DC4672F35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A8549-97E6-4F92-A02E-A52DCA0D4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66B05-FE82-407E-9E09-132E2C78C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FCAC4-AC52-4C4B-9DE9-C07BEF5C5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A62AF-C1F3-4323-A908-80F3F6B74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9FC24-E2A3-4A81-915F-4F0DAF9B0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2F0B1-BA63-4664-B61C-508752CB9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67C5D-21C0-4543-9524-670C12006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D5C7B-1766-4D72-A9E1-60985A984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05778-2415-4B8C-8CC4-CFFEC7865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BE399-A0D9-4E20-98C0-40DBB8C99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5B213-8469-4C1D-A7FE-95CC5B213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26EF92-3F6E-45E1-971E-AB8F1F2398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8497C-4E35-462D-B22F-9B216FDC0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2A72D-65E8-4121-AE12-48F4FDC44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6218D-CF03-43C6-AD86-06D4F5282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56A45-0CE0-43BC-A747-6F34AA6CA1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450C7-8688-4420-9E73-F01B665DC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E0FB4-43D2-4C4C-B0C5-867818467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7A4C8-A45D-42A9-8A66-4B37EAE5B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19877-6CB0-4EDC-8AE0-06B2C03EE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C08CA-51A4-4261-9162-B0CDBF117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41DA8-6FB3-4BB2-A6A2-02CA39F93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7E1DB2-71E5-4FFA-83FF-B2E2B42753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0ADB6B-246C-4652-BED7-EB0AC565C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182180-94E6-4B28-9CF8-3759C8B70B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BF92A3-06A3-48F3-8F22-3DDB115440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370DC-7100-4E20-8F3F-C96594298D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440B3-683C-454E-9F7A-EC488482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13DB1-4A0D-462E-83B7-81DB359BA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B40A1E-1308-444B-B058-CBA98277DA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05052-1FCC-4152-9705-DDD566CB1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56C83-D350-416B-9945-900B72941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5238C-BB4A-4C43-AA73-041722DA0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F5F5D-DD54-4D94-A32E-207B87F86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FCAA0-4FF8-4491-9C88-64CD9D85B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41CE2A-8151-4E99-A16D-BBC6D0626C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C5CB70-7FB8-4B24-9523-B84381052D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351A93-30A1-4FA0-8A19-CE45E895F1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7325D-17DF-44BC-9A02-7499BFB83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A85414-4701-41CF-8533-AC51194304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C3995-5C89-477B-B7B4-EE0B5ADA34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EF5038-0ECB-46F8-99DC-B59D6135A0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FCE2DE-62AE-4D3C-8616-8FC9F8BD0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A9087-7C24-4ED2-95E0-150487680B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6BFCAC-2F3F-46B1-88DA-7CE62A947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C5334-3272-46E6-A425-0F9CF51F8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947C2-1E90-49FA-A25E-A7F022C2D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58076-4AD3-4538-B1CC-9A7047CEF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3F6D61-0CBA-472B-9D03-105FCD6522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40572-0964-4548-A44F-A1C32F225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EF0849-A075-4048-A54C-2442F2DD76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C8D68F-C40A-4D62-9EA8-100094FF5B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C0AD82-485E-4EF7-8D2E-164B594F5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64BD4-41AA-41E2-A975-85A133CD8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476534-69A9-457F-A05E-CDCDDB351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61751B-0DB5-42BD-9C3F-EFDE05F88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F6BD13-C2B4-404D-B6D3-FB90949EA6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63B65-EE6A-4193-B201-45402D1F3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B0610-D184-42F7-A1B2-D4A25523B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43E71-A907-4D03-BBD7-DCD79D92E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1A774-ADEE-4B89-8AA9-ACB624CBB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337720-3B7E-4097-9C00-7AF8EBACC9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182CD7-74AF-4628-B71A-26B5916C23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C87B2C-144C-4064-A8CB-1C96B92FD3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F55C-FC21-4B4B-999B-FB710879E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1F25D-DE81-42E7-B86B-EA64B7D61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CE2B-5961-4520-99F6-FD6E55D2DC9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5880-5C64-4150-8698-5087F75399C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BA1E-81C4-4083-B8F5-DA1EF56792E0}"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3627-D560-4442-A1C4-06BB3587B9A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A278-D343-4BE3-8963-9A5C47B1343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1E08-5AC6-4F21-ABA0-BA2F5B71E15B}"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28920" y="1643040"/>
            <a:ext cx="6229440" cy="3857760"/>
          </a:xfrm>
          <a:prstGeom prst="rect">
            <a:avLst/>
          </a:prstGeom>
          <a:solidFill>
            <a:srgbClr val="ffff66"/>
          </a:solidFill>
          <a:ln w="9360">
            <a:solidFill>
              <a:srgbClr val="ff0000"/>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إن المناهج الدراسية التي توضع في فترة زمنية معينة قد تصبح قليلة الأهمية ومحدودة الجدود بعد عدة سنوات إذا لم تتعرض لعمليات المراجعة والنقد والإضافة والحذف والتبديل.</a:t>
            </a:r>
            <a:br>
              <a:rPr sz="2800"/>
            </a:br>
            <a:br>
              <a:rPr sz="2800"/>
            </a:br>
            <a:endParaRPr b="0" lang="en-US" sz="3600" spc="-1" strike="noStrike">
              <a:solidFill>
                <a:srgbClr val="ffff99"/>
              </a:solidFill>
              <a:latin typeface="Arial"/>
            </a:endParaRPr>
          </a:p>
        </p:txBody>
      </p:sp>
      <p:sp>
        <p:nvSpPr>
          <p:cNvPr id="374" name="PlaceHolder 2"/>
          <p:cNvSpPr>
            <a:spLocks noGrp="1"/>
          </p:cNvSpPr>
          <p:nvPr>
            <p:ph/>
          </p:nvPr>
        </p:nvSpPr>
        <p:spPr>
          <a:xfrm>
            <a:off x="457200" y="228240"/>
            <a:ext cx="8229600" cy="609480"/>
          </a:xfrm>
          <a:prstGeom prst="rect">
            <a:avLst/>
          </a:prstGeom>
          <a:solidFill>
            <a:srgbClr val="ffffff"/>
          </a:solid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Verdana"/>
              </a:rPr>
              <a:t>تطوير المنهج</a:t>
            </a:r>
            <a:endParaRPr b="0" lang="en-US" sz="3200" spc="-1" strike="noStrike">
              <a:solidFill>
                <a:srgbClr val="ffffff"/>
              </a:solidFill>
              <a:latin typeface="Verdan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6509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مبررات تطوير المناهج الدراسية</a:t>
            </a:r>
            <a:endParaRPr b="0" lang="en-US" sz="3600" spc="-1" strike="noStrike">
              <a:solidFill>
                <a:srgbClr val="ffffcc"/>
              </a:solidFill>
              <a:latin typeface="Arial"/>
            </a:endParaRPr>
          </a:p>
        </p:txBody>
      </p:sp>
      <p:sp>
        <p:nvSpPr>
          <p:cNvPr id="376"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7" name="AutoShape 10"/>
          <p:cNvSpPr/>
          <p:nvPr/>
        </p:nvSpPr>
        <p:spPr>
          <a:xfrm>
            <a:off x="1357200" y="1928880"/>
            <a:ext cx="795600" cy="4429080"/>
          </a:xfrm>
          <a:custGeom>
            <a:avLst/>
            <a:gdLst>
              <a:gd name="textAreaLeft" fmla="*/ 508320 w 795600"/>
              <a:gd name="textAreaRight" fmla="*/ 795960 w 795600"/>
              <a:gd name="textAreaTop" fmla="*/ 97560 h 4429080"/>
              <a:gd name="textAreaBottom" fmla="*/ 4331520 h 4429080"/>
            </a:gdLst>
            <a:ahLst/>
            <a:rect l="textAreaLeft" t="textAreaTop" r="textAreaRight" b="textAreaBottom"/>
            <a:pathLst>
              <a:path w="21600" h="21600">
                <a:moveTo>
                  <a:pt x="21600" y="0"/>
                </a:moveTo>
                <a:cubicBezTo>
                  <a:pt x="16200" y="0"/>
                  <a:pt x="10800" y="762"/>
                  <a:pt x="10800" y="1524"/>
                </a:cubicBezTo>
                <a:lnTo>
                  <a:pt x="10800" y="9109"/>
                </a:lnTo>
                <a:cubicBezTo>
                  <a:pt x="10800" y="9871"/>
                  <a:pt x="5400" y="10633"/>
                  <a:pt x="0" y="10633"/>
                </a:cubicBezTo>
                <a:cubicBezTo>
                  <a:pt x="5400" y="10633"/>
                  <a:pt x="10800" y="11395"/>
                  <a:pt x="10800" y="12157"/>
                </a:cubicBezTo>
                <a:lnTo>
                  <a:pt x="10800" y="20076"/>
                </a:lnTo>
                <a:cubicBezTo>
                  <a:pt x="10800" y="20838"/>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8" name="AutoShape 11"/>
          <p:cNvSpPr/>
          <p:nvPr/>
        </p:nvSpPr>
        <p:spPr>
          <a:xfrm>
            <a:off x="7904160" y="1874880"/>
            <a:ext cx="739800" cy="4483080"/>
          </a:xfrm>
          <a:custGeom>
            <a:avLst/>
            <a:gdLst>
              <a:gd name="textAreaLeft" fmla="*/ 0 w 739800"/>
              <a:gd name="textAreaRight" fmla="*/ 267120 w 739800"/>
              <a:gd name="textAreaTop" fmla="*/ 106200 h 4483080"/>
              <a:gd name="textAreaBottom" fmla="*/ 4376880 h 4483080"/>
            </a:gdLst>
            <a:ahLst/>
            <a:rect l="textAreaLeft" t="textAreaTop" r="textAreaRight" b="textAreaBottom"/>
            <a:pathLst>
              <a:path w="21600" h="21600">
                <a:moveTo>
                  <a:pt x="0" y="0"/>
                </a:moveTo>
                <a:cubicBezTo>
                  <a:pt x="5400" y="0"/>
                  <a:pt x="10800" y="818"/>
                  <a:pt x="10800" y="1636"/>
                </a:cubicBezTo>
                <a:lnTo>
                  <a:pt x="10800" y="9164"/>
                </a:lnTo>
                <a:cubicBezTo>
                  <a:pt x="10800" y="9982"/>
                  <a:pt x="16200" y="10800"/>
                  <a:pt x="21600" y="10800"/>
                </a:cubicBezTo>
                <a:cubicBezTo>
                  <a:pt x="16200" y="10800"/>
                  <a:pt x="10800" y="11618"/>
                  <a:pt x="10800" y="12436"/>
                </a:cubicBezTo>
                <a:lnTo>
                  <a:pt x="10800" y="19964"/>
                </a:lnTo>
                <a:cubicBezTo>
                  <a:pt x="10800" y="20782"/>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9" name="Text Box 27"/>
          <p:cNvSpPr/>
          <p:nvPr/>
        </p:nvSpPr>
        <p:spPr>
          <a:xfrm>
            <a:off x="1184400" y="2214720"/>
            <a:ext cx="7102440" cy="454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 </a:t>
            </a:r>
            <a:r>
              <a:rPr b="0" lang="ar-SA" sz="2800" spc="-1" strike="noStrike">
                <a:solidFill>
                  <a:srgbClr val="ffff00"/>
                </a:solidFill>
                <a:latin typeface="Verdana"/>
              </a:rPr>
              <a:t>أ- إن التغيرات الاجتماعية والاقتصادية من أهم دواعي</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Verdana"/>
              </a:rPr>
              <a:t> تطوير المناهج الدراسية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Verdana"/>
              </a:rPr>
              <a:t>ب- قصور المناهج الدراسية الحالية من خلال ( قصور</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Verdana"/>
              </a:rPr>
              <a:t> في مستويات التلاميذ- كثرة الرسوب-الرأي العام).</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Verdana"/>
              </a:rPr>
              <a:t>ت- حاجات المجتمع المستقبلي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Verdana"/>
              </a:rPr>
              <a:t>ث- التطور التربوي العام.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22222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00"/>
                </a:solidFill>
                <a:latin typeface="Arial"/>
              </a:rPr>
              <a:t>العوامل التي ساهمت في تطوير المنهج</a:t>
            </a:r>
            <a:br>
              <a:rPr sz="2400"/>
            </a:br>
            <a:r>
              <a:rPr b="0" lang="ar-SA" sz="2400" spc="-1" strike="noStrike">
                <a:solidFill>
                  <a:srgbClr val="171717"/>
                </a:solidFill>
                <a:latin typeface="Arial"/>
              </a:rPr>
              <a:t>أ- اختلاف النظرة الإنسانية.</a:t>
            </a:r>
            <a:r>
              <a:rPr b="0" lang="ar-IQ" sz="2400" spc="-1" strike="noStrike">
                <a:solidFill>
                  <a:srgbClr val="171717"/>
                </a:solidFill>
                <a:latin typeface="Arial"/>
              </a:rPr>
              <a:t>     </a:t>
            </a:r>
            <a:r>
              <a:rPr b="0" lang="ar-SA" sz="2400" spc="-1" strike="noStrike">
                <a:solidFill>
                  <a:srgbClr val="171717"/>
                </a:solidFill>
                <a:latin typeface="Arial"/>
              </a:rPr>
              <a:t>ب- التطور المعرفي.</a:t>
            </a:r>
            <a:br>
              <a:rPr sz="2400"/>
            </a:br>
            <a:r>
              <a:rPr b="0" lang="ar-SA" sz="2400" spc="-1" strike="noStrike">
                <a:solidFill>
                  <a:srgbClr val="171717"/>
                </a:solidFill>
                <a:latin typeface="Arial"/>
              </a:rPr>
              <a:t>ت- التطور التكنولوجي.</a:t>
            </a:r>
            <a:r>
              <a:rPr b="0" lang="ar-IQ" sz="2400" spc="-1" strike="noStrike">
                <a:solidFill>
                  <a:srgbClr val="171717"/>
                </a:solidFill>
                <a:latin typeface="Arial"/>
              </a:rPr>
              <a:t>    </a:t>
            </a:r>
            <a:r>
              <a:rPr b="0" lang="ar-SA" sz="2400" spc="-1" strike="noStrike">
                <a:solidFill>
                  <a:srgbClr val="171717"/>
                </a:solidFill>
                <a:latin typeface="Arial"/>
              </a:rPr>
              <a:t>ث- تحولات في ثقافات المجتمعات وفكرها.</a:t>
            </a:r>
            <a:br>
              <a:rPr sz="2400"/>
            </a:br>
            <a:r>
              <a:rPr b="0" lang="ar-SA" sz="2400" spc="-1" strike="noStrike">
                <a:solidFill>
                  <a:srgbClr val="171717"/>
                </a:solidFill>
                <a:latin typeface="Arial"/>
              </a:rPr>
              <a:t>ج- نتائج الدراسات والبحوث التربوية</a:t>
            </a:r>
            <a:r>
              <a:rPr b="0" lang="ar-SA" sz="2800" spc="-1" strike="noStrike">
                <a:solidFill>
                  <a:srgbClr val="171717"/>
                </a:solidFill>
                <a:latin typeface="Arial"/>
              </a:rPr>
              <a:t>.</a:t>
            </a:r>
            <a:br>
              <a:rPr sz="2800"/>
            </a:br>
            <a:endParaRPr b="0" lang="en-US" sz="2800" spc="-1" strike="noStrike">
              <a:solidFill>
                <a:srgbClr val="ffffcc"/>
              </a:solidFill>
              <a:latin typeface="Arial"/>
            </a:endParaRPr>
          </a:p>
        </p:txBody>
      </p:sp>
      <p:sp>
        <p:nvSpPr>
          <p:cNvPr id="381"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2" name="AutoShape 10"/>
          <p:cNvSpPr/>
          <p:nvPr/>
        </p:nvSpPr>
        <p:spPr>
          <a:xfrm>
            <a:off x="1357200" y="1928880"/>
            <a:ext cx="795600" cy="4429080"/>
          </a:xfrm>
          <a:custGeom>
            <a:avLst/>
            <a:gdLst>
              <a:gd name="textAreaLeft" fmla="*/ 508320 w 795600"/>
              <a:gd name="textAreaRight" fmla="*/ 795960 w 795600"/>
              <a:gd name="textAreaTop" fmla="*/ 97560 h 4429080"/>
              <a:gd name="textAreaBottom" fmla="*/ 4331520 h 4429080"/>
            </a:gdLst>
            <a:ahLst/>
            <a:rect l="textAreaLeft" t="textAreaTop" r="textAreaRight" b="textAreaBottom"/>
            <a:pathLst>
              <a:path w="21600" h="21600">
                <a:moveTo>
                  <a:pt x="21600" y="0"/>
                </a:moveTo>
                <a:cubicBezTo>
                  <a:pt x="16200" y="0"/>
                  <a:pt x="10800" y="762"/>
                  <a:pt x="10800" y="1524"/>
                </a:cubicBezTo>
                <a:lnTo>
                  <a:pt x="10800" y="9109"/>
                </a:lnTo>
                <a:cubicBezTo>
                  <a:pt x="10800" y="9871"/>
                  <a:pt x="5400" y="10633"/>
                  <a:pt x="0" y="10633"/>
                </a:cubicBezTo>
                <a:cubicBezTo>
                  <a:pt x="5400" y="10633"/>
                  <a:pt x="10800" y="11395"/>
                  <a:pt x="10800" y="12157"/>
                </a:cubicBezTo>
                <a:lnTo>
                  <a:pt x="10800" y="20076"/>
                </a:lnTo>
                <a:cubicBezTo>
                  <a:pt x="10800" y="20838"/>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3" name="AutoShape 11"/>
          <p:cNvSpPr/>
          <p:nvPr/>
        </p:nvSpPr>
        <p:spPr>
          <a:xfrm>
            <a:off x="7904160" y="1874880"/>
            <a:ext cx="739800" cy="4483080"/>
          </a:xfrm>
          <a:custGeom>
            <a:avLst/>
            <a:gdLst>
              <a:gd name="textAreaLeft" fmla="*/ 0 w 739800"/>
              <a:gd name="textAreaRight" fmla="*/ 267120 w 739800"/>
              <a:gd name="textAreaTop" fmla="*/ 106200 h 4483080"/>
              <a:gd name="textAreaBottom" fmla="*/ 4376880 h 4483080"/>
            </a:gdLst>
            <a:ahLst/>
            <a:rect l="textAreaLeft" t="textAreaTop" r="textAreaRight" b="textAreaBottom"/>
            <a:pathLst>
              <a:path w="21600" h="21600">
                <a:moveTo>
                  <a:pt x="0" y="0"/>
                </a:moveTo>
                <a:cubicBezTo>
                  <a:pt x="5400" y="0"/>
                  <a:pt x="10800" y="818"/>
                  <a:pt x="10800" y="1636"/>
                </a:cubicBezTo>
                <a:lnTo>
                  <a:pt x="10800" y="9164"/>
                </a:lnTo>
                <a:cubicBezTo>
                  <a:pt x="10800" y="9982"/>
                  <a:pt x="16200" y="10800"/>
                  <a:pt x="21600" y="10800"/>
                </a:cubicBezTo>
                <a:cubicBezTo>
                  <a:pt x="16200" y="10800"/>
                  <a:pt x="10800" y="11618"/>
                  <a:pt x="10800" y="12436"/>
                </a:cubicBezTo>
                <a:lnTo>
                  <a:pt x="10800" y="19964"/>
                </a:lnTo>
                <a:cubicBezTo>
                  <a:pt x="10800" y="20782"/>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4" name="Text Box 27"/>
          <p:cNvSpPr/>
          <p:nvPr/>
        </p:nvSpPr>
        <p:spPr>
          <a:xfrm>
            <a:off x="1112760" y="1928880"/>
            <a:ext cx="7102440" cy="594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rPr>
              <a:t>عمليات تطوير المناهج تتخذ أشكالا متعددة وهي :</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1717"/>
                </a:solidFill>
                <a:latin typeface="Verdana"/>
              </a:rPr>
              <a:t>أ- التطوير بالحذف وبالإضافة أو بالاستبدال.</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1717"/>
                </a:solidFill>
                <a:latin typeface="Verdana"/>
              </a:rPr>
              <a:t>ب- تطوير تنظيم المناهج المدرسية .</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1717"/>
                </a:solidFill>
                <a:latin typeface="Verdana"/>
              </a:rPr>
              <a:t>ت- تطو</a:t>
            </a:r>
            <a:r>
              <a:rPr b="0" lang="ar-IQ" sz="3200" spc="-1" strike="noStrike">
                <a:solidFill>
                  <a:srgbClr val="171717"/>
                </a:solidFill>
                <a:latin typeface="Verdana"/>
              </a:rPr>
              <a:t>ر</a:t>
            </a:r>
            <a:r>
              <a:rPr b="0" lang="ar-SA" sz="3200" spc="-1" strike="noStrike">
                <a:solidFill>
                  <a:srgbClr val="171717"/>
                </a:solidFill>
                <a:latin typeface="Verdana"/>
              </a:rPr>
              <a:t> نظام الدراسة. </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1717"/>
                </a:solidFill>
                <a:latin typeface="Verdana"/>
              </a:rPr>
              <a:t>ث- تعديل السلم التعليمي.</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1717"/>
                </a:solidFill>
                <a:latin typeface="Verdana"/>
              </a:rPr>
              <a:t>ج- المدارس الشاملة لاهتمامها بميول وقدرات الطلاب.</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1717"/>
                </a:solidFill>
                <a:latin typeface="Verdana"/>
              </a:rPr>
              <a:t>ح- تطوير النظم التعليمية من طرائق التدريس وامتحانات.. الخ</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2008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عوائق تطوير المناهج</a:t>
            </a:r>
            <a:br>
              <a:rPr sz="2400"/>
            </a:br>
            <a:r>
              <a:rPr b="0" lang="ar-SA" sz="2400" spc="-1" strike="noStrike">
                <a:solidFill>
                  <a:srgbClr val="171717"/>
                </a:solidFill>
                <a:latin typeface="Arial"/>
              </a:rPr>
              <a:t>أ- عدم وجود تحديد دقيق للتغيرات السلوكية المراد إحداثها لدى المتعلمين.</a:t>
            </a:r>
            <a:br>
              <a:rPr sz="2400"/>
            </a:br>
            <a:r>
              <a:rPr b="0" lang="ar-SA" sz="2400" spc="-1" strike="noStrike">
                <a:solidFill>
                  <a:srgbClr val="171717"/>
                </a:solidFill>
                <a:latin typeface="Arial"/>
              </a:rPr>
              <a:t>ب- عدم تهيئة أذهان المعلمين للتغيير.</a:t>
            </a:r>
            <a:br>
              <a:rPr sz="2400"/>
            </a:br>
            <a:r>
              <a:rPr b="0" lang="ar-SA" sz="2400" spc="-1" strike="noStrike">
                <a:solidFill>
                  <a:srgbClr val="171717"/>
                </a:solidFill>
                <a:latin typeface="Arial"/>
              </a:rPr>
              <a:t>ت- مقاومة أولياء الأمور الذين درسوا وفق المناهج القديمة. </a:t>
            </a:r>
            <a:br>
              <a:rPr sz="2400"/>
            </a:br>
            <a:r>
              <a:rPr b="0" lang="ar-SA" sz="2400" spc="-1" strike="noStrike">
                <a:solidFill>
                  <a:srgbClr val="171717"/>
                </a:solidFill>
                <a:latin typeface="Arial"/>
              </a:rPr>
              <a:t>ث- النقص في الإمكانات المادية.</a:t>
            </a:r>
            <a:br>
              <a:rPr sz="2400"/>
            </a:br>
            <a:r>
              <a:rPr b="0" lang="ar-SA" sz="2400" spc="-1" strike="noStrike">
                <a:solidFill>
                  <a:srgbClr val="171717"/>
                </a:solidFill>
                <a:latin typeface="Arial"/>
              </a:rPr>
              <a:t>ج- قلة الخبراء في ميادين المناهج المختلفة.</a:t>
            </a:r>
            <a:br>
              <a:rPr sz="2400"/>
            </a:br>
            <a:endParaRPr b="0" lang="en-US" sz="2400" spc="-1" strike="noStrike">
              <a:solidFill>
                <a:srgbClr val="ffffcc"/>
              </a:solidFill>
              <a:latin typeface="Arial"/>
            </a:endParaRPr>
          </a:p>
        </p:txBody>
      </p:sp>
      <p:sp>
        <p:nvSpPr>
          <p:cNvPr id="386"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7" name="AutoShape 10"/>
          <p:cNvSpPr/>
          <p:nvPr/>
        </p:nvSpPr>
        <p:spPr>
          <a:xfrm>
            <a:off x="714240" y="2500200"/>
            <a:ext cx="795600" cy="3857760"/>
          </a:xfrm>
          <a:custGeom>
            <a:avLst/>
            <a:gdLst>
              <a:gd name="textAreaLeft" fmla="*/ 508320 w 795600"/>
              <a:gd name="textAreaRight" fmla="*/ 795960 w 795600"/>
              <a:gd name="textAreaTop" fmla="*/ 97560 h 3857760"/>
              <a:gd name="textAreaBottom" fmla="*/ 3760200 h 3857760"/>
            </a:gdLst>
            <a:ahLst/>
            <a:rect l="textAreaLeft" t="textAreaTop" r="textAreaRight" b="textAreaBottom"/>
            <a:pathLst>
              <a:path w="21600" h="21600">
                <a:moveTo>
                  <a:pt x="21600" y="0"/>
                </a:moveTo>
                <a:cubicBezTo>
                  <a:pt x="16200" y="0"/>
                  <a:pt x="10800" y="875"/>
                  <a:pt x="10800" y="1750"/>
                </a:cubicBezTo>
                <a:lnTo>
                  <a:pt x="10800" y="8883"/>
                </a:lnTo>
                <a:cubicBezTo>
                  <a:pt x="10800" y="9758"/>
                  <a:pt x="5400" y="10633"/>
                  <a:pt x="0" y="10633"/>
                </a:cubicBezTo>
                <a:cubicBezTo>
                  <a:pt x="5400" y="10633"/>
                  <a:pt x="10800" y="11508"/>
                  <a:pt x="10800" y="12383"/>
                </a:cubicBezTo>
                <a:lnTo>
                  <a:pt x="10800" y="19850"/>
                </a:lnTo>
                <a:cubicBezTo>
                  <a:pt x="10800" y="20725"/>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8" name="AutoShape 11"/>
          <p:cNvSpPr/>
          <p:nvPr/>
        </p:nvSpPr>
        <p:spPr>
          <a:xfrm>
            <a:off x="7904160" y="2428920"/>
            <a:ext cx="739800" cy="3929040"/>
          </a:xfrm>
          <a:custGeom>
            <a:avLst/>
            <a:gdLst>
              <a:gd name="textAreaLeft" fmla="*/ 0 w 739800"/>
              <a:gd name="textAreaRight" fmla="*/ 267120 w 739800"/>
              <a:gd name="textAreaTop" fmla="*/ 106200 h 3929040"/>
              <a:gd name="textAreaBottom" fmla="*/ 3822840 h 3929040"/>
            </a:gdLst>
            <a:ahLst/>
            <a:rect l="textAreaLeft" t="textAreaTop" r="textAreaRight" b="textAreaBottom"/>
            <a:pathLst>
              <a:path w="21600" h="21600">
                <a:moveTo>
                  <a:pt x="0" y="0"/>
                </a:moveTo>
                <a:cubicBezTo>
                  <a:pt x="5400" y="0"/>
                  <a:pt x="10800" y="934"/>
                  <a:pt x="10800" y="1867"/>
                </a:cubicBezTo>
                <a:lnTo>
                  <a:pt x="10800" y="8933"/>
                </a:lnTo>
                <a:cubicBezTo>
                  <a:pt x="10800" y="9867"/>
                  <a:pt x="16200" y="10800"/>
                  <a:pt x="21600" y="10800"/>
                </a:cubicBezTo>
                <a:cubicBezTo>
                  <a:pt x="16200" y="10800"/>
                  <a:pt x="10800" y="11734"/>
                  <a:pt x="10800" y="12667"/>
                </a:cubicBezTo>
                <a:lnTo>
                  <a:pt x="10800" y="19733"/>
                </a:lnTo>
                <a:cubicBezTo>
                  <a:pt x="10800" y="20667"/>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9" name="Text Box 27"/>
          <p:cNvSpPr/>
          <p:nvPr/>
        </p:nvSpPr>
        <p:spPr>
          <a:xfrm>
            <a:off x="1112760" y="2511360"/>
            <a:ext cx="710244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الفروق رئيسية بين </a:t>
            </a:r>
            <a:r>
              <a:rPr b="0" lang="ar-SA" sz="2400" spc="-1" strike="noStrike" u="sng">
                <a:solidFill>
                  <a:srgbClr val="ffff00"/>
                </a:solidFill>
                <a:uFillTx/>
                <a:latin typeface="Verdana"/>
              </a:rPr>
              <a:t>التغيير</a:t>
            </a:r>
            <a:r>
              <a:rPr b="0" lang="ar-SA" sz="2400" spc="-1" strike="noStrike">
                <a:solidFill>
                  <a:srgbClr val="ffff00"/>
                </a:solidFill>
                <a:latin typeface="Verdana"/>
              </a:rPr>
              <a:t> و</a:t>
            </a:r>
            <a:r>
              <a:rPr b="0" lang="ar-SA" sz="2400" spc="-1" strike="noStrike" u="sng">
                <a:solidFill>
                  <a:srgbClr val="ffff00"/>
                </a:solidFill>
                <a:uFillTx/>
                <a:latin typeface="Verdana"/>
              </a:rPr>
              <a:t>التطوير</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  فالتغيير الذي قد يحدث يتجه نحو الأفضل أو نحو الأسوأ بنما التطوير المبنى على أساس علمي يؤدى الى التحسن والتقدم</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 التغيير في بعض الأحيان يكون بإرادة الإنسان وقد يتم بدون إرادة الإنسان وذلك عندما يكون السبب في ذلك عوامل خارجية ليس الإنسان دخل فيها والدليل التغيرات الجغرافية التي تحدث في بعض المناطق أما التطوير فلا يحدث إلا بإرادة الإنسان.</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 التغيير جزئي إذ ينصب على جانب معين أو نقطة محددة بينما التطوير شامل ينصب على جميع جوانب الموضوع أو الشيء.</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650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b7"/>
                </a:solidFill>
                <a:latin typeface="Arial Black"/>
              </a:rPr>
              <a:t>وأخيرا يمكننا أن نسلط الضوء على نوعين من المنهج هما:</a:t>
            </a:r>
            <a:endParaRPr b="1" lang="en-US" sz="2800" spc="-1" strike="noStrike">
              <a:solidFill>
                <a:srgbClr val="ffffb7"/>
              </a:solidFill>
              <a:latin typeface="Arial Black"/>
            </a:endParaRPr>
          </a:p>
        </p:txBody>
      </p:sp>
      <p:sp>
        <p:nvSpPr>
          <p:cNvPr id="391"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2" name="AutoShape 10"/>
          <p:cNvSpPr/>
          <p:nvPr/>
        </p:nvSpPr>
        <p:spPr>
          <a:xfrm>
            <a:off x="561960" y="1928880"/>
            <a:ext cx="795240" cy="4429080"/>
          </a:xfrm>
          <a:custGeom>
            <a:avLst/>
            <a:gdLst>
              <a:gd name="textAreaLeft" fmla="*/ 507960 w 795240"/>
              <a:gd name="textAreaRight" fmla="*/ 795600 w 795240"/>
              <a:gd name="textAreaTop" fmla="*/ 97560 h 4429080"/>
              <a:gd name="textAreaBottom" fmla="*/ 4331520 h 4429080"/>
            </a:gdLst>
            <a:ahLst/>
            <a:rect l="textAreaLeft" t="textAreaTop" r="textAreaRight" b="textAreaBottom"/>
            <a:pathLst>
              <a:path w="21600" h="21600">
                <a:moveTo>
                  <a:pt x="21600" y="0"/>
                </a:moveTo>
                <a:cubicBezTo>
                  <a:pt x="16200" y="0"/>
                  <a:pt x="10800" y="762"/>
                  <a:pt x="10800" y="1524"/>
                </a:cubicBezTo>
                <a:lnTo>
                  <a:pt x="10800" y="9109"/>
                </a:lnTo>
                <a:cubicBezTo>
                  <a:pt x="10800" y="9871"/>
                  <a:pt x="5400" y="10633"/>
                  <a:pt x="0" y="10633"/>
                </a:cubicBezTo>
                <a:cubicBezTo>
                  <a:pt x="5400" y="10633"/>
                  <a:pt x="10800" y="11395"/>
                  <a:pt x="10800" y="12157"/>
                </a:cubicBezTo>
                <a:lnTo>
                  <a:pt x="10800" y="20076"/>
                </a:lnTo>
                <a:cubicBezTo>
                  <a:pt x="10800" y="20838"/>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3" name="AutoShape 11"/>
          <p:cNvSpPr/>
          <p:nvPr/>
        </p:nvSpPr>
        <p:spPr>
          <a:xfrm>
            <a:off x="8047080" y="1874880"/>
            <a:ext cx="739800" cy="4483080"/>
          </a:xfrm>
          <a:custGeom>
            <a:avLst/>
            <a:gdLst>
              <a:gd name="textAreaLeft" fmla="*/ 0 w 739800"/>
              <a:gd name="textAreaRight" fmla="*/ 267120 w 739800"/>
              <a:gd name="textAreaTop" fmla="*/ 106200 h 4483080"/>
              <a:gd name="textAreaBottom" fmla="*/ 4376880 h 4483080"/>
            </a:gdLst>
            <a:ahLst/>
            <a:rect l="textAreaLeft" t="textAreaTop" r="textAreaRight" b="textAreaBottom"/>
            <a:pathLst>
              <a:path w="21600" h="21600">
                <a:moveTo>
                  <a:pt x="0" y="0"/>
                </a:moveTo>
                <a:cubicBezTo>
                  <a:pt x="5400" y="0"/>
                  <a:pt x="10800" y="818"/>
                  <a:pt x="10800" y="1636"/>
                </a:cubicBezTo>
                <a:lnTo>
                  <a:pt x="10800" y="9164"/>
                </a:lnTo>
                <a:cubicBezTo>
                  <a:pt x="10800" y="9982"/>
                  <a:pt x="16200" y="10800"/>
                  <a:pt x="21600" y="10800"/>
                </a:cubicBezTo>
                <a:cubicBezTo>
                  <a:pt x="16200" y="10800"/>
                  <a:pt x="10800" y="11618"/>
                  <a:pt x="10800" y="12436"/>
                </a:cubicBezTo>
                <a:lnTo>
                  <a:pt x="10800" y="19964"/>
                </a:lnTo>
                <a:cubicBezTo>
                  <a:pt x="10800" y="20782"/>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4" name="Text Box 27"/>
          <p:cNvSpPr/>
          <p:nvPr/>
        </p:nvSpPr>
        <p:spPr>
          <a:xfrm>
            <a:off x="1184400" y="1785960"/>
            <a:ext cx="7102440" cy="6249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 </a:t>
            </a:r>
            <a:r>
              <a:rPr b="0" lang="ar-SA" sz="2800" spc="-1" strike="noStrike">
                <a:solidFill>
                  <a:srgbClr val="000000"/>
                </a:solidFill>
                <a:latin typeface="Verdana"/>
              </a:rPr>
              <a:t>- المنهج الظاهر أو الرسمي: وهو المنهج الذي صمم بشكل مدروس ومقصود لتحقيق أهداف معينة معرفية ومهارية ووجدانية وبالتالي فأن معظم ما يكتسبه المتعلمون يكون نتيجة لتفاعلهم المنظم والمخطط مع عناصر ذلك المنهج.</a:t>
            </a:r>
            <a:endParaRPr b="0" lang="en-US" sz="28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منهج الخفي أو غير الرسمي: وهو منهج موازي يمثل الخبرات والمعارف والقيم والسلوكيات كافة التي يقوم بها المتعلم خارج غرفة الدرس أوالمنهج المقرر ومن دون علم المعلم أو إشرافه فهو تعلم غير مقصود أو تعلم مصاحب ويكون تأثيره أكثر من المنهج الرسمي المكتوب كما يصعب تقويمه.</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4-20T18:34:13Z</dcterms:modified>
  <cp:revision>42</cp:revision>
  <dc:subject/>
  <dc:title>وزارة التعليم العالي والبحث العلمي جامعة بغداد بالتعاون مع منظمة</dc:title>
</cp:coreProperties>
</file>