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B3D55-AC30-4E2B-8EA8-CFD275787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A8F1C-CD46-4B9B-BD2B-37524FB7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7B820-0C95-4F48-84BA-3627BB14D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72645-EA80-441B-87E3-D0AED3072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0DEDA-E22C-41B6-9F22-36580C43F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274B7-5787-468F-9C03-95252ECCC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AD30E-BF3B-453B-8F93-D01E7CCCE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E10BF-7834-4721-8BF6-E19DC300C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7E39F-AD16-45ED-8D1E-61FC7F96D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FF025-C55F-4DB5-AC79-5B6AC9FBE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3FEB8-EE1C-41ED-8DFB-8BF980A4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0C013-0187-4312-9618-1D9F2CE60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71752-2226-4060-8746-96006D71D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F44C9-3BFD-42FB-AF6C-CC04B0202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8D767-B088-4BDF-9223-209ACCED6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76CC5-8260-486D-9DA0-7E74CB3C8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288CF-489D-4EEF-A5E0-586B7CE27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C281E-80BE-4A29-9E27-0732348DDF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2E0E56-7739-4E36-AD62-F1494635B4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2F39FC-EF42-4F29-889F-C1866C0D81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B57FE-824E-45AD-A6C1-A136A1226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53A55-9625-4FF4-9C94-6F62B9519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744C7-A750-47E8-8718-605EF7751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54964-3300-4040-8689-3CFAD2F11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3E33A-B819-4936-9606-33AB0107A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DCEAD-19CE-4F59-89A3-251824958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E660A-C408-46CC-B7A4-4C875796F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2DCA7-67D6-4EC1-91F3-170179BE4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E06420-9C5B-457E-9027-C001E88EBB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0C0CF2-4582-4E02-8D64-1791CA994C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9303C5-539B-48B6-97F5-14662630A3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FB46A-CB74-4A42-BAAF-C8E69C1759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566DD8-48E4-4879-BE31-6A50734BD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FF289-24EE-4002-AF01-BE471CFC0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03633-8CD1-4081-BD78-4828F771C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7ED174-6AD5-4093-A492-C6D8DED0F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9E9C9-98CD-4513-9A8F-7ED6FB37FE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DC08E-C673-4B04-8B4F-0B994FC17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9C89B-4A19-462F-B32C-0873E7E53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0BB56-AA08-4DA3-B11C-C852C4B2B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A538BB-8B8F-4FF4-ADD5-7E914F658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CC31B-89D9-44A9-8E1E-8F78F406D6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690719-2BB3-40A0-B4A1-B0AAD39B36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B34FF1-FE7A-4C18-8A11-2F7B32E9B8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BFB1C-C930-4ADF-9ED9-AE8703BBF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BE7C6-2CE9-4277-8D79-5F32D625D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A10AA6-0DB2-4D63-A042-B0C1D780AC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35026-D6B7-4ED4-9F90-9A3A359CB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BBDC4-BB5E-430E-A64F-55AB77009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DCBEB6-399D-4C39-B13B-BE6C1593B4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4A11A-688F-4AB8-AE22-946D787297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5A733-FA15-4735-BD1C-5B5D9A73EE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267436-A5B6-4ECC-9068-ABAB4271F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C88F9E-E942-4B39-A8E8-3B8F6EDF6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83FE3E-7B3E-472D-8941-40DEBBDBC5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23CB4-31F3-41BE-8A4B-222501672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7B899-BC03-4FBB-A0D4-BBDB2E8BFC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471ACB-D14A-4DCE-A943-532ADC62B4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F52A1F-1466-47C0-B547-8311F17CD1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CC814F-2902-4506-B82F-9100A0AE3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C41B53-CD3E-4C03-BF3A-6C058623AC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0EED3-B79B-4A77-A521-2AD8293011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A513C1-FBCB-4B7C-9B8E-534F37CE1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0008B-B6CF-4A7E-8E28-32089A42E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45F79-471B-4FE0-953D-510185B38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F4D4D-3891-46E7-90E5-E1DD97B3D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507F0-422E-430C-AC3E-4B331BB91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1CB723-2BC1-475A-826C-F69047C71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7732E2-9F51-4104-B6D9-6709A4869A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8E3C5D-E395-4EE1-AB2C-E5CC65D4B5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D2D5-A708-4372-AFF9-065FD7B10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4DC05-065E-44E5-9CDF-C44020A43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3DE9-A083-48EA-92C3-53749A87000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A2E6-B6B4-435C-AECB-B2C06760CA4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BCF6-9752-4731-BD01-5899F27536F8}"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8EC4-61E2-47D1-BBC2-DB9474819D0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75E0-5B16-4008-8FCE-437CFD87422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1577-2B41-4FA2-B11B-10A5E613170D}"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28920" y="1643040"/>
            <a:ext cx="6229440" cy="3857760"/>
          </a:xfrm>
          <a:prstGeom prst="rect">
            <a:avLst/>
          </a:prstGeom>
          <a:solidFill>
            <a:srgbClr val="ffff66"/>
          </a:solidFill>
          <a:ln w="9360">
            <a:solidFill>
              <a:srgbClr val="ff0000"/>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000000"/>
                </a:solidFill>
                <a:latin typeface="Arial"/>
              </a:rPr>
              <a:t>أ- الأسس الفلسفية.</a:t>
            </a:r>
            <a:br>
              <a:rPr sz="4800"/>
            </a:br>
            <a:r>
              <a:rPr b="1" lang="ar-IQ" sz="4800" spc="-1" strike="noStrike">
                <a:solidFill>
                  <a:srgbClr val="000000"/>
                </a:solidFill>
                <a:latin typeface="Arial"/>
              </a:rPr>
              <a:t>ب- الأسس النفسية.</a:t>
            </a:r>
            <a:br>
              <a:rPr sz="4800"/>
            </a:br>
            <a:r>
              <a:rPr b="1" lang="ar-IQ" sz="4800" spc="-1" strike="noStrike">
                <a:solidFill>
                  <a:srgbClr val="000000"/>
                </a:solidFill>
                <a:latin typeface="Arial"/>
              </a:rPr>
              <a:t>ت- الأسس الاجتماعية.</a:t>
            </a:r>
            <a:br>
              <a:rPr sz="4800"/>
            </a:br>
            <a:r>
              <a:rPr b="1" lang="ar-IQ" sz="4800" spc="-1" strike="noStrike">
                <a:solidFill>
                  <a:srgbClr val="000000"/>
                </a:solidFill>
                <a:latin typeface="Arial"/>
              </a:rPr>
              <a:t>ث- الأسس المعرفية.</a:t>
            </a:r>
            <a:br>
              <a:rPr sz="2800"/>
            </a:br>
            <a:endParaRPr b="0" lang="en-US" sz="4800" spc="-1" strike="noStrike">
              <a:solidFill>
                <a:srgbClr val="ffff99"/>
              </a:solidFill>
              <a:latin typeface="Arial"/>
            </a:endParaRPr>
          </a:p>
        </p:txBody>
      </p:sp>
      <p:sp>
        <p:nvSpPr>
          <p:cNvPr id="374" name="PlaceHolder 2"/>
          <p:cNvSpPr>
            <a:spLocks noGrp="1"/>
          </p:cNvSpPr>
          <p:nvPr>
            <p:ph/>
          </p:nvPr>
        </p:nvSpPr>
        <p:spPr>
          <a:xfrm>
            <a:off x="457200" y="228240"/>
            <a:ext cx="8229600" cy="609480"/>
          </a:xfrm>
          <a:prstGeom prst="rect">
            <a:avLst/>
          </a:prstGeom>
          <a:solidFill>
            <a:srgbClr val="ffffff"/>
          </a:solidFill>
          <a:ln w="0">
            <a:noFill/>
          </a:ln>
        </p:spPr>
        <p:txBody>
          <a:bodyPr anchor="t">
            <a:normAutofit fontScale="94000"/>
          </a:bodyPr>
          <a:p>
            <a:pPr marL="322200" indent="-322200" algn="ct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Verdana"/>
              </a:rPr>
              <a:t>أسس بناء المنهج</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6" name="AutoShape 10"/>
          <p:cNvSpPr/>
          <p:nvPr/>
        </p:nvSpPr>
        <p:spPr>
          <a:xfrm>
            <a:off x="0" y="428760"/>
            <a:ext cx="795240" cy="6143400"/>
          </a:xfrm>
          <a:custGeom>
            <a:avLst/>
            <a:gdLst>
              <a:gd name="textAreaLeft" fmla="*/ 507960 w 795240"/>
              <a:gd name="textAreaRight" fmla="*/ 795600 w 795240"/>
              <a:gd name="textAreaTop" fmla="*/ 97560 h 6143400"/>
              <a:gd name="textAreaBottom" fmla="*/ 6045840 h 6143400"/>
            </a:gdLst>
            <a:ahLst/>
            <a:rect l="textAreaLeft" t="textAreaTop" r="textAreaRight" b="textAreaBottom"/>
            <a:pathLst>
              <a:path w="21600" h="21600">
                <a:moveTo>
                  <a:pt x="21600" y="0"/>
                </a:moveTo>
                <a:cubicBezTo>
                  <a:pt x="16200" y="0"/>
                  <a:pt x="10800" y="550"/>
                  <a:pt x="10800" y="1099"/>
                </a:cubicBezTo>
                <a:lnTo>
                  <a:pt x="10800" y="9534"/>
                </a:lnTo>
                <a:cubicBezTo>
                  <a:pt x="10800" y="10084"/>
                  <a:pt x="5400" y="10633"/>
                  <a:pt x="0" y="10633"/>
                </a:cubicBezTo>
                <a:cubicBezTo>
                  <a:pt x="5400" y="10633"/>
                  <a:pt x="10800" y="11183"/>
                  <a:pt x="10800" y="11732"/>
                </a:cubicBezTo>
                <a:lnTo>
                  <a:pt x="10800" y="20501"/>
                </a:lnTo>
                <a:cubicBezTo>
                  <a:pt x="10800" y="21051"/>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7" name="AutoShape 11"/>
          <p:cNvSpPr/>
          <p:nvPr/>
        </p:nvSpPr>
        <p:spPr>
          <a:xfrm>
            <a:off x="8047080" y="357120"/>
            <a:ext cx="739800" cy="6215040"/>
          </a:xfrm>
          <a:custGeom>
            <a:avLst/>
            <a:gdLst>
              <a:gd name="textAreaLeft" fmla="*/ 0 w 739800"/>
              <a:gd name="textAreaRight" fmla="*/ 267120 w 739800"/>
              <a:gd name="textAreaTop" fmla="*/ 106200 h 6215040"/>
              <a:gd name="textAreaBottom" fmla="*/ 6108840 h 6215040"/>
            </a:gdLst>
            <a:ahLst/>
            <a:rect l="textAreaLeft" t="textAreaTop" r="textAreaRight" b="textAreaBottom"/>
            <a:pathLst>
              <a:path w="21600" h="21600">
                <a:moveTo>
                  <a:pt x="0" y="0"/>
                </a:moveTo>
                <a:cubicBezTo>
                  <a:pt x="5400" y="0"/>
                  <a:pt x="10800" y="590"/>
                  <a:pt x="10800" y="1180"/>
                </a:cubicBezTo>
                <a:lnTo>
                  <a:pt x="10800" y="9620"/>
                </a:lnTo>
                <a:cubicBezTo>
                  <a:pt x="10800" y="10210"/>
                  <a:pt x="16200" y="10800"/>
                  <a:pt x="21600" y="10800"/>
                </a:cubicBezTo>
                <a:cubicBezTo>
                  <a:pt x="16200" y="10800"/>
                  <a:pt x="10800" y="11390"/>
                  <a:pt x="10800" y="11980"/>
                </a:cubicBezTo>
                <a:lnTo>
                  <a:pt x="10800" y="20420"/>
                </a:lnTo>
                <a:cubicBezTo>
                  <a:pt x="10800" y="2101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8" name="Text Box 27"/>
          <p:cNvSpPr/>
          <p:nvPr/>
        </p:nvSpPr>
        <p:spPr>
          <a:xfrm>
            <a:off x="755640" y="214200"/>
            <a:ext cx="7102440" cy="777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أ- الأسس الفلسفية.</a:t>
            </a:r>
            <a:endParaRPr b="0" lang="en-US" sz="28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e"/>
                </a:solidFill>
                <a:latin typeface="Verdana"/>
              </a:rPr>
              <a:t>يقوم  كل منهاج على فلسفة تربوية تنبثق عن فلسفة المجتمع وتتصل بها اتصالا وثيقاً، وتعمل المدرسة على خدمة المجتمع عن طريق صياغة مناهجها وطرق تدريسه في ضوء فلسفة التربية وفلسفة المجتمع معاً.</a:t>
            </a:r>
            <a:endParaRPr b="0" lang="en-US" sz="28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9e"/>
                </a:solidFill>
                <a:latin typeface="Verdana"/>
              </a:rPr>
              <a:t>إن كلمة الفلسفة </a:t>
            </a:r>
            <a:r>
              <a:rPr b="0" lang="en-US" sz="2800" spc="-1" strike="noStrike">
                <a:solidFill>
                  <a:srgbClr val="ffff9e"/>
                </a:solidFill>
                <a:latin typeface="Verdana"/>
              </a:rPr>
              <a:t>Philosophy</a:t>
            </a:r>
            <a:r>
              <a:rPr b="0" lang="ar-IQ" sz="2800" spc="-1" strike="noStrike">
                <a:solidFill>
                  <a:srgbClr val="ffff9e"/>
                </a:solidFill>
                <a:latin typeface="Verdana"/>
              </a:rPr>
              <a:t> مشتقة من كلمتين يونانيتين هما (</a:t>
            </a:r>
            <a:r>
              <a:rPr b="0" lang="en-US" sz="2800" spc="-1" strike="noStrike">
                <a:solidFill>
                  <a:srgbClr val="ffff9e"/>
                </a:solidFill>
                <a:latin typeface="Verdana"/>
              </a:rPr>
              <a:t>Philo</a:t>
            </a:r>
            <a:r>
              <a:rPr b="0" lang="ar-IQ" sz="2800" spc="-1" strike="noStrike">
                <a:solidFill>
                  <a:srgbClr val="ffff9e"/>
                </a:solidFill>
                <a:latin typeface="Verdana"/>
              </a:rPr>
              <a:t>) وتعني (حب)  أو (محب) و (</a:t>
            </a:r>
            <a:r>
              <a:rPr b="0" lang="en-US" sz="2800" spc="-1" strike="noStrike">
                <a:solidFill>
                  <a:srgbClr val="ffff9e"/>
                </a:solidFill>
                <a:latin typeface="Verdana"/>
              </a:rPr>
              <a:t> </a:t>
            </a:r>
            <a:r>
              <a:rPr b="0" lang="en-US" sz="2800" spc="-1" strike="noStrike">
                <a:solidFill>
                  <a:srgbClr val="ffff9e"/>
                </a:solidFill>
                <a:latin typeface="Verdana"/>
              </a:rPr>
              <a:t>Sophy</a:t>
            </a:r>
            <a:r>
              <a:rPr b="0" lang="ar-IQ" sz="2800" spc="-1" strike="noStrike">
                <a:solidFill>
                  <a:srgbClr val="ffff9e"/>
                </a:solidFill>
                <a:latin typeface="Verdana"/>
              </a:rPr>
              <a:t>) وتعني الحكمة أو المعرفة فيكون معنى الكلمة حب الحكمة أو المعرفة . </a:t>
            </a:r>
            <a:endParaRPr b="0" lang="en-US" sz="28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9e"/>
                </a:solidFill>
                <a:latin typeface="Verdana"/>
              </a:rPr>
              <a:t>وتعرف الفلسفة بأنها: طريقة الحياة التي يختارها الإنسان نفسه والقيم والمثل التي يؤمن بها نتيجة خبرته في الحياة لكي يعيش بأفضل صورة ممكنة . </a:t>
            </a:r>
            <a:endParaRPr b="0" lang="en-US" sz="28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9e"/>
                </a:solidFill>
                <a:latin typeface="Verdana"/>
              </a:rPr>
              <a:t>وترتبط الفلسفة بالتربية بعلاقة متينة فهما وجهان لشيء واحد إذ تمثل الفلسفة الجزء النظري للتربية والتربية تمثل الجانب التطبيقي أوالعملي للفلسفة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7938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Narrow"/>
              </a:rPr>
              <a:t>الفلسفات التربوية المؤثرة في المنهج</a:t>
            </a:r>
            <a:endParaRPr b="0" lang="en-US" sz="3600" spc="-1" strike="noStrike">
              <a:solidFill>
                <a:srgbClr val="ffffcc"/>
              </a:solidFill>
              <a:latin typeface="Arial"/>
            </a:endParaRPr>
          </a:p>
        </p:txBody>
      </p:sp>
      <p:sp>
        <p:nvSpPr>
          <p:cNvPr id="380"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1" name="Text Box 27"/>
          <p:cNvSpPr/>
          <p:nvPr/>
        </p:nvSpPr>
        <p:spPr>
          <a:xfrm>
            <a:off x="142920" y="1000080"/>
            <a:ext cx="8786880" cy="826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9e"/>
                </a:solidFill>
                <a:latin typeface="Verdana"/>
              </a:rPr>
              <a:t>- الفلسفة المثالية: </a:t>
            </a:r>
            <a:r>
              <a:rPr b="1" lang="ar-IQ" sz="2400" spc="-1" strike="noStrike">
                <a:solidFill>
                  <a:srgbClr val="ffff9e"/>
                </a:solidFill>
                <a:latin typeface="Verdana"/>
              </a:rPr>
              <a:t>وتعود أصول هذه الفلسفة إلى (أفلاطون) إذ اعتقد بوجود عالمين العالم الحقيقي الذي توجد فيه الأفكار الحقيقة المثالية الثابتة والعالم الواقعي الذي نعيشه وهو ظل للعالم الحقيقي وتقوم المثالية على تمجيد العقل والروح والمثل والتقليل من أهمية المادة والماديات، وتركز على مواد الدراسة مثل الأدب والدين والفلسفة والرياضيات والمنطق وترى بان المنهج ثابت غير قابل للتطوير لان المعرفة التي توصل إليها الأوائل ثابتة ومطلقة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9e"/>
                </a:solidFill>
                <a:latin typeface="Verdana"/>
              </a:rPr>
              <a:t>- الفلسفة التقدمية أو البراجماتية: </a:t>
            </a:r>
            <a:r>
              <a:rPr b="1" lang="ar-IQ" sz="2400" spc="-1" strike="noStrike">
                <a:solidFill>
                  <a:srgbClr val="ffff9e"/>
                </a:solidFill>
                <a:latin typeface="Verdana"/>
              </a:rPr>
              <a:t>وتؤمن هذه الفلسفة بالتغير المستمر وان الحقائق المطلقة الثابتة لا وجود لها، ويعد المفكر الأمريكي (جون ديوي) هو المجدد لأفكار الفلسفة البراجماتية إذ استطاع أن يحول أفكارها إلى تطبيقات في مجالات الحياة، واهم أفكارها إنكار خلود المثل والقيم وتأكيد استمرار التغيير، وان الإنسان يصنع مثله بنفسه ويبحث عن الحقيقة لنفسه لأنه هو الذي يجرب ويبحث.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9e"/>
                </a:solidFill>
                <a:latin typeface="Verdana"/>
              </a:rPr>
              <a:t>والمنهج بنظر البراجماتية منهج مرن قابل للتغير والنمو ويبنى على أساس تعاوني وعلى أساس الخبرات الصحيحة والجديدة، ولا يهتم المنهج بالحفظ والتكرار وملئ عقول الطلبة بالحقائق الثابتة المطلقة بل يهتم بتنظيم خبرات جديدة نافعة.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5792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Arial"/>
              </a:rPr>
              <a:t>ب- الأسس النفسية</a:t>
            </a:r>
            <a:endParaRPr b="0" lang="en-US" sz="3600" spc="-1" strike="noStrike">
              <a:solidFill>
                <a:srgbClr val="ffffcc"/>
              </a:solidFill>
              <a:latin typeface="Arial"/>
            </a:endParaRPr>
          </a:p>
        </p:txBody>
      </p:sp>
      <p:sp>
        <p:nvSpPr>
          <p:cNvPr id="383"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4" name="AutoShape 10"/>
          <p:cNvSpPr/>
          <p:nvPr/>
        </p:nvSpPr>
        <p:spPr>
          <a:xfrm>
            <a:off x="276120" y="1000080"/>
            <a:ext cx="795600" cy="5143680"/>
          </a:xfrm>
          <a:custGeom>
            <a:avLst/>
            <a:gdLst>
              <a:gd name="textAreaLeft" fmla="*/ 508320 w 795600"/>
              <a:gd name="textAreaRight" fmla="*/ 795960 w 795600"/>
              <a:gd name="textAreaTop" fmla="*/ 97560 h 5143680"/>
              <a:gd name="textAreaBottom" fmla="*/ 5046120 h 5143680"/>
            </a:gdLst>
            <a:ahLst/>
            <a:rect l="textAreaLeft" t="textAreaTop" r="textAreaRight" b="textAreaBottom"/>
            <a:pathLst>
              <a:path w="21600" h="21600">
                <a:moveTo>
                  <a:pt x="21600" y="0"/>
                </a:moveTo>
                <a:cubicBezTo>
                  <a:pt x="16200" y="0"/>
                  <a:pt x="10800" y="656"/>
                  <a:pt x="10800" y="1312"/>
                </a:cubicBezTo>
                <a:lnTo>
                  <a:pt x="10800" y="9321"/>
                </a:lnTo>
                <a:cubicBezTo>
                  <a:pt x="10800" y="9977"/>
                  <a:pt x="5400" y="10633"/>
                  <a:pt x="0" y="10633"/>
                </a:cubicBezTo>
                <a:cubicBezTo>
                  <a:pt x="5400" y="10633"/>
                  <a:pt x="10800" y="11289"/>
                  <a:pt x="10800" y="11945"/>
                </a:cubicBezTo>
                <a:lnTo>
                  <a:pt x="10800" y="20288"/>
                </a:lnTo>
                <a:cubicBezTo>
                  <a:pt x="10800" y="20944"/>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5" name="AutoShape 11"/>
          <p:cNvSpPr/>
          <p:nvPr/>
        </p:nvSpPr>
        <p:spPr>
          <a:xfrm>
            <a:off x="8404200" y="928800"/>
            <a:ext cx="739800" cy="5286240"/>
          </a:xfrm>
          <a:custGeom>
            <a:avLst/>
            <a:gdLst>
              <a:gd name="textAreaLeft" fmla="*/ 0 w 739800"/>
              <a:gd name="textAreaRight" fmla="*/ 267120 w 739800"/>
              <a:gd name="textAreaTop" fmla="*/ 106200 h 5286240"/>
              <a:gd name="textAreaBottom" fmla="*/ 5180040 h 5286240"/>
            </a:gdLst>
            <a:ahLst/>
            <a:rect l="textAreaLeft" t="textAreaTop" r="textAreaRight" b="textAreaBottom"/>
            <a:pathLst>
              <a:path w="21600" h="21600">
                <a:moveTo>
                  <a:pt x="0" y="0"/>
                </a:moveTo>
                <a:cubicBezTo>
                  <a:pt x="5400" y="0"/>
                  <a:pt x="10800" y="694"/>
                  <a:pt x="10800" y="1387"/>
                </a:cubicBezTo>
                <a:lnTo>
                  <a:pt x="10800" y="9413"/>
                </a:lnTo>
                <a:cubicBezTo>
                  <a:pt x="10800" y="10107"/>
                  <a:pt x="16200" y="10800"/>
                  <a:pt x="21600" y="10800"/>
                </a:cubicBezTo>
                <a:cubicBezTo>
                  <a:pt x="16200" y="10800"/>
                  <a:pt x="10800" y="11494"/>
                  <a:pt x="10800" y="12187"/>
                </a:cubicBezTo>
                <a:lnTo>
                  <a:pt x="10800" y="20213"/>
                </a:lnTo>
                <a:cubicBezTo>
                  <a:pt x="10800" y="20907"/>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6" name="Text Box 27"/>
          <p:cNvSpPr/>
          <p:nvPr/>
        </p:nvSpPr>
        <p:spPr>
          <a:xfrm>
            <a:off x="857160" y="928800"/>
            <a:ext cx="7858080" cy="7774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e"/>
                </a:solidFill>
                <a:latin typeface="Verdana"/>
              </a:rPr>
              <a:t>تعنى بالمتعلم من حيث حاجاته وميوله واهتماماته ومرحلة نموه وكيفية تعلمه، </a:t>
            </a:r>
            <a:r>
              <a:rPr b="1" lang="ar-IQ" sz="2400" spc="-1" strike="noStrike">
                <a:solidFill>
                  <a:srgbClr val="ffff9e"/>
                </a:solidFill>
                <a:latin typeface="Verdana"/>
              </a:rPr>
              <a:t>وان كل ما أسفرت عليه دراسات وبحوث سيكولوجية عملية التعلم والتي تفرض نفسها على عملية بناء المنهج وقد ظهرت نظريات نفسية كثيرة حاولت تفسير التعلم ويمكن إجمالها باتجاهين رئيسين هما: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9e"/>
                </a:solidFill>
                <a:latin typeface="Verdana"/>
              </a:rPr>
              <a:t>- الاتجاه السلوكي: ويفسر التعلم على أساس انه وحدة معقدة يمكن تحليلها إلى وحدات بسيطة هي الاستجابات الأولية التي ترتبط بمثيرات محددة، ويرى بان أساس التعلم هو المثيرات الخارجية التي تسبب استجابة للمتعلم.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9e"/>
                </a:solidFill>
                <a:latin typeface="Verdana"/>
              </a:rPr>
              <a:t>- الاتجاه المعرفي: ويفسر التعلم على أساس دراسة العمليات العقلية مثل التذكر والانتباه والاحتفاظ ويؤكد أصحاب النظريات التي تتبع هذا الاتجاه على أهمية الخبرة السابقة بالمواقف والأحداث في أحداث التعلم اللاحق وكذلك أهمية تنظيم الموقف وان تعلم المبادئ دون عملية الفهم يؤدي إلى فشل التعلم.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e"/>
                </a:solidFill>
                <a:latin typeface="Verdana"/>
              </a:rPr>
              <a:t>ومن المهم أن يهتم المنهج بحاجات الطلبة، والحاجات هي: حالة توتر أو اختلال في التوازن، يشعر الفرد بها بخصوص هدف معين، ويرغب في عمل شيء لبلوغ هذا الهدف وإزالة التوتر أو استعادة التوازن</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4-20T19:53:42Z</dcterms:modified>
  <cp:revision>48</cp:revision>
  <dc:subject/>
  <dc:title>وزارة التعليم العالي والبحث العلمي جامعة بغداد بالتعاون مع منظمة</dc:title>
</cp:coreProperties>
</file>