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987-EFD2-45D7-8346-3B9EA374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A2E-16B9-4F1B-8939-2D7DE19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8C0-322F-499F-A648-56EDED17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43A-28DD-4E9A-8420-5E58FDE6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20EF-4C3F-46AE-8DB9-B144B23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4C5-129B-4698-A996-913AF93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E7FD-0D41-4625-BF3F-95C3027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291-4A58-4AF9-BBC1-74FF5CCA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291-0E38-4821-B234-30C0C5C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FBA5-4513-470D-B3AE-4BE7C70A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3EEF-CA6B-4319-A100-54CF1B7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1AC-58A3-4F2B-9633-8DBB988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DDC-A2C3-466B-9F86-66B5BE5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E3DA-40F3-44A0-927B-36A3045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F5B8-418C-4FD9-A96A-94BAE5A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334E-76D3-4625-9B05-D53C2EB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A851-04BC-420E-8213-20B8B57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1DE3-DBD5-41F5-A132-5170B1C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6DE6-4749-494B-A40C-09C503D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01C2-16EE-405D-9FFB-4BC8055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CBD2-D4E5-4AEF-8F36-B2569F31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2B0B-810B-4C17-B530-425B8D99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6CE-19C4-4AF3-A183-274919E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BD63-B14D-41E8-B815-55029B4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4A5A-55EE-4D05-87D2-E87BB44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E02A-0B6A-4960-AFE3-76DC6F0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EE96-3F64-43C5-800C-3E06846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3EF5-FD02-418B-B2B5-64DD08A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1434-3EE5-407A-8C62-159D1C5E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6A37-6954-4776-832C-75893CB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5ADA-4CEE-4765-A8C9-E0B401C3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6672-A453-4AE9-BB18-6E2E227E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A512-425E-46BF-AF43-F21DCDBC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9AF-1DF1-4ED0-AD3F-16DA4C4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2BBD-29F4-4C3B-A4F6-68C8367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85B0-391D-4093-8B60-FFC7FCE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26F1-EEF1-4823-BA81-1668748C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34F7-54A6-4672-9517-3B64B09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A5EE-5DB1-4979-9A15-DE33269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F996-9484-44D1-A39D-5A21FB5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A524-42AA-4E6E-B8B8-F5ADCCF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BC1E-6746-4E2D-A2D5-78C5F763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3154-64E3-422A-A2A6-1478045B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DBA0-4AC7-4C9D-8F21-3A735B0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4C2-A06A-4EC2-AFDA-5DF2113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F971-9808-436D-848F-1D90C37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20B9B-667F-48F8-BF33-00081565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F949-74C9-4279-BB26-43D5CBA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4EDA-5DB1-4F52-AC6B-66537AA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D445-05A8-4E11-B01D-5754908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779A-BDAA-430F-8CCB-CFC33A3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6677-2ED8-4F61-A460-A67DE72E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27101-9BE5-4D5C-ACCE-02FD6AEE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FA1F-9016-4659-9C2A-5A382A3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E9E2-7006-4517-B57B-BE8F8ACE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C61-32DD-470B-BB8F-E650B97B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A696-E789-4253-9FC1-8D44AC6E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6145-131B-4569-AF33-4D884F80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15B9-05F6-495C-8FC4-153E0F5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AA71-5ED1-402B-A3C7-5327A881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FA8F-2212-43C5-A50A-96121897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0766-16C5-426F-B586-D09E4E7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8B73-4E0C-4E1F-8C50-17C74B6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9F1B-6F82-446C-AF1D-74EA1F9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F037-6075-4F59-9FC8-EC93DD00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1487-4D7A-450D-B1C3-F90987E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015-0820-4BFF-B4DF-E8F54017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7795-F482-45D3-9681-395F924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C192-F970-4018-932B-B2E2C7FA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1D8C-5314-4EDA-9DDD-CEEC9816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C1A-BE53-4308-ACCE-0DA1B6E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5E5-80C9-43C9-9CBB-10EA64B5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FFF-F0B9-4E16-87A6-08210295B62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471-EA51-40D6-88E7-0214839F45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A14-B244-4F12-BDDA-196F36AD3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920-CC35-4B9D-BF28-FFBC8F3D320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BA4-B725-42DC-BFE6-BE8368D8F3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0C7-C789-44D8-B6DA-99EBABF15E4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643040"/>
            <a:ext cx="6229440" cy="3857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- الأهداف التربوية</a:t>
            </a:r>
            <a:br>
              <a:rPr sz="2800"/>
            </a:b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2</a:t>
            </a: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- المحتوى.</a:t>
            </a:r>
            <a:br>
              <a:rPr sz="2800"/>
            </a:b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- طريقة التدريس. </a:t>
            </a:r>
            <a:br>
              <a:rPr sz="2800"/>
            </a:b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4</a:t>
            </a: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- الأنشطة والوسائل التعليمية.</a:t>
            </a:r>
            <a:br>
              <a:rPr sz="2800"/>
            </a:b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5</a:t>
            </a:r>
            <a:r>
              <a:rPr b="1" lang="ar-IQ" sz="2800" spc="-1" strike="noStrike">
                <a:solidFill>
                  <a:srgbClr val="3366cc"/>
                </a:solidFill>
                <a:latin typeface="Arial"/>
              </a:rPr>
              <a:t>- التقويم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مكونات أو عناصر المنه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9e"/>
                </a:solidFill>
                <a:latin typeface="Arial"/>
              </a:rPr>
              <a:t>الأهداف التربوية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42920" y="1143000"/>
            <a:ext cx="795240" cy="542916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429160"/>
              <a:gd name="textAreaBottom" fmla="*/ 5331600 h 542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2"/>
                  <a:pt x="10800" y="1243"/>
                </a:cubicBezTo>
                <a:lnTo>
                  <a:pt x="10800" y="9390"/>
                </a:lnTo>
                <a:cubicBezTo>
                  <a:pt x="10800" y="10012"/>
                  <a:pt x="5400" y="10633"/>
                  <a:pt x="0" y="10633"/>
                </a:cubicBezTo>
                <a:cubicBezTo>
                  <a:pt x="5400" y="10633"/>
                  <a:pt x="10800" y="11255"/>
                  <a:pt x="10800" y="11876"/>
                </a:cubicBezTo>
                <a:lnTo>
                  <a:pt x="10800" y="20357"/>
                </a:lnTo>
                <a:cubicBezTo>
                  <a:pt x="10800" y="209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8332920" y="1143000"/>
            <a:ext cx="739800" cy="550080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500800"/>
              <a:gd name="textAreaBottom" fmla="*/ 5394600 h 55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7"/>
                  <a:pt x="10800" y="1333"/>
                </a:cubicBezTo>
                <a:lnTo>
                  <a:pt x="10800" y="9467"/>
                </a:lnTo>
                <a:cubicBezTo>
                  <a:pt x="10800" y="10134"/>
                  <a:pt x="16200" y="10800"/>
                  <a:pt x="21600" y="10800"/>
                </a:cubicBezTo>
                <a:cubicBezTo>
                  <a:pt x="16200" y="10800"/>
                  <a:pt x="10800" y="11467"/>
                  <a:pt x="10800" y="12133"/>
                </a:cubicBezTo>
                <a:lnTo>
                  <a:pt x="10800" y="20267"/>
                </a:lnTo>
                <a:cubicBezTo>
                  <a:pt x="10800" y="2093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42960" y="135720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الهدف التربوي هو: ( عبارة أو جملة تحدد سلوكاً مرغوباً يأمل المجتمع ظهوره لدى المتعلم نتيجة مروره بخبرات التعلم )، وتقسم الأهداف الى ثلاثة مستويات هي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أ- أهداف عامة بعيدة المدى: تشتق من فلسفة التربية، وتحتاج الى عدة سنوات، مثال: مساعدة المتعلم على النمو المتكام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ب- أهداف عامة مرحلية : </a:t>
            </a:r>
            <a:r>
              <a:rPr b="0" lang="ar-IQ" sz="2800" spc="-1" strike="noStrike">
                <a:solidFill>
                  <a:srgbClr val="171717"/>
                </a:solidFill>
                <a:latin typeface="Verdana"/>
              </a:rPr>
              <a:t>هي أقل </a:t>
            </a: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عمومية وتشير الى مدى تقدم المتعلم خلال فصل دراسي أو سنة دراسية، مثال: قراءة الكتاب المقرر قراءة سلي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ت- أهداف سلوكية: نتاج تعليمي ينتظر تحقيقه في نهاية الدرس، مثال: أن تعدد الطالبة عناصر المنهج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مثال : أن ترسم الطالبة مربعا في دقيقة واحدة بدون خطأ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لقد توصل (بلوم) وزملاؤه إلى تصنيف الأهداف التعليمية على افتراض توصيف المخرجات التعليمية في شكل عبارات محددة تتضمن أفعال سلوكية تعبر عن تغييرات تطرأ على سلوك المتعلم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285840" y="2000160"/>
            <a:ext cx="795240" cy="442908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61280" y="201780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مربع نص 8"/>
          <p:cNvSpPr/>
          <p:nvPr/>
        </p:nvSpPr>
        <p:spPr>
          <a:xfrm>
            <a:off x="714240" y="2000160"/>
            <a:ext cx="764388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تذكر : وهو تذكر المعارف السابق تعلمها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ُعرف – يسمي – يعدد –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فهم : هو القـدرة عـلى إدراك المـعاني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شرح – يعيد صياغة – يفسر 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تطبيق : هو القدرة على استخدام المعارف التـعليمية في مـواقف جديدة </a:t>
            </a:r>
            <a:r>
              <a:rPr b="1" lang="ar-IQ" sz="2400" spc="-1" strike="noStrike">
                <a:solidFill>
                  <a:srgbClr val="171717"/>
                </a:solidFill>
                <a:latin typeface="Verdana"/>
              </a:rPr>
              <a:t>، 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غير – يجرب – يربط 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تحليل : هو القدرة على تفكيك المادة إلى مكوناتها وأجزائها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فكك – يفصل – يقسم 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تركيب : هو القدرة على تجميع الأجزاء لتكوين كل متكامل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صنف – ينظم – يلخص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- التقويم : هو القدرة على إصدار أحكام حول قيمة الأفكار أو الأعمال وفق معايير أو محكات معينة وتعديل الأخطاء ودعم ما هو ايجابياً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171717"/>
                </a:solidFill>
                <a:latin typeface="Verdana"/>
              </a:rPr>
              <a:t>  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أمثلة للأفعال السلوكية : (ينقد – يميز – يوازن ...الخ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e"/>
                </a:solidFill>
                <a:latin typeface="Arial"/>
              </a:rPr>
              <a:t>شروط صياغة الأهداف السلوك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61920" y="1285920"/>
            <a:ext cx="795240" cy="535788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357880"/>
              <a:gd name="textAreaBottom" fmla="*/ 5260320 h 535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0"/>
                  <a:pt x="10800" y="1260"/>
                </a:cubicBezTo>
                <a:lnTo>
                  <a:pt x="10800" y="9373"/>
                </a:lnTo>
                <a:cubicBezTo>
                  <a:pt x="10800" y="10003"/>
                  <a:pt x="5400" y="10633"/>
                  <a:pt x="0" y="10633"/>
                </a:cubicBezTo>
                <a:cubicBezTo>
                  <a:pt x="5400" y="10633"/>
                  <a:pt x="10800" y="11263"/>
                  <a:pt x="10800" y="11893"/>
                </a:cubicBezTo>
                <a:lnTo>
                  <a:pt x="10800" y="20340"/>
                </a:lnTo>
                <a:cubicBezTo>
                  <a:pt x="10800" y="209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8190000" y="1285920"/>
            <a:ext cx="739800" cy="528624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286240"/>
              <a:gd name="textAreaBottom" fmla="*/ 518004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4"/>
                  <a:pt x="10800" y="1387"/>
                </a:cubicBezTo>
                <a:lnTo>
                  <a:pt x="10800" y="9413"/>
                </a:lnTo>
                <a:cubicBezTo>
                  <a:pt x="10800" y="10107"/>
                  <a:pt x="16200" y="10800"/>
                  <a:pt x="21600" y="10800"/>
                </a:cubicBezTo>
                <a:cubicBezTo>
                  <a:pt x="16200" y="10800"/>
                  <a:pt x="10800" y="11494"/>
                  <a:pt x="10800" y="12187"/>
                </a:cubicBezTo>
                <a:lnTo>
                  <a:pt x="10800" y="20213"/>
                </a:lnTo>
                <a:cubicBezTo>
                  <a:pt x="10800" y="209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500040" y="1357200"/>
            <a:ext cx="8001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ـ يبدأ الهدف السلوكي بـ (ان + فعل مضارع) ويشير إلى نتيجة التعلم وليس إلى عملية التعل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مثال خاطئ: (يتعلم الطالب كيف يكون جملة اسمية) مثال صحيح: (أن يتعلم الطالب تكوين جملة اسمية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ـ أن يصف الهدف سلوكاً تسهل ملاحظته ويمكن تقويمه، مثال: (أن يستخرج الطالب المفعول به من النص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ـ أن يشير إلى سلوك يقوم به المتعلم وليس سلوكاً يقوم به المعل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مثال خاطئ: (أن أميز للطالب بين الأسباب الرئيسة لتقديم الخبر على المبتدأ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مثال صحيح: (أن يميز الطالب بين الأسباب الرئيسة لتقديم الخبر على المبتدأ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ـ أن تشمل العبارة السلوكية على فعل سلوكي واح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 مثال خاطئ : (أن يعرف الطالب نائب الفاعل ويستعمله في تراكيب لغوية سليمة).</a:t>
            </a:r>
            <a:r>
              <a:rPr b="1" lang="en-US" sz="24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مثال صحيح : (أن يعرف الطالب نائب الفاعل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171717"/>
                </a:solidFill>
                <a:latin typeface="Verdana"/>
              </a:rPr>
              <a:t>ـ أن يمثل الهدف ناتجاً تعليمياً ينتظر من التلاميذ أن يحققوه، وأن يحدد مستوى الأداء المطلوب، مثال: (أن يطبع الطالب خمسين كلمة في الدقيقة بدون أخطاء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24T20:01:54Z</dcterms:modified>
  <cp:revision>42</cp:revision>
  <dc:subject/>
  <dc:title>وزارة التعليم العالي والبحث العلمي جامعة بغداد بالتعاون مع منظمة</dc:title>
</cp:coreProperties>
</file>