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9C229-E619-475D-B5F7-1A34C2196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CE01D-14C1-4D98-8C48-27E8C7251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15E21-F2D3-4D44-9FF3-00DFD1BEB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98F5F-A2AA-47D3-BFFB-ADC5FFF73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21B62-C14A-4EA6-B069-CCE33C155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C6B12-FB99-4164-B23F-D59A21C9F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749AE-0C50-4F42-80AB-EBC8F3557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14B3F-C9F6-4AD5-AC7E-69A36ADCF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2C997-66BF-4278-B1A2-F08BFEBED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F5CB0-1341-43D8-92F3-31A2FFCCF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B972A-03EA-4404-9422-DD50850C1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EF4B3-6EBA-4CF1-A544-AF38DB6BD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FA914-6BAA-4F82-B6BB-90DA4CB07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581E8-038B-456D-AF46-53713D635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BEEE4-8401-4CF5-9BDE-1BC6381F7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4CFFF-53AE-428A-964F-10B685AD6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538F8-8FDF-4EB2-8CC6-55DDD64F0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07A432-4048-4379-9952-D020B80E0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25D7D6-0E91-427A-A315-2CAD15E74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5918C5-EDEF-4172-8F94-98F218222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EE7AEE-371A-4261-9C18-06DFD33C6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DF6411-DB2B-49EF-B475-DD896111A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68460-B1CE-4FCD-88A3-68010D9DC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84F9EA-EA94-4610-921B-66CA35357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C501B4-9BDB-4CDD-A0A9-D52157C53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B58E01-F433-4DBB-8BB8-0607032C7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0E0F06-6FAD-4039-B44D-041FC150E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912368-6DDF-4624-ACBB-B29DA44F1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613449-FBFE-401A-BEFF-26E9A2E05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6E06CE-4FEA-47C8-BE78-2B2E6E94D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431365-06C7-45B5-974C-C54447505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3B19AA-E66D-413A-B27C-7783FDD3E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027741-4D85-4A97-9F8A-B9A90C77A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2DFA3-6252-4204-BC22-744515BF5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430BEF-0211-4580-A0E6-2EC8CDE61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DC2058-7753-473D-B0B2-3710BF867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28D924-82E1-4FE8-B53C-22E096D29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7C26A2-CD16-458B-A03B-3CD9A3FB9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CD016D-2F34-4211-851C-ED0A1074E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EC3F8B-FD44-416B-B1BD-938859CC8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BF1928-F835-46BD-8FE1-3CCB2E50C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20EC87-45AB-458B-BFEC-A2E777087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191335-48F2-4C9E-BE0C-4A5D3D0FF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B805FC-3191-4CA1-862A-FC9B6923D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5018B-D51A-48E2-9E0B-51BC2ADCB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385A5C-E07D-4F4F-AE90-69A01A27A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B777A6-6D2F-4FAF-A584-6CC829FAB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A7CD12-FF0D-4F7F-B5F2-C5E29EAE2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25E8C7-BBBC-4ED0-9FD0-B78FF606D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60D070-7093-4AA1-A414-583878A11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B19BBA-AACE-4938-86B7-041789A98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56E114-D11D-426C-8982-0C25A93E5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48F03B-1717-44A0-BCA8-F3115E1B9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E7F759-8AB5-4909-8299-493B86A3E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0DE3F4-77F5-452B-AF33-69D198EEC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68529-638B-4636-96F3-A9A6FE8BD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F08DE8-BECF-4932-BF87-217E056C9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AE27AF-9381-40C8-8B13-AC48BE4B9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CC19DE-D000-42C2-8A72-5A2C3E9F3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51E841-74C1-48C6-BC64-ECE669B4E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243CF8-63CB-4BF5-AA82-7FC0E7C62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D01D37-AFD0-4E6A-B949-67B4E56EB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6026C7-31F4-4D58-88B5-FBF57FCBE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EC7B08-5A4A-432D-A057-B08EA9763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0A8BD1-BEC8-461F-BE38-8941C17E2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5DD627-75B1-4567-BD31-E50B88FB1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77433-71D5-49AD-BA76-6209A5D29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2274F6-C745-4BF4-A65C-8FD1F30B7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9A5A63-3246-41FB-A49B-A2D7FB900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C696B3-FA56-46F9-8527-96064211C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6E8CE-A8A8-4AD7-86BE-B0ECFC20B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52AD6-CFE4-4813-8286-DD458A315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2876400" y="4462560"/>
              <a:ext cx="6264360" cy="238896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6389640" y="5757840"/>
              <a:ext cx="2751120" cy="109368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0"/>
              <a:ext cx="8854920" cy="547200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845480" y="0"/>
              <a:ext cx="1295280" cy="43812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3149640"/>
              <a:ext cx="9140760" cy="333036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0" y="162000"/>
              <a:ext cx="3112920" cy="200808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0"/>
              <a:ext cx="7475400" cy="460548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0"/>
              <a:ext cx="5989680" cy="374004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0" y="0"/>
              <a:ext cx="4656240" cy="293040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81080" y="4519440"/>
              <a:ext cx="2369880" cy="32400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Freeform 16"/>
              <p:cNvSpPr/>
              <p:nvPr/>
            </p:nvSpPr>
            <p:spPr>
              <a:xfrm>
                <a:off x="647640" y="4776840"/>
                <a:ext cx="74520" cy="9360"/>
              </a:xfrm>
              <a:prstGeom prst="pie">
                <a:avLst/>
              </a:pr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990720" y="4586400"/>
                <a:ext cx="19080" cy="8568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866880" y="4795920"/>
                <a:ext cx="9360" cy="284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857160" y="4824360"/>
                <a:ext cx="38160" cy="3816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67187-E0E7-4117-A07A-6785A2BD4C6B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81" name="Freeform 3"/>
            <p:cNvSpPr/>
            <p:nvPr/>
          </p:nvSpPr>
          <p:spPr>
            <a:xfrm>
              <a:off x="4716360" y="5345280"/>
              <a:ext cx="4427640" cy="1512720"/>
            </a:xfrm>
            <a:prstGeom prst="pi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2" name="Freeform 4"/>
            <p:cNvSpPr/>
            <p:nvPr/>
          </p:nvSpPr>
          <p:spPr>
            <a:xfrm>
              <a:off x="7305840" y="6372360"/>
              <a:ext cx="18720" cy="284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3" name="Freeform 5"/>
            <p:cNvSpPr/>
            <p:nvPr/>
          </p:nvSpPr>
          <p:spPr>
            <a:xfrm>
              <a:off x="7296120" y="6343560"/>
              <a:ext cx="9720" cy="288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4" name="Freeform 6"/>
            <p:cNvSpPr/>
            <p:nvPr/>
          </p:nvSpPr>
          <p:spPr>
            <a:xfrm>
              <a:off x="8223120" y="5678640"/>
              <a:ext cx="482760" cy="11761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5" name="Freeform 7"/>
            <p:cNvSpPr/>
            <p:nvPr/>
          </p:nvSpPr>
          <p:spPr>
            <a:xfrm>
              <a:off x="7807320" y="5640480"/>
              <a:ext cx="498600" cy="1217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6" name="Freeform 8"/>
            <p:cNvSpPr/>
            <p:nvPr/>
          </p:nvSpPr>
          <p:spPr>
            <a:xfrm>
              <a:off x="7461360" y="5869080"/>
              <a:ext cx="436320" cy="9889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7" name="Freeform 9"/>
            <p:cNvSpPr/>
            <p:nvPr/>
          </p:nvSpPr>
          <p:spPr>
            <a:xfrm>
              <a:off x="7178760" y="5888160"/>
              <a:ext cx="338040" cy="969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8" name="Freeform 10"/>
            <p:cNvSpPr/>
            <p:nvPr/>
          </p:nvSpPr>
          <p:spPr>
            <a:xfrm>
              <a:off x="6813720" y="6248520"/>
              <a:ext cx="264960" cy="6094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9" name="Freeform 11"/>
            <p:cNvSpPr/>
            <p:nvPr/>
          </p:nvSpPr>
          <p:spPr>
            <a:xfrm>
              <a:off x="6508800" y="6381720"/>
              <a:ext cx="263520" cy="4762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0" name="Freeform 12"/>
            <p:cNvSpPr/>
            <p:nvPr/>
          </p:nvSpPr>
          <p:spPr>
            <a:xfrm>
              <a:off x="6207120" y="6410160"/>
              <a:ext cx="376200" cy="447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1" name="Freeform 13"/>
            <p:cNvSpPr/>
            <p:nvPr/>
          </p:nvSpPr>
          <p:spPr>
            <a:xfrm>
              <a:off x="5832360" y="6486480"/>
              <a:ext cx="311400" cy="371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2" name="Freeform 14"/>
            <p:cNvSpPr/>
            <p:nvPr/>
          </p:nvSpPr>
          <p:spPr>
            <a:xfrm>
              <a:off x="5518080" y="6458040"/>
              <a:ext cx="301680" cy="39996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3" name="Freeform 15"/>
            <p:cNvSpPr/>
            <p:nvPr/>
          </p:nvSpPr>
          <p:spPr>
            <a:xfrm>
              <a:off x="5032440" y="6648480"/>
              <a:ext cx="365040" cy="209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4" name="Freeform 16"/>
            <p:cNvSpPr/>
            <p:nvPr/>
          </p:nvSpPr>
          <p:spPr>
            <a:xfrm>
              <a:off x="4832280" y="6696000"/>
              <a:ext cx="141480" cy="1620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5" name="Freeform 17"/>
            <p:cNvSpPr/>
            <p:nvPr/>
          </p:nvSpPr>
          <p:spPr>
            <a:xfrm>
              <a:off x="8702640" y="5345280"/>
              <a:ext cx="441360" cy="15127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C39DA-0C63-4D00-AAEF-EB2D2A637C1E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38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39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0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1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2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3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4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5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46" name="PlaceHolder 1"/>
          <p:cNvSpPr>
            <a:spLocks noGrp="1"/>
          </p:cNvSpPr>
          <p:nvPr>
            <p:ph type="dt" idx="7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ftr" idx="8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sldNum" idx="9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5B985-32B5-4767-8EF6-E46D76E6931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7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88" name="Freeform 3"/>
            <p:cNvSpPr/>
            <p:nvPr/>
          </p:nvSpPr>
          <p:spPr>
            <a:xfrm>
              <a:off x="2876400" y="4462560"/>
              <a:ext cx="6264360" cy="238896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89" name="Freeform 4"/>
            <p:cNvSpPr/>
            <p:nvPr/>
          </p:nvSpPr>
          <p:spPr>
            <a:xfrm>
              <a:off x="6389640" y="5757840"/>
              <a:ext cx="2751120" cy="109368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0" name="Freeform 5"/>
            <p:cNvSpPr/>
            <p:nvPr/>
          </p:nvSpPr>
          <p:spPr>
            <a:xfrm>
              <a:off x="0" y="0"/>
              <a:ext cx="8854920" cy="547200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1" name="Freeform 6"/>
            <p:cNvSpPr/>
            <p:nvPr/>
          </p:nvSpPr>
          <p:spPr>
            <a:xfrm>
              <a:off x="7845480" y="0"/>
              <a:ext cx="1295280" cy="43812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2" name="Freeform 7"/>
            <p:cNvSpPr/>
            <p:nvPr/>
          </p:nvSpPr>
          <p:spPr>
            <a:xfrm>
              <a:off x="0" y="3149640"/>
              <a:ext cx="9140760" cy="333036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3" name="Freeform 8"/>
            <p:cNvSpPr/>
            <p:nvPr/>
          </p:nvSpPr>
          <p:spPr>
            <a:xfrm>
              <a:off x="0" y="162000"/>
              <a:ext cx="3112920" cy="200808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4" name="Freeform 9"/>
            <p:cNvSpPr/>
            <p:nvPr/>
          </p:nvSpPr>
          <p:spPr>
            <a:xfrm>
              <a:off x="0" y="0"/>
              <a:ext cx="7475400" cy="460548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5" name="Freeform 10"/>
            <p:cNvSpPr/>
            <p:nvPr/>
          </p:nvSpPr>
          <p:spPr>
            <a:xfrm>
              <a:off x="0" y="0"/>
              <a:ext cx="5989680" cy="374004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6" name="Freeform 11"/>
            <p:cNvSpPr/>
            <p:nvPr/>
          </p:nvSpPr>
          <p:spPr>
            <a:xfrm>
              <a:off x="0" y="0"/>
              <a:ext cx="4656240" cy="293040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7" name="Freeform 12"/>
            <p:cNvSpPr/>
            <p:nvPr/>
          </p:nvSpPr>
          <p:spPr>
            <a:xfrm>
              <a:off x="181080" y="4519440"/>
              <a:ext cx="2369880" cy="32400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8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9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00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201" name="Freeform 16"/>
              <p:cNvSpPr/>
              <p:nvPr/>
            </p:nvSpPr>
            <p:spPr>
              <a:xfrm>
                <a:off x="647640" y="4776840"/>
                <a:ext cx="74520" cy="9360"/>
              </a:xfrm>
              <a:prstGeom prst="pie">
                <a:avLst/>
              </a:pr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2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3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4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5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6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7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8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9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0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1" name="Freeform 26"/>
              <p:cNvSpPr/>
              <p:nvPr/>
            </p:nvSpPr>
            <p:spPr>
              <a:xfrm>
                <a:off x="990720" y="4586400"/>
                <a:ext cx="19080" cy="8568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2" name="Freeform 27"/>
              <p:cNvSpPr/>
              <p:nvPr/>
            </p:nvSpPr>
            <p:spPr>
              <a:xfrm>
                <a:off x="781200" y="4795920"/>
                <a:ext cx="75960" cy="1141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3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4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5" name="Freeform 30"/>
              <p:cNvSpPr/>
              <p:nvPr/>
            </p:nvSpPr>
            <p:spPr>
              <a:xfrm>
                <a:off x="581040" y="4938840"/>
                <a:ext cx="122400" cy="6660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6" name="Freeform 31"/>
              <p:cNvSpPr/>
              <p:nvPr/>
            </p:nvSpPr>
            <p:spPr>
              <a:xfrm>
                <a:off x="790560" y="5024520"/>
                <a:ext cx="104760" cy="475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7" name="Freeform 32"/>
              <p:cNvSpPr/>
              <p:nvPr/>
            </p:nvSpPr>
            <p:spPr>
              <a:xfrm>
                <a:off x="1333440" y="4633920"/>
                <a:ext cx="28800" cy="9540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8" name="Freeform 33"/>
              <p:cNvSpPr/>
              <p:nvPr/>
            </p:nvSpPr>
            <p:spPr>
              <a:xfrm>
                <a:off x="866880" y="4795920"/>
                <a:ext cx="9360" cy="284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9" name="Freeform 34"/>
              <p:cNvSpPr/>
              <p:nvPr/>
            </p:nvSpPr>
            <p:spPr>
              <a:xfrm>
                <a:off x="847800" y="4672080"/>
                <a:ext cx="47520" cy="1238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20" name="Freeform 35"/>
              <p:cNvSpPr/>
              <p:nvPr/>
            </p:nvSpPr>
            <p:spPr>
              <a:xfrm>
                <a:off x="857160" y="4824360"/>
                <a:ext cx="38160" cy="3816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21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22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23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24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25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CEB1D-8519-4180-A827-39C60C7283BD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268" name="Freeform 3"/>
            <p:cNvSpPr/>
            <p:nvPr/>
          </p:nvSpPr>
          <p:spPr>
            <a:xfrm>
              <a:off x="4716360" y="5345280"/>
              <a:ext cx="4427640" cy="1512720"/>
            </a:xfrm>
            <a:prstGeom prst="pi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9" name="Freeform 4"/>
            <p:cNvSpPr/>
            <p:nvPr/>
          </p:nvSpPr>
          <p:spPr>
            <a:xfrm>
              <a:off x="7305840" y="6372360"/>
              <a:ext cx="18720" cy="284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0" name="Freeform 5"/>
            <p:cNvSpPr/>
            <p:nvPr/>
          </p:nvSpPr>
          <p:spPr>
            <a:xfrm>
              <a:off x="7296120" y="6343560"/>
              <a:ext cx="9720" cy="288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1" name="Freeform 6"/>
            <p:cNvSpPr/>
            <p:nvPr/>
          </p:nvSpPr>
          <p:spPr>
            <a:xfrm>
              <a:off x="8223120" y="5678640"/>
              <a:ext cx="482760" cy="11761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2" name="Freeform 7"/>
            <p:cNvSpPr/>
            <p:nvPr/>
          </p:nvSpPr>
          <p:spPr>
            <a:xfrm>
              <a:off x="7807320" y="5640480"/>
              <a:ext cx="498600" cy="1217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3" name="Freeform 8"/>
            <p:cNvSpPr/>
            <p:nvPr/>
          </p:nvSpPr>
          <p:spPr>
            <a:xfrm>
              <a:off x="7461360" y="5869080"/>
              <a:ext cx="436320" cy="9889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4" name="Freeform 9"/>
            <p:cNvSpPr/>
            <p:nvPr/>
          </p:nvSpPr>
          <p:spPr>
            <a:xfrm>
              <a:off x="7178760" y="5888160"/>
              <a:ext cx="338040" cy="969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5" name="Freeform 10"/>
            <p:cNvSpPr/>
            <p:nvPr/>
          </p:nvSpPr>
          <p:spPr>
            <a:xfrm>
              <a:off x="6813720" y="6248520"/>
              <a:ext cx="264960" cy="6094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6" name="Freeform 11"/>
            <p:cNvSpPr/>
            <p:nvPr/>
          </p:nvSpPr>
          <p:spPr>
            <a:xfrm>
              <a:off x="6508800" y="6381720"/>
              <a:ext cx="263520" cy="4762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7" name="Freeform 12"/>
            <p:cNvSpPr/>
            <p:nvPr/>
          </p:nvSpPr>
          <p:spPr>
            <a:xfrm>
              <a:off x="6207120" y="6410160"/>
              <a:ext cx="376200" cy="447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8" name="Freeform 13"/>
            <p:cNvSpPr/>
            <p:nvPr/>
          </p:nvSpPr>
          <p:spPr>
            <a:xfrm>
              <a:off x="5832360" y="6486480"/>
              <a:ext cx="311400" cy="371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9" name="Freeform 14"/>
            <p:cNvSpPr/>
            <p:nvPr/>
          </p:nvSpPr>
          <p:spPr>
            <a:xfrm>
              <a:off x="5518080" y="6458040"/>
              <a:ext cx="301680" cy="39996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0" name="Freeform 15"/>
            <p:cNvSpPr/>
            <p:nvPr/>
          </p:nvSpPr>
          <p:spPr>
            <a:xfrm>
              <a:off x="5032440" y="6648480"/>
              <a:ext cx="365040" cy="209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1" name="Freeform 16"/>
            <p:cNvSpPr/>
            <p:nvPr/>
          </p:nvSpPr>
          <p:spPr>
            <a:xfrm>
              <a:off x="4832280" y="6696000"/>
              <a:ext cx="141480" cy="1620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2" name="Freeform 17"/>
            <p:cNvSpPr/>
            <p:nvPr/>
          </p:nvSpPr>
          <p:spPr>
            <a:xfrm>
              <a:off x="8702640" y="5345280"/>
              <a:ext cx="441360" cy="15127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223B5-E4EF-462C-ADBF-017F4935A68A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4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325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26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27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28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29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30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dt" idx="16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 type="ftr" idx="17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 type="sldNum" idx="18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34F7D-D75A-4264-845A-E02402113A72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ubTitle"/>
          </p:nvPr>
        </p:nvSpPr>
        <p:spPr>
          <a:xfrm>
            <a:off x="357120" y="785880"/>
            <a:ext cx="8429760" cy="528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2800" spc="-1" strike="noStrike">
                <a:solidFill>
                  <a:srgbClr val="161616"/>
                </a:solidFill>
                <a:latin typeface="Verdana"/>
              </a:rPr>
              <a:t>جامعة بغداد/ كلية التربية للبنات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2800" spc="-1" strike="noStrike">
                <a:solidFill>
                  <a:srgbClr val="161616"/>
                </a:solidFill>
                <a:latin typeface="Verdana"/>
              </a:rPr>
              <a:t>قسم اللغة العربي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ctr" rtl="1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4800" spc="-1" strike="noStrike">
                <a:solidFill>
                  <a:srgbClr val="161616"/>
                </a:solidFill>
                <a:latin typeface="Verdana"/>
              </a:rPr>
              <a:t>محاضرات في مناهج وطرائق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algn="ctr" rtl="1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4800" spc="-1" strike="noStrike">
                <a:solidFill>
                  <a:srgbClr val="161616"/>
                </a:solidFill>
                <a:latin typeface="Verdana"/>
              </a:rPr>
              <a:t> تدريس اللغة العربية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2800" spc="-1" strike="noStrike">
                <a:solidFill>
                  <a:srgbClr val="ffff66"/>
                </a:solidFill>
                <a:latin typeface="Verdana"/>
              </a:rPr>
              <a:t>إعداد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2800" spc="-1" strike="noStrike">
                <a:solidFill>
                  <a:srgbClr val="ffff66"/>
                </a:solidFill>
                <a:latin typeface="Verdana"/>
              </a:rPr>
              <a:t>أ.م.د عدي راشد محمد القلمجي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2428920" y="1642680"/>
            <a:ext cx="6229440" cy="5072040"/>
          </a:xfrm>
          <a:prstGeom prst="rect">
            <a:avLst/>
          </a:prstGeom>
          <a:solidFill>
            <a:srgbClr val="ffff66"/>
          </a:solidFill>
          <a:ln w="9360">
            <a:solidFill>
              <a:srgbClr val="ff0000"/>
            </a:solidFill>
            <a:miter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يعرف المحتوى بأنه: نوعية المعارف التي يقع عليها الاختيار والتي يتم تنظيمها على نحو معين، سواء أكانت هذه المعارف مفاهيم أو حقائق أو أفكار أساسية</a:t>
            </a:r>
            <a:br>
              <a:rPr sz="3200"/>
            </a:b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علاقة المحتوى بعناصر المنهج</a:t>
            </a:r>
            <a:br>
              <a:rPr sz="3200"/>
            </a:b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لا يعمل المحتوى بمعزل عن بقية عناصر المنهج فالمحتوى وسيلة لبلوغ الأهداف، وهذا المحتوى ينقل للتلاميذ من خلال طريقة التدريس والنشطة والوسائل التعليمية، والتقويم يحكم على مدى تحقيقنا للأهداف الموضوعة.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228240"/>
            <a:ext cx="8229600" cy="11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3200" spc="-1" strike="noStrike">
                <a:solidFill>
                  <a:srgbClr val="000000"/>
                </a:solidFill>
                <a:latin typeface="Verdana"/>
              </a:rPr>
              <a:t>عناصر أو مكونات المنهج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904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3200" spc="-1" strike="noStrike">
                <a:solidFill>
                  <a:srgbClr val="000000"/>
                </a:solidFill>
                <a:latin typeface="Verdana"/>
              </a:rPr>
              <a:t>((المحتوى)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9e"/>
                </a:solidFill>
                <a:latin typeface="Arial"/>
              </a:rPr>
              <a:t>العوامل المؤثرة في اختيار محتوى المنهج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6" name="Text Box 4"/>
          <p:cNvSpPr/>
          <p:nvPr/>
        </p:nvSpPr>
        <p:spPr>
          <a:xfrm>
            <a:off x="6567480" y="23637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7" name="AutoShape 10"/>
          <p:cNvSpPr/>
          <p:nvPr/>
        </p:nvSpPr>
        <p:spPr>
          <a:xfrm>
            <a:off x="1357200" y="1928880"/>
            <a:ext cx="795600" cy="4429080"/>
          </a:xfrm>
          <a:custGeom>
            <a:avLst/>
            <a:gdLst>
              <a:gd name="textAreaLeft" fmla="*/ 508320 w 795600"/>
              <a:gd name="textAreaRight" fmla="*/ 795960 w 795600"/>
              <a:gd name="textAreaTop" fmla="*/ 97560 h 4429080"/>
              <a:gd name="textAreaBottom" fmla="*/ 4331520 h 4429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62"/>
                  <a:pt x="10800" y="1524"/>
                </a:cubicBezTo>
                <a:lnTo>
                  <a:pt x="10800" y="9109"/>
                </a:lnTo>
                <a:cubicBezTo>
                  <a:pt x="10800" y="9871"/>
                  <a:pt x="5400" y="10633"/>
                  <a:pt x="0" y="10633"/>
                </a:cubicBezTo>
                <a:cubicBezTo>
                  <a:pt x="5400" y="10633"/>
                  <a:pt x="10800" y="11395"/>
                  <a:pt x="10800" y="12157"/>
                </a:cubicBezTo>
                <a:lnTo>
                  <a:pt x="10800" y="20076"/>
                </a:lnTo>
                <a:cubicBezTo>
                  <a:pt x="10800" y="20838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8" name="AutoShape 11"/>
          <p:cNvSpPr/>
          <p:nvPr/>
        </p:nvSpPr>
        <p:spPr>
          <a:xfrm>
            <a:off x="7904160" y="1874880"/>
            <a:ext cx="739800" cy="4483080"/>
          </a:xfrm>
          <a:custGeom>
            <a:avLst/>
            <a:gdLst>
              <a:gd name="textAreaLeft" fmla="*/ 0 w 739800"/>
              <a:gd name="textAreaRight" fmla="*/ 267120 w 739800"/>
              <a:gd name="textAreaTop" fmla="*/ 106200 h 4483080"/>
              <a:gd name="textAreaBottom" fmla="*/ 4376880 h 4483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818"/>
                  <a:pt x="10800" y="1636"/>
                </a:cubicBezTo>
                <a:lnTo>
                  <a:pt x="10800" y="9164"/>
                </a:lnTo>
                <a:cubicBezTo>
                  <a:pt x="10800" y="9982"/>
                  <a:pt x="16200" y="10800"/>
                  <a:pt x="21600" y="10800"/>
                </a:cubicBezTo>
                <a:cubicBezTo>
                  <a:pt x="16200" y="10800"/>
                  <a:pt x="10800" y="11618"/>
                  <a:pt x="10800" y="12436"/>
                </a:cubicBezTo>
                <a:lnTo>
                  <a:pt x="10800" y="19964"/>
                </a:lnTo>
                <a:cubicBezTo>
                  <a:pt x="10800" y="20782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9" name="Text Box 27"/>
          <p:cNvSpPr/>
          <p:nvPr/>
        </p:nvSpPr>
        <p:spPr>
          <a:xfrm>
            <a:off x="2143080" y="2071800"/>
            <a:ext cx="5715000" cy="41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171717"/>
                </a:solidFill>
                <a:latin typeface="Verdana"/>
              </a:rPr>
              <a:t> أ- الزيادة الكبيرة في كم المعرفة في ضل عصر التطور والسرعة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171717"/>
                </a:solidFill>
                <a:latin typeface="Verdana"/>
              </a:rPr>
              <a:t>ب- التغيرات الاجتماعية التي تتطلب مراعاة حاجات الطلبة وأهدافهم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171717"/>
                </a:solidFill>
                <a:latin typeface="Verdana"/>
              </a:rPr>
              <a:t>ت- التغيرات السريعة التي تحدث بالمجتمع  والمستجدات تطرأ عليه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171717"/>
                </a:solidFill>
                <a:latin typeface="Verdana"/>
              </a:rPr>
              <a:t>ث- عدم وجود اتفاق تام على معايير أو محكات اختيار المحتوى أو طريقة تنظيمه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93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9e"/>
                </a:solidFill>
                <a:latin typeface="Arial"/>
              </a:rPr>
              <a:t>عناصر أو مكونات المحتوى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1" name="Text Box 4"/>
          <p:cNvSpPr/>
          <p:nvPr/>
        </p:nvSpPr>
        <p:spPr>
          <a:xfrm>
            <a:off x="6567480" y="23637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2" name="AutoShape 10"/>
          <p:cNvSpPr/>
          <p:nvPr/>
        </p:nvSpPr>
        <p:spPr>
          <a:xfrm>
            <a:off x="642960" y="1714680"/>
            <a:ext cx="795240" cy="4429080"/>
          </a:xfrm>
          <a:custGeom>
            <a:avLst/>
            <a:gdLst>
              <a:gd name="textAreaLeft" fmla="*/ 507960 w 795240"/>
              <a:gd name="textAreaRight" fmla="*/ 795600 w 795240"/>
              <a:gd name="textAreaTop" fmla="*/ 97560 h 4429080"/>
              <a:gd name="textAreaBottom" fmla="*/ 4331520 h 4429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62"/>
                  <a:pt x="10800" y="1524"/>
                </a:cubicBezTo>
                <a:lnTo>
                  <a:pt x="10800" y="9109"/>
                </a:lnTo>
                <a:cubicBezTo>
                  <a:pt x="10800" y="9871"/>
                  <a:pt x="5400" y="10633"/>
                  <a:pt x="0" y="10633"/>
                </a:cubicBezTo>
                <a:cubicBezTo>
                  <a:pt x="5400" y="10633"/>
                  <a:pt x="10800" y="11395"/>
                  <a:pt x="10800" y="12157"/>
                </a:cubicBezTo>
                <a:lnTo>
                  <a:pt x="10800" y="20076"/>
                </a:lnTo>
                <a:cubicBezTo>
                  <a:pt x="10800" y="20838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3" name="AutoShape 11"/>
          <p:cNvSpPr/>
          <p:nvPr/>
        </p:nvSpPr>
        <p:spPr>
          <a:xfrm>
            <a:off x="7904160" y="1714680"/>
            <a:ext cx="739800" cy="4483080"/>
          </a:xfrm>
          <a:custGeom>
            <a:avLst/>
            <a:gdLst>
              <a:gd name="textAreaLeft" fmla="*/ 0 w 739800"/>
              <a:gd name="textAreaRight" fmla="*/ 267120 w 739800"/>
              <a:gd name="textAreaTop" fmla="*/ 106200 h 4483080"/>
              <a:gd name="textAreaBottom" fmla="*/ 4376880 h 4483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818"/>
                  <a:pt x="10800" y="1636"/>
                </a:cubicBezTo>
                <a:lnTo>
                  <a:pt x="10800" y="9164"/>
                </a:lnTo>
                <a:cubicBezTo>
                  <a:pt x="10800" y="9982"/>
                  <a:pt x="16200" y="10800"/>
                  <a:pt x="21600" y="10800"/>
                </a:cubicBezTo>
                <a:cubicBezTo>
                  <a:pt x="16200" y="10800"/>
                  <a:pt x="10800" y="11618"/>
                  <a:pt x="10800" y="12436"/>
                </a:cubicBezTo>
                <a:lnTo>
                  <a:pt x="10800" y="19964"/>
                </a:lnTo>
                <a:cubicBezTo>
                  <a:pt x="10800" y="20782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4" name="Text Box 27"/>
          <p:cNvSpPr/>
          <p:nvPr/>
        </p:nvSpPr>
        <p:spPr>
          <a:xfrm>
            <a:off x="1428840" y="1785960"/>
            <a:ext cx="6715080" cy="52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Verdana"/>
              </a:rPr>
              <a:t> </a:t>
            </a:r>
            <a:r>
              <a:rPr b="0" lang="ar-SA" sz="2800" spc="-1" strike="noStrike">
                <a:solidFill>
                  <a:srgbClr val="171717"/>
                </a:solidFill>
                <a:latin typeface="Verdana"/>
              </a:rPr>
              <a:t>أ- الحقائق: وهي مجموعة البيانات أو المعلومات الخاصة بالظواهر أو الأشخاص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171717"/>
                </a:solidFill>
                <a:latin typeface="Verdana"/>
              </a:rPr>
              <a:t>ب- المفاهيم: هي مجموعة الرموز أو الأشياء التي تجتمع معا كونها تمتلك صفات مشتركة، وهي صورة ذهنية مجردة يستطيع الفرد أن يتصورها عن موضوع ما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171717"/>
                </a:solidFill>
                <a:latin typeface="Verdana"/>
              </a:rPr>
              <a:t>ت- التعميمات: وهي عبارات تربط مفهومين أو أكثر بهدف توضيح العلاقة بين المفاهيم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171717"/>
                </a:solidFill>
                <a:latin typeface="Verdana"/>
              </a:rPr>
              <a:t>ث- النظريات أو المبادئ: هي تنظيمات من المفاهيم أو التعميمات التي تكون على علاقة مع بعضها البعض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buClr>
                <a:srgbClr val="171717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9e"/>
                </a:solidFill>
                <a:latin typeface="Arial"/>
              </a:rPr>
              <a:t>معايير اختيار المحتوى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6" name="Text Box 4"/>
          <p:cNvSpPr/>
          <p:nvPr/>
        </p:nvSpPr>
        <p:spPr>
          <a:xfrm>
            <a:off x="6567480" y="23637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7" name="AutoShape 10"/>
          <p:cNvSpPr/>
          <p:nvPr/>
        </p:nvSpPr>
        <p:spPr>
          <a:xfrm>
            <a:off x="71280" y="1143000"/>
            <a:ext cx="795600" cy="5357880"/>
          </a:xfrm>
          <a:custGeom>
            <a:avLst/>
            <a:gdLst>
              <a:gd name="textAreaLeft" fmla="*/ 508320 w 795600"/>
              <a:gd name="textAreaRight" fmla="*/ 795960 w 795600"/>
              <a:gd name="textAreaTop" fmla="*/ 97560 h 5357880"/>
              <a:gd name="textAreaBottom" fmla="*/ 5260320 h 5357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630"/>
                  <a:pt x="10800" y="1260"/>
                </a:cubicBezTo>
                <a:lnTo>
                  <a:pt x="10800" y="9373"/>
                </a:lnTo>
                <a:cubicBezTo>
                  <a:pt x="10800" y="10003"/>
                  <a:pt x="5400" y="10633"/>
                  <a:pt x="0" y="10633"/>
                </a:cubicBezTo>
                <a:cubicBezTo>
                  <a:pt x="5400" y="10633"/>
                  <a:pt x="10800" y="11263"/>
                  <a:pt x="10800" y="11893"/>
                </a:cubicBezTo>
                <a:lnTo>
                  <a:pt x="10800" y="20340"/>
                </a:lnTo>
                <a:cubicBezTo>
                  <a:pt x="10800" y="2097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8" name="AutoShape 11"/>
          <p:cNvSpPr/>
          <p:nvPr/>
        </p:nvSpPr>
        <p:spPr>
          <a:xfrm>
            <a:off x="8261280" y="1071720"/>
            <a:ext cx="739800" cy="5286240"/>
          </a:xfrm>
          <a:custGeom>
            <a:avLst/>
            <a:gdLst>
              <a:gd name="textAreaLeft" fmla="*/ 0 w 739800"/>
              <a:gd name="textAreaRight" fmla="*/ 267120 w 739800"/>
              <a:gd name="textAreaTop" fmla="*/ 106200 h 5286240"/>
              <a:gd name="textAreaBottom" fmla="*/ 5180040 h 5286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694"/>
                  <a:pt x="10800" y="1387"/>
                </a:cubicBezTo>
                <a:lnTo>
                  <a:pt x="10800" y="9413"/>
                </a:lnTo>
                <a:cubicBezTo>
                  <a:pt x="10800" y="10107"/>
                  <a:pt x="16200" y="10800"/>
                  <a:pt x="21600" y="10800"/>
                </a:cubicBezTo>
                <a:cubicBezTo>
                  <a:pt x="16200" y="10800"/>
                  <a:pt x="10800" y="11494"/>
                  <a:pt x="10800" y="12187"/>
                </a:cubicBezTo>
                <a:lnTo>
                  <a:pt x="10800" y="20213"/>
                </a:lnTo>
                <a:cubicBezTo>
                  <a:pt x="10800" y="20907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9" name="Text Box 27"/>
          <p:cNvSpPr/>
          <p:nvPr/>
        </p:nvSpPr>
        <p:spPr>
          <a:xfrm>
            <a:off x="755640" y="1143000"/>
            <a:ext cx="7817040" cy="56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171717"/>
                </a:solidFill>
                <a:latin typeface="Verdana"/>
              </a:rPr>
              <a:t> </a:t>
            </a:r>
            <a:r>
              <a:rPr b="0" lang="ar-SA" sz="2000" spc="-1" strike="noStrike">
                <a:solidFill>
                  <a:srgbClr val="171717"/>
                </a:solidFill>
                <a:latin typeface="Verdana"/>
              </a:rPr>
              <a:t>أ- الصدق: يكون المحتوى صادقا عند اتساقه مع الأهداف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171717"/>
                </a:solidFill>
                <a:latin typeface="Verdana"/>
              </a:rPr>
              <a:t>ب- الدلالة: يجب أن يكون المحتوى ذا قيمة في حياة الطلبة، بحيث يغطي الجوانب المختلفة من ميادين المعرفة والقيم والمهارات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171717"/>
                </a:solidFill>
                <a:latin typeface="Verdana"/>
              </a:rPr>
              <a:t>ت- التوازن بين السعة والعمق: يجب الاتساق بين السعة (الحجم) والعمق (الدقة) في محتوى المادة الدراسية بحيث يكون بصورة ملائمة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171717"/>
                </a:solidFill>
                <a:latin typeface="Verdana"/>
              </a:rPr>
              <a:t>ث- شمولية الأهداف: أي أن تكون الهداف شاملة لعملية التعليم والتعلم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171717"/>
                </a:solidFill>
                <a:latin typeface="Verdana"/>
              </a:rPr>
              <a:t>ج- الاهتمامات والميول:إذ يجب أن يبنى المحتوى في ضوء ميول واهتمامات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171717"/>
                </a:solidFill>
                <a:latin typeface="Verdana"/>
              </a:rPr>
              <a:t>ح- الاتساق مع الواقع الاجتماعي: أي مراعاة طبيعة المجتمع بحيث لا يحدث تناقض أو انفصال بين المدرسة والمجتمع فيما يتعلمه الطلبة,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171717"/>
                </a:solidFill>
                <a:latin typeface="Verdana"/>
              </a:rPr>
              <a:t>خ- القدرة على التعلم: ويقصد به أن يكون المحتوى مراعيا قدرات المتعلمين العقلية والجسمية والنفسية ومتماشيا مع الفروق الفردية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171717"/>
                </a:solidFill>
                <a:latin typeface="Verdana"/>
              </a:rPr>
              <a:t>د- الفائدة (المنفعة): وهي أن تسهم المادة المتعلمة في زيادة خبرات الطلبة لحل مشكلاتهم والإفادة منها في حياتهم اليومية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171717"/>
                </a:solidFill>
                <a:latin typeface="Verdana"/>
              </a:rPr>
              <a:t>ذ- إمكانية التقويم: من المهم أن يكون المحتوى قابلا للقياس والتقويم من التعرف على مدى تحقق الأهداف ومواطن القوة والضعف فيه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171717"/>
                </a:solidFill>
                <a:latin typeface="Verdana"/>
              </a:rPr>
              <a:t>ر- العالمية: أن المحتوى يراعى الجانب الوطني في كافة أبعاده، لكن لابد أن يتضمن المحتوى معلومات تربط الطلبة بالعالم وتتخطى الحدود الجغرافية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buClr>
                <a:srgbClr val="171717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2314080" y="2205000"/>
            <a:ext cx="547236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000" spc="-1" strike="noStrike">
                <a:solidFill>
                  <a:srgbClr val="000000"/>
                </a:solidFill>
                <a:latin typeface="Arial Black"/>
                <a:cs typeface="Andalus"/>
              </a:rPr>
              <a:t>شكرا لحسن إصغائكم</a:t>
            </a:r>
            <a:endParaRPr b="1" lang="en-US" sz="60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7T11:43:54Z</dcterms:created>
  <dc:creator>GsM</dc:creator>
  <dc:description/>
  <dc:language>en-US</dc:language>
  <cp:lastModifiedBy>DR.Ahmed Saker 2o1O</cp:lastModifiedBy>
  <dcterms:modified xsi:type="dcterms:W3CDTF">2019-04-24T20:18:50Z</dcterms:modified>
  <cp:revision>41</cp:revision>
  <dc:subject/>
  <dc:title>وزارة التعليم العالي والبحث العلمي جامعة بغداد بالتعاون مع منظمة</dc:title>
</cp:coreProperties>
</file>