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D31-E1A9-45FC-A472-C51A89E3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3DC-2DC8-49B2-8EE1-BE9FEAA1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16B-6AC7-4AE7-B12C-322BE7B5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786-2327-4DC3-A748-20764FA8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EFE9-9BF1-4EED-9237-372469DD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71FA-38BA-41C3-90A8-868356CF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2706-E590-451A-8F47-E814B838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323A-DD5A-4A5B-9E69-A2E1A21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6A16-3D06-4E34-BB32-6183648A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4700-50F9-4D25-84E2-0E5C4949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7C7B-522E-44F9-A554-E48F655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F80-4837-471A-B27D-466FD70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410D-20DD-4E72-A74F-7A81D8F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54A-5A22-443A-91CF-C667A2E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FF2C-9D94-46AB-9E93-84D79A8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4E1D-B96A-45F2-9EC0-E1E133B0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DD90-DB13-4D1C-85CC-A39C5CE7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8BE2-5133-4D06-912F-A46D2C12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25A4-82E7-4E71-966E-529E5B7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144F-7B10-40F7-BACB-74A4A955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3ABA-4880-4844-8D61-0ED0DF2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4A78-7605-4FA2-87CD-D497EADC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B4C-C5CB-4933-938B-BB0123C3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7223-36F9-46D6-AFA2-CCD499F0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6FF1-1DAD-4402-81AD-5CA635EB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412C-D860-440E-8606-8C1AE9E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EA97-46AA-448D-8FFF-191D0C0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4A06-7D29-49DD-8B02-081BAC65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B483-7C37-4A9F-B2CE-3471961D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F5C5-7700-48B8-90AE-C66B35FF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F7BA-F60F-465D-961F-ED78D062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FB12-9E6A-4B44-8863-E4483046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2621-F4C5-494E-A49A-FD77420A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8CA-5CA4-4D24-B66C-9B5F4142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D381-A78D-4FB9-850A-57F8C30C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108C-0DC5-43B7-AA37-02F4D12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616E-0493-40B2-A30A-A5460465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BF0F-670C-4AFA-BC8D-33BC933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08FF-EF40-481B-AF4E-0CA9052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C79D-0646-44C4-8881-5960EEF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7CF8-6333-419F-86B4-3EDE1B81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9BF1-5AF4-4E7E-991A-20BFC22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0896-8085-4F53-9BA4-1D6FDB25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4C3F-D737-4682-8233-C6C49402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095-548B-4FB3-850C-735ACBD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7F06-3404-4AE1-8D61-21CF9E7E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86B7-6351-422A-8236-1F51EFA2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E544-BE0F-4AF6-AE1F-97578B47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45F73-3507-4BE6-BC6A-AE31826E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1663-AAA9-4B36-883F-DEAEFAB2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C2BFF-4BF7-43EE-B3AC-64955D2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C174-D1CC-4578-9450-B140984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DBB1-2071-4258-87DC-436E988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DA4D-3763-4E33-A5B8-0E48A634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037F-F6F4-4C30-87AB-F6DDA7A9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0D6-744B-4F90-8354-7E42C391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8DC97-2F5A-4C0F-A189-6BF8B9E9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1FF9F-BB56-4506-89B0-06F8D46E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171C2-774C-4B8A-B02C-3E6184B0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89737-CD0A-44FD-A954-171DCAFE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7AB1C-9A80-4F4C-B7AD-AEFC749E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07E5-BFD5-4CB1-92BA-EEE67508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390B-47F8-4028-A868-D84E1524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97E2-49E9-4386-86EA-531954E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664D3-03DA-4EC6-8F5D-232676F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519F-E642-4A64-8FE0-6B24089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DA5-5285-4478-B6D4-059A1F30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16435-C4F3-4969-9B91-B79F837E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A75F-7CC7-4EA3-B70C-9E60AFCB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A612-A836-495A-A9CF-8DA36EEF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380-C4C9-47C7-9028-B7B4E8C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470-3915-4A48-8FF2-671D7A73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EDB-0A9D-4812-8D56-6D5D9148395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532-9E9A-46C2-8454-A87EEDED48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D61-626C-4FE6-A486-4A335DF24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FFEB-B945-479A-8B8D-802793EC0DE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5C71-1D73-495A-89DC-B6D48D6863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F640-619D-4070-8997-5D9721DC6C6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2071440"/>
            <a:ext cx="6229440" cy="45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4747"/>
                </a:solidFill>
                <a:latin typeface="Arial"/>
              </a:rPr>
              <a:t>هي العنصر الثالث من عناصر المنهج، ونجاح عملية التعليم مرتــبط بنجاح طريقة التدريس، فالضعف الذي قد يوجد بالمحتوى أو الضعف لدى بعض الطلاب قد تعالجه طريقة التدريس المناسبة.</a:t>
            </a:r>
            <a:br>
              <a:rPr sz="2800"/>
            </a:br>
            <a:r>
              <a:rPr b="0" lang="ar-SA" sz="2800" spc="-1" strike="noStrike">
                <a:solidFill>
                  <a:srgbClr val="ffff99"/>
                </a:solidFill>
                <a:latin typeface="Arial"/>
              </a:rPr>
              <a:t> </a:t>
            </a:r>
            <a:br>
              <a:rPr sz="2800"/>
            </a:br>
            <a:r>
              <a:rPr b="0" lang="ar-SA" sz="28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12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Verdana"/>
              </a:rPr>
              <a:t>مكونات أو عناصر المنه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0000"/>
                </a:solidFill>
                <a:latin typeface="Verdana"/>
              </a:rPr>
              <a:t>طريقة التدري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AutoShape 10"/>
          <p:cNvSpPr/>
          <p:nvPr/>
        </p:nvSpPr>
        <p:spPr>
          <a:xfrm>
            <a:off x="142920" y="1143000"/>
            <a:ext cx="795240" cy="542916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5429160"/>
              <a:gd name="textAreaBottom" fmla="*/ 5331600 h 542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2"/>
                  <a:pt x="10800" y="1243"/>
                </a:cubicBezTo>
                <a:lnTo>
                  <a:pt x="10800" y="9390"/>
                </a:lnTo>
                <a:cubicBezTo>
                  <a:pt x="10800" y="10012"/>
                  <a:pt x="5400" y="10633"/>
                  <a:pt x="0" y="10633"/>
                </a:cubicBezTo>
                <a:cubicBezTo>
                  <a:pt x="5400" y="10633"/>
                  <a:pt x="10800" y="11255"/>
                  <a:pt x="10800" y="11876"/>
                </a:cubicBezTo>
                <a:lnTo>
                  <a:pt x="10800" y="20357"/>
                </a:lnTo>
                <a:cubicBezTo>
                  <a:pt x="10800" y="209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1"/>
          <p:cNvSpPr/>
          <p:nvPr/>
        </p:nvSpPr>
        <p:spPr>
          <a:xfrm>
            <a:off x="8332920" y="1143000"/>
            <a:ext cx="739800" cy="550080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500800"/>
              <a:gd name="textAreaBottom" fmla="*/ 5394600 h 55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7"/>
                  <a:pt x="10800" y="1333"/>
                </a:cubicBezTo>
                <a:lnTo>
                  <a:pt x="10800" y="9467"/>
                </a:lnTo>
                <a:cubicBezTo>
                  <a:pt x="10800" y="10134"/>
                  <a:pt x="16200" y="10800"/>
                  <a:pt x="21600" y="10800"/>
                </a:cubicBezTo>
                <a:cubicBezTo>
                  <a:pt x="16200" y="10800"/>
                  <a:pt x="10800" y="11467"/>
                  <a:pt x="10800" y="12133"/>
                </a:cubicBezTo>
                <a:lnTo>
                  <a:pt x="10800" y="20267"/>
                </a:lnTo>
                <a:cubicBezTo>
                  <a:pt x="10800" y="2093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42960" y="13572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9e"/>
                </a:solidFill>
                <a:latin typeface="Verdana"/>
              </a:rPr>
              <a:t>النظرة</a:t>
            </a:r>
            <a:r>
              <a:rPr b="0" lang="en-US" sz="2800" spc="-1" strike="noStrike">
                <a:solidFill>
                  <a:srgbClr val="ffff9e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9e"/>
                </a:solidFill>
                <a:latin typeface="Verdana"/>
              </a:rPr>
              <a:t>القديم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 أنها وسيلة لإيصال المعلومات إلى المتعلم من خلال المعلم، وأن التعليم ما هو إلا عملية صب المعلومات في عقول المتعلمي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9e"/>
                </a:solidFill>
                <a:latin typeface="Verdana"/>
              </a:rPr>
              <a:t>النظرة الحديث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71717"/>
                </a:solidFill>
                <a:latin typeface="Verdana"/>
              </a:rPr>
              <a:t> أنها مجموعة من إجراءات التدريس المختارة سلفا من قبل المعلم، والتي يخطط لاستخدامها عند تنفيذ التدريس، بما يحقق الأهداف التدريسية المرجوة، بأقصى فاعلية ممكن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4-27T09:47:18Z</dcterms:modified>
  <cp:revision>43</cp:revision>
  <dc:subject/>
  <dc:title>وزارة التعليم العالي والبحث العلمي جامعة بغداد بالتعاون مع منظمة</dc:title>
</cp:coreProperties>
</file>