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EA4-E1D9-4F79-BDBF-C92895B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D29-97C4-4A85-9A9E-0EEF6BAA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367-1046-485D-9220-FB61EE5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46F-CF8A-4FF2-B830-EA68D6B9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38D0-4959-4551-8F43-191AE74F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6D2F-CE0A-4605-A6D6-ED776FB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B60A-C421-4DFD-B1DA-B327889A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04E1-C65C-4780-AF89-EED09418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EC5-C518-4C2C-829F-2717D6B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89F2-AD6D-4F07-8FE9-E95DC05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1AAF-8AB7-4B86-9292-642D875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15D-5E41-4FD2-9718-756AC948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B6B8-56BC-4DC5-8AF8-21DD196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DF37-57D7-4437-9720-50EE9958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741E-5E89-488B-9A04-86921A4C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4B0-77AA-4133-8ECE-869A0576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3A2A-3014-496B-B3B3-E3727C24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2143-572F-49FE-B7A8-43A03BED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CD1C-0F46-4792-8E3F-6D6F3E1F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9168-81A3-4117-8047-1B59703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196A-BC6A-40E9-87B8-446E3B1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314A-ED61-455E-8ECD-E6763DDD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BD2-EF06-4D4E-B1B1-B657F3D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E3AC-6083-4238-A1B3-8E458CBA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8898-D83A-4800-A0AB-FDDFDDE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9FE9-B961-47DC-9C9B-4D2C182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1189-EA7F-4ECB-B3BF-6E696B2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BC65-A2B2-4F6F-BDC0-FE46FD2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589F-DB26-4DDD-A6B6-73A55C6D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7FCD-1181-468B-8CBA-2E585922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59F4E-E125-40E5-8EDE-2E863956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59BC-DCA5-4E2A-8834-14FDDB25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9ACF-3736-4C9F-8F25-9C71A01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0CE-68C5-4681-9777-4F913FA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10C8-58A8-4557-8E6D-96C7BA4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FD47-38F7-4317-98F3-43735E15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33A9-6CBC-46A5-99E6-355B9B4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89E9-BBD7-4426-A0E8-8292B32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12B3-1987-44CF-8D11-CAAB9D5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A38F-15E1-48F3-87DE-1797D90F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55B9-6FD9-49B3-BBA5-5C4828F2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C86F-4F08-4D09-90B4-D88A9E5B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8A21-4447-4690-AACC-7E5A6DF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C0A1-E991-424D-B89A-7E2C46AD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152-50C5-4582-94FE-CF855175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367D-6C47-443A-B558-06203F42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6355-3BCC-4583-98BE-F0228500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BA86-B67A-4C2C-8D56-909F2F8B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3F7F9-1936-47A0-B3F6-81211152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EB2E-83CF-4F21-A483-216D6E5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B64C-DFBE-47B0-A0FC-AAA307F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A03E-C2CC-4C09-BAD4-5A5F16B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FF3A-964F-49C6-97F9-20069DAF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9D2D-59DB-4078-8BB2-A6E2CA9C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91C7-D93E-4993-8A3E-10BDB9F8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E9D-D0FB-4BDA-841A-7A941045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09A3-D090-44DA-B62A-6DD760E6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B4E18-FB9C-4787-8252-3A2D8EE3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E10F-9562-4962-9774-70F91A7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8DAE-B3EB-4D2A-B528-79F7F635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4F1D-312D-484B-ACC3-A46B387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D848-6103-48A6-9C63-37F567FC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DDA93-078E-443D-B13B-D65B5F20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0AE0-3201-49B6-BD36-B697FC7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65E0-620F-4244-B3C1-18B857F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D25B-EDB8-4AF1-AA2D-34FF99AA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25B-F53B-4EE1-9503-DBD9C206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18FC-02B2-4496-9B46-073F011F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F7978-714F-413D-85E7-9EFF2A1F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8741F-F869-46CC-986B-BF2AB165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3CB-D395-4583-9912-BC498E3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960-208F-4962-936F-E8EEE5B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F023-6260-4278-821F-61B9F9791A7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69B1-9551-4273-BD15-D48795FC80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9C14-A888-4981-B458-255D98E60D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E9E6-7F5B-44D0-A6BA-7BE80AB0722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7DE-F1D1-4B1D-A149-D5C92D19FA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6C6-BD52-40CF-A111-ABA0C92FBB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642680"/>
            <a:ext cx="6229440" cy="5072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تعرف الأنشطة التعليمية بأنها: </a:t>
            </a:r>
            <a:r>
              <a:rPr b="0" lang="ar-IQ" sz="2800" spc="-1" strike="noStrike">
                <a:solidFill>
                  <a:srgbClr val="ff0000"/>
                </a:solidFill>
                <a:latin typeface="Arial"/>
              </a:rPr>
              <a:t>هي مجموعة من الإجراءات التي يقوم بها كل من المعلم والمتعلم من أجل تحقيق الأهداف إلى درجة الإتقان ، وهي العنصر الرابع من عناصر المنهج وقد تكون تعليمية يقوم بها المعلم، وقد تكون تعلّمية يقوم بها المتعلم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ar-IQ" sz="2800" spc="-1" strike="noStrike">
                <a:solidFill>
                  <a:srgbClr val="ff0000"/>
                </a:solidFill>
                <a:latin typeface="Arial"/>
              </a:rPr>
              <a:t>وتعرف أيضا: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جميع الوسائط التي يستخدمها المعلم في الموقف التعليمي لتوصيل الحقائق، أو الأفكار، أو المعاني لجعل الدرس أكثر إثارة وتشويقا، وجعل الخبرة التربوية خبرة حية وهادفة.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عناصر أو مكونات المنه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((الأنشطة والوسائل التعليمية)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cc"/>
                </a:solidFill>
                <a:latin typeface="Arial"/>
              </a:rPr>
              <a:t>معايير اختيار الأنشطة التعليمية لتنفيذها داخل المدرسة وخارجها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42920" y="1285920"/>
            <a:ext cx="795240" cy="528624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286240"/>
              <a:gd name="textAreaBottom" fmla="*/ 5188680 h 528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9"/>
                  <a:pt x="10800" y="1277"/>
                </a:cubicBezTo>
                <a:lnTo>
                  <a:pt x="10800" y="9356"/>
                </a:lnTo>
                <a:cubicBezTo>
                  <a:pt x="10800" y="9995"/>
                  <a:pt x="5400" y="10633"/>
                  <a:pt x="0" y="10633"/>
                </a:cubicBezTo>
                <a:cubicBezTo>
                  <a:pt x="5400" y="10633"/>
                  <a:pt x="10800" y="11272"/>
                  <a:pt x="10800" y="11910"/>
                </a:cubicBezTo>
                <a:lnTo>
                  <a:pt x="10800" y="20323"/>
                </a:lnTo>
                <a:cubicBezTo>
                  <a:pt x="10800" y="209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8286840" y="1214280"/>
            <a:ext cx="739800" cy="53578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357880"/>
              <a:gd name="textAreaBottom" fmla="*/ 525168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642960" y="1668600"/>
            <a:ext cx="792972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ـ ارتباط النشاط بالمنهج ارتباطاً وثيقاً لتكون امتداداً طبيعياً للمواقف التعليمية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أن يسهم جميع أعضاء الهيئة التعليمية بالأنشطة المدرسية وبمشاركة الطلاب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أن يتسم النشاط بالدقة والجدية في أدائه أو تنفيذه في الوقت المناسب ( أول الدرس ، وسط الدرس ، آخر الدرس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أن تتنوع الأنشطة التعليمية خلال التدريس وعدم الاقتصار على نشاط مح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أن تخدم الأنشطة التعليمية عدد كبير من الطلاب وعدم استئثار القليل من الطلاب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أن تنبثق الأنشطة التعليمية من إمكانات بيئة المدرسة وواقعها وظروفها كالبيئة الصناعية أو الزراعية وعدم إقحام المدرسة بأنشطة لا تستطيع الإيفاء بها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Verdana"/>
              </a:rPr>
              <a:t>ــ</a:t>
            </a:r>
            <a:r>
              <a:rPr b="0" lang="ar-IQ" sz="2400" spc="-1" strike="noStrike">
                <a:solidFill>
                  <a:srgbClr val="000000"/>
                </a:solidFill>
                <a:latin typeface="Verdana"/>
              </a:rPr>
              <a:t> أن تخضع الأنشطة التعليمية للتقويم من أجل تعرف نتائج التعلم وتحقق الأهدا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ffffcc"/>
                </a:solidFill>
                <a:latin typeface="Arial"/>
              </a:rPr>
              <a:t>أنواع الأنشطة التعليمية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214200" y="1500120"/>
            <a:ext cx="795600" cy="44290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61280" y="144612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714240" y="178596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Verdana"/>
              </a:rPr>
              <a:t>ــ الأنشطة العلمية ( الأندية ومعارض العلوم ومراكز حماية البيئ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Verdana"/>
              </a:rPr>
              <a:t>ــ الأنشطة الثقافية ( الأندية الثقافية والندوات والقصص والشعر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Verdana"/>
              </a:rPr>
              <a:t>ــ الأنشطة الفنيـــــة ( الرسم والموسيقــى والمسر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Verdana"/>
              </a:rPr>
              <a:t>ــ الأنشطة الرياضية ( العاب القوى والساحة والميدان والكرة والكشاف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Verdana"/>
              </a:rPr>
              <a:t>ــ الأنشطة الاجتماعية ( الزيارات والرحلات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Verdana"/>
              </a:rPr>
              <a:t>ــ الأنشطة الصيفية ( وهي الأنشطة التي تقام خلال فصل الصيف مثل المعسكرات العلمية والثقافية والمشاريع الفردية أو الجماعية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ffffcc"/>
                </a:solidFill>
                <a:latin typeface="Arial"/>
              </a:rPr>
              <a:t>مشكلات الأنشطة المدرسي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71280" y="1143000"/>
            <a:ext cx="795600" cy="53578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5357880"/>
              <a:gd name="textAreaBottom" fmla="*/ 5260320 h 535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0"/>
                  <a:pt x="10800" y="1260"/>
                </a:cubicBezTo>
                <a:lnTo>
                  <a:pt x="10800" y="9373"/>
                </a:lnTo>
                <a:cubicBezTo>
                  <a:pt x="10800" y="10003"/>
                  <a:pt x="5400" y="10633"/>
                  <a:pt x="0" y="10633"/>
                </a:cubicBezTo>
                <a:cubicBezTo>
                  <a:pt x="5400" y="10633"/>
                  <a:pt x="10800" y="11263"/>
                  <a:pt x="10800" y="11893"/>
                </a:cubicBezTo>
                <a:lnTo>
                  <a:pt x="10800" y="20340"/>
                </a:lnTo>
                <a:cubicBezTo>
                  <a:pt x="10800" y="209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8261280" y="1071720"/>
            <a:ext cx="739800" cy="528624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286240"/>
              <a:gd name="textAreaBottom" fmla="*/ 518004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4"/>
                  <a:pt x="10800" y="1387"/>
                </a:cubicBezTo>
                <a:lnTo>
                  <a:pt x="10800" y="9413"/>
                </a:lnTo>
                <a:cubicBezTo>
                  <a:pt x="10800" y="10107"/>
                  <a:pt x="16200" y="10800"/>
                  <a:pt x="21600" y="10800"/>
                </a:cubicBezTo>
                <a:cubicBezTo>
                  <a:pt x="16200" y="10800"/>
                  <a:pt x="10800" y="11494"/>
                  <a:pt x="10800" y="12187"/>
                </a:cubicBezTo>
                <a:lnTo>
                  <a:pt x="10800" y="20213"/>
                </a:lnTo>
                <a:cubicBezTo>
                  <a:pt x="10800" y="209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755640" y="1143000"/>
            <a:ext cx="781704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عدم الإيمان الحقيقي بقيمة الأنشطة وأهميتها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عدم إعطاء الوقت الكافي لهذه الأنشطة في المدارس وأثناء الدوام اليومي  والاعتماد على الدروس النظري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إرهاق المدرسين بعدد الحصص الكثيرة التي تمنعهم من اعتماد هذه الأنشطة مما يثقل كاهل المدرس بالعديد من الواجبات الإضافي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كثرة المواد الدراسية وطول المقررات الدراسي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عدم وجود الدعم المالي وقلة الإمكانات المتوفرة في المدرس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عدم حصول الطالب على النشاط الذي يروم الحصول عليه التي لا تلبي طموحاتهم ورغباتهم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Verdana"/>
              </a:rPr>
              <a:t>- جهل العائلة بأهمية الأنشطة التربوية وظنهم بأن هذه الأنشطة تعطل أبنائهم عن الدراسة والتحصي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4-27T10:30:47Z</dcterms:modified>
  <cp:revision>46</cp:revision>
  <dc:subject/>
  <dc:title>وزارة التعليم العالي والبحث العلمي جامعة بغداد بالتعاون مع منظمة</dc:title>
</cp:coreProperties>
</file>