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C243-BF61-4E8A-9043-7613E2C4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7F29-1BDC-49C8-9400-DE247744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5C6F-4ABA-4D7A-AEC4-F5BBE7C4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81DA-1384-412F-89EB-B8875163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433E-7B92-4612-934E-450CF95B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1B74-080A-4730-924E-2E424217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7A56-4564-4ECF-A20D-92309702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7C3C-4CB2-4742-93FC-B0E9693B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9653-208B-4422-9DB2-6D67226E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0A15-51A9-4F79-9F9B-C8317A23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F323-07E1-4D88-8C22-42AD9C8B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5E3B-0AA4-46AA-8602-0C46F72E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B160-2855-4A8C-9609-33993687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6F6B-1085-493B-AE61-3AB96FDB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2F84-D817-41B8-AF1F-48ACEF2A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147B-6660-42A2-897E-530FC19C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A623-940A-432C-A1DD-B677ABC5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CAC49-BA80-455B-9F33-60ACE1FE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CAC52-7807-4B02-9A4F-2410DFB0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3C45E-C0D5-47C0-BDCE-D77C047F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A175A-9004-402C-B269-22959FD7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CB411-6DF8-417B-B472-4F124172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9F16-322F-4E9C-A22F-821D811C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855B9-88AE-4436-B2FE-3A507952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51EAE-9F4C-4B17-AA15-F822FB62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A1D69-DCF3-493D-A068-C661D04D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6B30A-1428-4A20-ACBD-F2C7B6E4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3E9FA-B601-453F-A466-53556679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5838F-C677-47B2-BB57-7349B234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27E7D-2EAC-4708-90C8-D842E9A0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42236-7D99-4767-B839-50769479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50CC4-D9E4-46CA-BAAD-83E1C57B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05FAD-DC49-4647-8C9E-0CFBD848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2FDB-2166-4438-9F10-DA90F191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31EAE-F135-43FE-92DB-229617DE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A2B54-D71E-42D2-8047-DC56C887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6DAEF-5298-4045-9D3C-30E31E97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633CF-FA41-4C3C-8835-E3220D52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9CD44-9F96-40C6-B2DC-504D0D00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EC5C9-00A2-41F8-BF20-835250E5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97A8B-1FCC-4719-B68C-67DBBB78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82DE1-D03E-409A-8D6E-D44D067A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A83A5-D819-426D-86FD-4EACFA06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20B90-0423-4ABD-905C-183BF892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A038-4505-422F-B5A6-2CD2489F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ABF6D-A597-44AB-B623-ECA0A9F3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D86E6-677B-4288-BAB9-AD43DEB5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ECE4C-2574-406C-8F7C-5DBAF5F7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F6776-E91C-478E-8024-2F528E08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E2B79-F21B-49AE-A82F-E0807298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FCA2E-EFD5-44BF-B0C9-8C21A4C0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DC025-9CB9-44FD-8D03-EAD8755B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F2E82-908A-44A2-B7EC-07175A7D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16504-67F0-4E71-BAEF-298629B0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A6B13-0703-4135-B8EC-25BA8E65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0322-4A1B-4E53-A9E8-BAD2CAD1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BF0EE-B9A8-480C-923A-E6149D9A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E5832-D09D-4C6D-AAC8-6DBD7196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9DF95-C9F8-4D95-83DF-5AC60B86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08BCA-6D20-48D6-AFF5-F99E6483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CC0AB-E77A-4477-A45B-8EB6BCE0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A9F6E-C4B2-4059-A336-1AAB3FCF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5C188-32F2-4565-A5C4-6B0BCA38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AE196-E0EF-4BD8-8FED-94A961B9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E6C11-3A9E-42F1-B58C-4C43D23D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08F65-48CE-4C36-868E-3F1985B7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A32A-9567-401E-8537-DBDE25A2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7C114-568A-4F81-9A45-A8FD62F1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0D6BC-9B4A-4DD6-8265-5DDE5D98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5C7D8-3049-4C4B-AAD3-B25CDA0A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D8E-2BF9-47E4-8328-5F68F4BA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364B-C4BE-42E7-97F9-C7A591E4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537A-FC17-4AD0-B88A-F2B50C483B9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BE52-2A2F-45B2-A9C1-1138951C728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38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FCCA-BA20-4258-93A2-7F87B7C337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88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9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0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1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3F32-05A3-4431-A441-508563839A78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6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8374-1B00-4B0D-8F88-95E2544F362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25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6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7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9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0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A536-7E6D-412E-BE75-8EF728578D9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357120" y="785880"/>
            <a:ext cx="84297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161616"/>
                </a:solidFill>
                <a:latin typeface="Verdana"/>
              </a:rPr>
              <a:t>جامعة بغداد/ كلية التربية للبنات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161616"/>
                </a:solidFill>
                <a:latin typeface="Verdana"/>
              </a:rPr>
              <a:t>قسم اللغة العرب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161616"/>
                </a:solidFill>
                <a:latin typeface="Verdana"/>
              </a:rPr>
              <a:t>محاضرات في مناهج وطرائق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161616"/>
                </a:solidFill>
                <a:latin typeface="Verdana"/>
              </a:rPr>
              <a:t> تدريس اللغة العربي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66"/>
                </a:solidFill>
                <a:latin typeface="Verdana"/>
              </a:rPr>
              <a:t>إعدا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66"/>
                </a:solidFill>
                <a:latin typeface="Verdana"/>
              </a:rPr>
              <a:t>أ.م.د عدي راشد محمد القلمج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28920" y="1642680"/>
            <a:ext cx="6229440" cy="507204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فالتقويم هو: عملية لإصدار أحكام والوصول إلى قرارات من خلال التعرف على نواحي القوة والضعف في ضوء الأهداف التربوية بقصد تحسين عملية التعليم والتعلم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11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Verdana"/>
              </a:rPr>
              <a:t>عناصر أو مكونات المنه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0000"/>
                </a:solidFill>
                <a:latin typeface="Verdana"/>
              </a:rPr>
              <a:t>((</a:t>
            </a:r>
            <a:r>
              <a:rPr b="1" lang="ar-IQ" sz="3200" spc="-1" strike="noStrike">
                <a:solidFill>
                  <a:srgbClr val="ff0000"/>
                </a:solidFill>
                <a:latin typeface="Verdana"/>
              </a:rPr>
              <a:t>التقويم</a:t>
            </a:r>
            <a:r>
              <a:rPr b="1" lang="ar-IQ" sz="3200" spc="-1" strike="noStrike">
                <a:solidFill>
                  <a:srgbClr val="ff0000"/>
                </a:solidFill>
                <a:latin typeface="Verdana"/>
              </a:rPr>
              <a:t>)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نواع التقويم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567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AutoShape 10"/>
          <p:cNvSpPr/>
          <p:nvPr/>
        </p:nvSpPr>
        <p:spPr>
          <a:xfrm>
            <a:off x="142920" y="1285920"/>
            <a:ext cx="795240" cy="5286240"/>
          </a:xfrm>
          <a:custGeom>
            <a:avLst/>
            <a:gdLst>
              <a:gd name="textAreaLeft" fmla="*/ 507960 w 795240"/>
              <a:gd name="textAreaRight" fmla="*/ 795600 w 795240"/>
              <a:gd name="textAreaTop" fmla="*/ 97560 h 5286240"/>
              <a:gd name="textAreaBottom" fmla="*/ 5188680 h 528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9"/>
                  <a:pt x="10800" y="1277"/>
                </a:cubicBezTo>
                <a:lnTo>
                  <a:pt x="10800" y="9356"/>
                </a:lnTo>
                <a:cubicBezTo>
                  <a:pt x="10800" y="9995"/>
                  <a:pt x="5400" y="10633"/>
                  <a:pt x="0" y="10633"/>
                </a:cubicBezTo>
                <a:cubicBezTo>
                  <a:pt x="5400" y="10633"/>
                  <a:pt x="10800" y="11272"/>
                  <a:pt x="10800" y="11910"/>
                </a:cubicBezTo>
                <a:lnTo>
                  <a:pt x="10800" y="20323"/>
                </a:lnTo>
                <a:cubicBezTo>
                  <a:pt x="10800" y="2096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8286840" y="1214280"/>
            <a:ext cx="739800" cy="5357880"/>
          </a:xfrm>
          <a:custGeom>
            <a:avLst/>
            <a:gdLst>
              <a:gd name="textAreaLeft" fmla="*/ 0 w 739800"/>
              <a:gd name="textAreaRight" fmla="*/ 267120 w 739800"/>
              <a:gd name="textAreaTop" fmla="*/ 106200 h 5357880"/>
              <a:gd name="textAreaBottom" fmla="*/ 5251680 h 535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5"/>
                  <a:pt x="10800" y="1369"/>
                </a:cubicBezTo>
                <a:lnTo>
                  <a:pt x="10800" y="9431"/>
                </a:lnTo>
                <a:cubicBezTo>
                  <a:pt x="10800" y="10116"/>
                  <a:pt x="16200" y="10800"/>
                  <a:pt x="21600" y="10800"/>
                </a:cubicBezTo>
                <a:cubicBezTo>
                  <a:pt x="16200" y="10800"/>
                  <a:pt x="10800" y="11485"/>
                  <a:pt x="10800" y="12169"/>
                </a:cubicBezTo>
                <a:lnTo>
                  <a:pt x="10800" y="20231"/>
                </a:lnTo>
                <a:cubicBezTo>
                  <a:pt x="10800" y="2091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Text Box 27"/>
          <p:cNvSpPr/>
          <p:nvPr/>
        </p:nvSpPr>
        <p:spPr>
          <a:xfrm>
            <a:off x="642960" y="1285920"/>
            <a:ext cx="7929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أ- التقويم الأولي : ويتم عادة قبل عملية التعلم ، ويهدف الى تـقويم الطالب قدرته وميوله وحاجاته واتجاهاته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ب- التقويم البنائي أو التكويني: يحدث أثناء عملية التعليم والتعلم، ويهدف إلى معرفه مدى إتقان عمل تعليمي معين (مفهوم معين ، مهارة معينه )، ويعد مهما في التغذية الراجعة لأنه يساعد المدرس في تلافي القصور في وقته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ت- التقويم التشخيصي: يهتم بالتعرف على الطلاب الذين يعانون من صعوبات دراسية معينة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ث- التقويم الختامي: يأتي عادة في نهاية البرنامج أو الدرس للتعرف على مدى ما تحقق من أهداف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Arial"/>
              </a:rPr>
              <a:t>أساليب تقويم المعارف.</a:t>
            </a:r>
            <a:br>
              <a:rPr sz="2800"/>
            </a:br>
            <a:r>
              <a:rPr b="1" lang="ar-SA" sz="28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cc"/>
                </a:solidFill>
                <a:latin typeface="Arial"/>
              </a:rPr>
              <a:t>- الأساليب الشفهية : وسيله هامة لتقويم الطلاب، ويكثر استخدامها في المرحلة الابتدائية .</a:t>
            </a:r>
            <a:br>
              <a:rPr sz="2800"/>
            </a:br>
            <a:r>
              <a:rPr b="1" lang="ar-SA" sz="28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cc"/>
                </a:solidFill>
                <a:latin typeface="Arial"/>
              </a:rPr>
              <a:t>- الأساليب التحريرية: هي الأكثر شيوعاً في المراحل الأخرى، وهي تشمل</a:t>
            </a:r>
            <a:r>
              <a:rPr b="1" lang="ar-IQ" sz="28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6567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214200" y="2143080"/>
            <a:ext cx="795600" cy="4000680"/>
          </a:xfrm>
          <a:custGeom>
            <a:avLst/>
            <a:gdLst>
              <a:gd name="textAreaLeft" fmla="*/ 508320 w 795600"/>
              <a:gd name="textAreaRight" fmla="*/ 795960 w 795600"/>
              <a:gd name="textAreaTop" fmla="*/ 97560 h 4000680"/>
              <a:gd name="textAreaBottom" fmla="*/ 3903120 h 400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44"/>
                  <a:pt x="10800" y="1687"/>
                </a:cubicBezTo>
                <a:lnTo>
                  <a:pt x="10800" y="8946"/>
                </a:lnTo>
                <a:cubicBezTo>
                  <a:pt x="10800" y="9790"/>
                  <a:pt x="5400" y="10633"/>
                  <a:pt x="0" y="10633"/>
                </a:cubicBezTo>
                <a:cubicBezTo>
                  <a:pt x="5400" y="10633"/>
                  <a:pt x="10800" y="11477"/>
                  <a:pt x="10800" y="12320"/>
                </a:cubicBezTo>
                <a:lnTo>
                  <a:pt x="10800" y="19913"/>
                </a:lnTo>
                <a:cubicBezTo>
                  <a:pt x="10800" y="207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AutoShape 11"/>
          <p:cNvSpPr/>
          <p:nvPr/>
        </p:nvSpPr>
        <p:spPr>
          <a:xfrm>
            <a:off x="8261280" y="2071800"/>
            <a:ext cx="739800" cy="4000320"/>
          </a:xfrm>
          <a:custGeom>
            <a:avLst/>
            <a:gdLst>
              <a:gd name="textAreaLeft" fmla="*/ 0 w 739800"/>
              <a:gd name="textAreaRight" fmla="*/ 267120 w 739800"/>
              <a:gd name="textAreaTop" fmla="*/ 106200 h 4000320"/>
              <a:gd name="textAreaBottom" fmla="*/ 3894120 h 400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17"/>
                  <a:pt x="10800" y="1833"/>
                </a:cubicBezTo>
                <a:lnTo>
                  <a:pt x="10800" y="8967"/>
                </a:lnTo>
                <a:cubicBezTo>
                  <a:pt x="10800" y="9884"/>
                  <a:pt x="16200" y="10800"/>
                  <a:pt x="21600" y="10800"/>
                </a:cubicBezTo>
                <a:cubicBezTo>
                  <a:pt x="16200" y="10800"/>
                  <a:pt x="10800" y="11717"/>
                  <a:pt x="10800" y="12633"/>
                </a:cubicBezTo>
                <a:lnTo>
                  <a:pt x="10800" y="19767"/>
                </a:lnTo>
                <a:cubicBezTo>
                  <a:pt x="10800" y="2068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Text Box 27"/>
          <p:cNvSpPr/>
          <p:nvPr/>
        </p:nvSpPr>
        <p:spPr>
          <a:xfrm>
            <a:off x="714240" y="2286000"/>
            <a:ext cx="77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 – اختبارات المقال</a:t>
            </a:r>
            <a:r>
              <a:rPr b="0" lang="ar-IQ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يقوم الطالب بكتابة إجابته على هيئة مقال قد يكون فقرة أو صفحة أو أكثر استجابة للمشكلة التي يطرحها السؤال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يجابيات الأسئلة المقالية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- سهولة بناء وتصميم الاختبا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- كفاءته في قياس كثير من القدرات المعرفية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- تتيح للمتعلم الفرصة لتنظيم إجابته وترتيبها، وعرض الحقائق عرضاً منطقيا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عيوب الأسئلة المقالية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- لا تغطي الاختبارات المقالية جميع موضوعات المادة لأن عدد أسئلتها قليلة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- أن تصحيحها قد يتأثر بعوامل ذاتية أو شخصية من قبل المعل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- تستغرق وقتا طويلا وجهدا في تصحيحها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6567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Text Box 27"/>
          <p:cNvSpPr/>
          <p:nvPr/>
        </p:nvSpPr>
        <p:spPr>
          <a:xfrm>
            <a:off x="0" y="0"/>
            <a:ext cx="9144000" cy="80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ب – الاختبارات الموضوعية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تتكون هذه الاختبارات من أسئلة مغلقة محددة الإجابات يقيس كل سؤال منها شيئا محدداً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ايجابيات الأسئلة الموضوعية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- تستغرق وقتا قصيرا في تصحيحها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- يمكن لغير المتخصص تصحيحها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- تغطي قدرا كبيرا من المقرر الدراسي لكثرة عدد الأسئلة في الاختبار الواحد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- تزيل الأسئلة الموضوعية خوف ورهبة المتعلمين من الاختبارات لأنها تتطلب منهم التعرف فقط على الإجابة الصحيحة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- تتصف بثبات وصدق عاليين نتيجة للتصحيح الموضوعي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- تشعر المتعلمين بعدالة التصحيح وتبعد التهمة بالتحيز والظلم عن المعلمين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عيوب الأسئلة الموضوعية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- تهمل القدرات الكتابية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- تشجع على التخمين وخاصة في أسئلة الصواب والخطأ إلا إذا عالجنا ذلك بتطبيق معادلة التصحيح وهي ما يعرف بمبدأ (الخطأ يأكل الصح)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- تأخذ جهدا في صياغتها وتتطلب كذلك مهارة ودقة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4"/>
          <p:cNvSpPr/>
          <p:nvPr/>
        </p:nvSpPr>
        <p:spPr>
          <a:xfrm>
            <a:off x="6567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Text Box 27"/>
          <p:cNvSpPr/>
          <p:nvPr/>
        </p:nvSpPr>
        <p:spPr>
          <a:xfrm>
            <a:off x="0" y="0"/>
            <a:ext cx="9144000" cy="78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 – الاختبارات الموضوعية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تتكون هذه الاختبارات من أسئلة مغلقة محددة الإجابات يقيس كل سؤال منها شيئا محددا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يجابيات الأسئلة الموضوعية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- تستغرق وقتا قصيرا في تصحيحها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- يمكن لغير المتخصص تصحيحها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- تغطي قدرا كبيرا من المقرر الدراسي لكثرة عدد الأسئلة في الاختبار الواح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- تزيل الأسئلة الموضوعية خوف ورهبة المتعلمين من الاختبارات لأنها تتطلب منهم التعرف فقط على الإجابة الصحيحة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- تتصف بثبات وصدق عاليين نتيجة للتصحيح الموضوعي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- تشعر المتعلمين بعدالة التصحيح وتبعد التهمة بالتحيز والظلم عن المعلمين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عيوب الأسئلة الموضوعية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- تهمل القدرات الكتابية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- تشجع على التخمين وخاصة في أسئلة الصواب والخطأ إلا إذا عالجنا ذلك بتطبيق معادلة التصحيح وهي ما يعرف بمبدأ (الخطأ يأكل الصح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- تأخذ جهدا في صياغتها وتتطلب كذلك مهارة ودقة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314080" y="2205000"/>
            <a:ext cx="54723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000000"/>
                </a:solidFill>
                <a:latin typeface="Arial Black"/>
                <a:cs typeface="Andalus"/>
              </a:rPr>
              <a:t>شكرا لحسن إصغائكم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1:43:54Z</dcterms:created>
  <dc:creator>GsM</dc:creator>
  <dc:description/>
  <dc:language>en-US</dc:language>
  <cp:lastModifiedBy>DR.Ahmed Saker 2o1O</cp:lastModifiedBy>
  <dcterms:modified xsi:type="dcterms:W3CDTF">2019-04-29T20:32:03Z</dcterms:modified>
  <cp:revision>48</cp:revision>
  <dc:subject/>
  <dc:title>وزارة التعليم العالي والبحث العلمي جامعة بغداد بالتعاون مع منظمة</dc:title>
</cp:coreProperties>
</file>