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CF491-0874-4C73-BFBC-332D8E388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8A988-0049-4E98-BBD1-119D9F446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0804F-979D-4ECC-9593-0FADE57E5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9CEF2-1A5F-42EA-ACAC-1542F8414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10CE9-3143-4965-B7DB-FDCDE8EC75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1297C-A95F-4D1A-B270-C64EE5371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71438-0327-4369-AE75-4E6C63645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1CCAA-BCD0-49CE-8F20-EA3380BAA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DC02F-D176-4DAB-B916-BCA3D8391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B534C-10E2-41CE-B1E7-5AE2FB58E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9C73E-7E86-4D59-84D9-838544D71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87B8F-80F1-435D-9818-ECAB56762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A6180-59C2-45D2-A831-9ADC681C9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77D23-D16A-4586-A59B-8170AA3C4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1C91E-B1C6-402B-B0B5-C4B4E4CF3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2D43A7-EB74-49D9-8883-63122FDBA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AC3CC-8326-4A31-844A-75AC1E53F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6EB43A-20CA-4485-A81C-09015F7673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F3245A-9391-4A61-AC38-1EF2444244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E5DCD7-A0C2-4A85-A109-898EC1D303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FCE83A-1CAC-4D80-963F-D4FB00BB8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52B06F-288D-499A-8D32-10B3AEA5DD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EFD90-2A6C-4C73-9193-964761933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F0B6D8-A71C-43E9-B56F-22110FCCF4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77D10F-C3E2-486A-84DC-41C2327E8A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7315A1-F827-44A9-AE80-9D731E2100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7BD3F1-239A-4A91-B4CE-D54B8E412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7B7FDE-6CE0-44BC-B332-814849D425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B2F377-EF2B-4ECE-9D80-39CA29CE54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A99297-82F1-4C8F-BB16-49E0EF5B55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39E669-BF91-4236-B2B9-9EF55C5909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883056-B7CD-4E99-A391-9013D7840C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C25C1A-992F-4A77-B9BC-0AA4C701B6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76A42-3590-4E6C-8487-CB4C28C47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E66460-D42C-4B0B-823A-8CA04C17EA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CC9518-BCF3-459C-88EB-017D7D2860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622308-6670-4258-A2AF-9CA0A09B2C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14133-5488-44FE-8789-CA5E151AA2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D0E7DB-D1D1-49D5-A594-ED404E860C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CD8C6B-AF95-4C6F-970C-97CCD5A0CA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5A6685-A1E5-4D23-8EB1-2BFA0658B0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3178CF-9A6A-4C10-B59E-C3DD6CCA65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C19CD7-948E-4182-809B-482268C794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327F72-06EF-43E5-B65D-061DF13E88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B385D-7C6C-44C6-AD4E-6AEAA5F0C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AFB54D-F67A-4B6F-B9B2-B44A1AC206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ABEFC7-AE79-4E91-8256-A1B0D329FB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6AA69A-A81A-46CA-9F9C-F8E3E42794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29175F-F51D-4C0E-9114-ACC053A2DC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358586-835D-4C2B-B27E-529F00CEB1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A2E45E-EA0F-4090-AA24-173C1E7CF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5D080E-C58B-4E21-8F98-BA569F42C0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9A85F2-6D07-4F6C-89DD-662ADB439B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9DFC08-D5CB-405A-9F8E-8215583F59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7C7396-74E4-4D25-B93B-DB118EB866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861B7-8E2E-40EC-8E07-71D9E7D14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6E4BE1-EB82-4CE7-A62F-4941F7DDB2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8C802C-0E7C-43FD-BEE0-DAF07E6A88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01B399-441C-49B1-B0BE-233E38A842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9B4C33-8FAA-4421-A2BB-C2CA046E04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EF87F9-79C7-45B5-B425-B16D8EF147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78277D-D30C-43D3-B833-92BDD0F4ED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A24C52-2FFE-429F-A798-F7DEDB2A63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F2040B-BE77-4831-9893-C5866ABDEB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DCB166-1119-413A-A887-C4213A7572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18E100-2E22-4707-A31C-7B294BE8FE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E392A-5506-48CB-8948-F8237F4CD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060E11-A3F7-4D4E-9888-17EADF968E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08A2F3-FF80-4359-8B11-2D355F3CB6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54719C-C015-4852-9411-AB77A32720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EA5DC-83E5-4527-B026-DBBFF7213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C53CD-8572-4D77-9849-0119DBC44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AF6D-6B67-4443-B33F-F0C64623956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80" name="Group 2"/>
          <p:cNvGrpSpPr/>
          <p:nvPr/>
        </p:nvGrpSpPr>
        <p:grpSpPr>
          <a:xfrm>
            <a:off x="4716360" y="5345280"/>
            <a:ext cx="4427640" cy="1512720"/>
            <a:chOff x="4716360" y="5345280"/>
            <a:chExt cx="4427640" cy="1512720"/>
          </a:xfrm>
        </p:grpSpPr>
        <p:sp>
          <p:nvSpPr>
            <p:cNvPr id="8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9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D128-EC84-4330-9378-5F1A29AC8C1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 name="Group 2"/>
          <p:cNvGrpSpPr/>
          <p:nvPr/>
        </p:nvGrpSpPr>
        <p:grpSpPr>
          <a:xfrm>
            <a:off x="318960" y="1828800"/>
            <a:ext cx="8825040" cy="5029200"/>
            <a:chOff x="318960" y="1828800"/>
            <a:chExt cx="8825040" cy="5029200"/>
          </a:xfrm>
        </p:grpSpPr>
        <p:sp>
          <p:nvSpPr>
            <p:cNvPr id="138"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46"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E88B-F9C5-4F6B-A96F-7624F843EB9D}"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5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87" name="Group 2"/>
          <p:cNvGrpSpPr/>
          <p:nvPr/>
        </p:nvGrpSpPr>
        <p:grpSpPr>
          <a:xfrm>
            <a:off x="0" y="0"/>
            <a:ext cx="9140760" cy="6851520"/>
            <a:chOff x="0" y="0"/>
            <a:chExt cx="9140760" cy="6851520"/>
          </a:xfrm>
        </p:grpSpPr>
        <p:sp>
          <p:nvSpPr>
            <p:cNvPr id="188"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9"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0"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2"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4"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6"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7"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200" name="Group 15"/>
            <p:cNvGrpSpPr/>
            <p:nvPr/>
          </p:nvGrpSpPr>
          <p:grpSpPr>
            <a:xfrm>
              <a:off x="304920" y="3625920"/>
              <a:ext cx="1990440" cy="1465200"/>
              <a:chOff x="304920" y="3625920"/>
              <a:chExt cx="1990440" cy="1465200"/>
            </a:xfrm>
          </p:grpSpPr>
          <p:sp>
            <p:nvSpPr>
              <p:cNvPr id="201"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2"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4"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6"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7"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8"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9"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0"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1"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2"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3"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5"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6"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8"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9"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0"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1"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4"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5"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2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3401-DCCA-4A4B-93E7-CF20071B54F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267" name="Group 2"/>
          <p:cNvGrpSpPr/>
          <p:nvPr/>
        </p:nvGrpSpPr>
        <p:grpSpPr>
          <a:xfrm>
            <a:off x="4716360" y="5345280"/>
            <a:ext cx="4427640" cy="1512720"/>
            <a:chOff x="4716360" y="5345280"/>
            <a:chExt cx="4427640" cy="1512720"/>
          </a:xfrm>
        </p:grpSpPr>
        <p:sp>
          <p:nvSpPr>
            <p:cNvPr id="26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8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B090-0F25-47FC-896F-A9AF6FD1914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24" name="Group 2"/>
          <p:cNvGrpSpPr/>
          <p:nvPr/>
        </p:nvGrpSpPr>
        <p:grpSpPr>
          <a:xfrm>
            <a:off x="318960" y="1752480"/>
            <a:ext cx="8825040" cy="5129280"/>
            <a:chOff x="318960" y="1752480"/>
            <a:chExt cx="8825040" cy="5129280"/>
          </a:xfrm>
        </p:grpSpPr>
        <p:sp>
          <p:nvSpPr>
            <p:cNvPr id="325"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6"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7"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8"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9"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0"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3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32"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3" name="PlaceHolder 3"/>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4" name="PlaceHolder 4"/>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5" name="PlaceHolder 5"/>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900E-0EBE-4D1A-A90B-E6575F1B3DF8}"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57120" y="785880"/>
            <a:ext cx="8429760" cy="5286240"/>
          </a:xfrm>
          <a:prstGeom prst="rect">
            <a:avLst/>
          </a:prstGeom>
          <a:noFill/>
          <a:ln w="0">
            <a:noFill/>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جامعة بغداد/ كلية التربية للبنات</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قسم اللغة العربية</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محاضرات في مناهج وطرائق</a:t>
            </a:r>
            <a:endParaRPr b="0" lang="en-US" sz="4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 تدريس اللغة العربية</a:t>
            </a:r>
            <a:endParaRPr b="0" lang="en-US" sz="4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إعداد</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أ.م.د عدي راشد محمد القلمجي</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428920" y="1642680"/>
            <a:ext cx="6229440" cy="5072040"/>
          </a:xfrm>
          <a:prstGeom prst="rect">
            <a:avLst/>
          </a:prstGeom>
          <a:solidFill>
            <a:srgbClr val="ffff66"/>
          </a:solidFill>
          <a:ln w="9360">
            <a:solidFill>
              <a:srgbClr val="ff0000"/>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منهج المواد المنفصلة</a:t>
            </a:r>
            <a:r>
              <a:rPr b="0" lang="en-US" sz="3200" spc="-1" strike="noStrike">
                <a:solidFill>
                  <a:srgbClr val="000000"/>
                </a:solidFill>
                <a:latin typeface="Arial"/>
              </a:rPr>
              <a:t>((</a:t>
            </a:r>
            <a:br>
              <a:rPr sz="3200"/>
            </a:br>
            <a:r>
              <a:rPr b="0" lang="ar-SA" sz="3200" spc="-1" strike="noStrike">
                <a:solidFill>
                  <a:srgbClr val="000000"/>
                </a:solidFill>
                <a:latin typeface="Arial"/>
              </a:rPr>
              <a:t>   يُعد منهج المواد الدراسية المنفصلة أقدم تنظيمات المناهج وأكثرها شيوعا، حتى أن بعضهم يرجعه الـى مدارس الإغريق القدماء بينما ينسبه البعض الـى العصور الوسطى  ومنهج المواد الدراسية المنفصلة يشمل الخبرات التي تأخذ شكل المواد الدراسية المعروفة مثل التاريخ والجغرافية والعلوم وغيرها ، وهذا المنهج  أنتشر استخدامه انتشاراً كبيراً فـي المدارس الابتدائية والثانويـة.</a:t>
            </a:r>
            <a:endParaRPr b="0" lang="en-US" sz="3200" spc="-1" strike="noStrike">
              <a:solidFill>
                <a:srgbClr val="ffff99"/>
              </a:solidFill>
              <a:latin typeface="Arial"/>
            </a:endParaRPr>
          </a:p>
        </p:txBody>
      </p:sp>
      <p:sp>
        <p:nvSpPr>
          <p:cNvPr id="374" name="PlaceHolder 2"/>
          <p:cNvSpPr>
            <a:spLocks noGrp="1"/>
          </p:cNvSpPr>
          <p:nvPr>
            <p:ph/>
          </p:nvPr>
        </p:nvSpPr>
        <p:spPr>
          <a:xfrm>
            <a:off x="457200" y="228240"/>
            <a:ext cx="8229600" cy="1128600"/>
          </a:xfrm>
          <a:prstGeom prst="rect">
            <a:avLst/>
          </a:prstGeom>
          <a:solidFill>
            <a:srgbClr val="ffffff"/>
          </a:solidFill>
          <a:ln w="0">
            <a:noFill/>
          </a:ln>
        </p:spPr>
        <p:txBody>
          <a:bodyPr anchor="t">
            <a:normAutofit fontScale="66000"/>
          </a:bodyPr>
          <a:p>
            <a:pPr marL="226080" indent="-226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0000"/>
                </a:solidFill>
                <a:latin typeface="Verdana"/>
              </a:rPr>
              <a:t>أنواع المناهج: (منهج المواد المنفصلة, منهج المواد المترابطة,  منهج النشاط, المنهج المحوري)</a:t>
            </a:r>
            <a:endParaRPr b="0" lang="en-US" sz="3200" spc="-1" strike="noStrike">
              <a:solidFill>
                <a:srgbClr val="ffffff"/>
              </a:solidFill>
              <a:latin typeface="Verdana"/>
            </a:endParaRPr>
          </a:p>
          <a:p>
            <a:pPr marL="226080" indent="-226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73"/>
                                        </p:tgtEl>
                                        <p:attrNameLst>
                                          <p:attrName>style.visibility</p:attrName>
                                        </p:attrNameLst>
                                      </p:cBhvr>
                                      <p:to>
                                        <p:strVal val="visible"/>
                                      </p:to>
                                    </p:set>
                                    <p:anim calcmode="lin" valueType="num">
                                      <p:cBhvr additive="base">
                                        <p:cTn id="7" dur="500" fill="hold"/>
                                        <p:tgtEl>
                                          <p:spTgt spid="373"/>
                                        </p:tgtEl>
                                        <p:attrNameLst>
                                          <p:attrName>ppt_x</p:attrName>
                                        </p:attrNameLst>
                                      </p:cBhvr>
                                      <p:tavLst>
                                        <p:tav tm="0">
                                          <p:val>
                                            <p:strVal val="#ppt_x"/>
                                          </p:val>
                                        </p:tav>
                                        <p:tav tm="100000">
                                          <p:val>
                                            <p:strVal val="#ppt_x"/>
                                          </p:val>
                                        </p:tav>
                                      </p:tavLst>
                                    </p:anim>
                                    <p:anim calcmode="lin" valueType="num">
                                      <p:cBhvr additive="base">
                                        <p:cTn id="8"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Arial"/>
              </a:rPr>
              <a:t>خصائص منهج المواد الدراسية المنفصلة </a:t>
            </a:r>
            <a:endParaRPr b="0" lang="en-US" sz="2800" spc="-1" strike="noStrike">
              <a:solidFill>
                <a:srgbClr val="ffffcc"/>
              </a:solidFill>
              <a:latin typeface="Arial"/>
            </a:endParaRPr>
          </a:p>
        </p:txBody>
      </p:sp>
      <p:sp>
        <p:nvSpPr>
          <p:cNvPr id="376"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7" name="AutoShape 10"/>
          <p:cNvSpPr/>
          <p:nvPr/>
        </p:nvSpPr>
        <p:spPr>
          <a:xfrm>
            <a:off x="142920" y="1285920"/>
            <a:ext cx="795240" cy="5286240"/>
          </a:xfrm>
          <a:custGeom>
            <a:avLst/>
            <a:gdLst>
              <a:gd name="textAreaLeft" fmla="*/ 507960 w 795240"/>
              <a:gd name="textAreaRight" fmla="*/ 795600 w 795240"/>
              <a:gd name="textAreaTop" fmla="*/ 97560 h 5286240"/>
              <a:gd name="textAreaBottom" fmla="*/ 5188680 h 5286240"/>
            </a:gdLst>
            <a:ahLst/>
            <a:rect l="textAreaLeft" t="textAreaTop" r="textAreaRight" b="textAreaBottom"/>
            <a:pathLst>
              <a:path w="21600" h="21600">
                <a:moveTo>
                  <a:pt x="21600" y="0"/>
                </a:moveTo>
                <a:cubicBezTo>
                  <a:pt x="16200" y="0"/>
                  <a:pt x="10800" y="639"/>
                  <a:pt x="10800" y="1277"/>
                </a:cubicBezTo>
                <a:lnTo>
                  <a:pt x="10800" y="9356"/>
                </a:lnTo>
                <a:cubicBezTo>
                  <a:pt x="10800" y="9995"/>
                  <a:pt x="5400" y="10633"/>
                  <a:pt x="0" y="10633"/>
                </a:cubicBezTo>
                <a:cubicBezTo>
                  <a:pt x="5400" y="10633"/>
                  <a:pt x="10800" y="11272"/>
                  <a:pt x="10800" y="11910"/>
                </a:cubicBezTo>
                <a:lnTo>
                  <a:pt x="10800" y="20323"/>
                </a:lnTo>
                <a:cubicBezTo>
                  <a:pt x="10800" y="20962"/>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8" name="AutoShape 11"/>
          <p:cNvSpPr/>
          <p:nvPr/>
        </p:nvSpPr>
        <p:spPr>
          <a:xfrm>
            <a:off x="8286840" y="1214280"/>
            <a:ext cx="739800" cy="5357880"/>
          </a:xfrm>
          <a:custGeom>
            <a:avLst/>
            <a:gdLst>
              <a:gd name="textAreaLeft" fmla="*/ 0 w 739800"/>
              <a:gd name="textAreaRight" fmla="*/ 267120 w 739800"/>
              <a:gd name="textAreaTop" fmla="*/ 106200 h 5357880"/>
              <a:gd name="textAreaBottom" fmla="*/ 5251680 h 5357880"/>
            </a:gdLst>
            <a:ahLst/>
            <a:rect l="textAreaLeft" t="textAreaTop" r="textAreaRight" b="textAreaBottom"/>
            <a:pathLst>
              <a:path w="21600" h="21600">
                <a:moveTo>
                  <a:pt x="0" y="0"/>
                </a:moveTo>
                <a:cubicBezTo>
                  <a:pt x="5400" y="0"/>
                  <a:pt x="10800" y="685"/>
                  <a:pt x="10800" y="1369"/>
                </a:cubicBezTo>
                <a:lnTo>
                  <a:pt x="10800" y="9431"/>
                </a:lnTo>
                <a:cubicBezTo>
                  <a:pt x="10800" y="10116"/>
                  <a:pt x="16200" y="10800"/>
                  <a:pt x="21600" y="10800"/>
                </a:cubicBezTo>
                <a:cubicBezTo>
                  <a:pt x="16200" y="10800"/>
                  <a:pt x="10800" y="11485"/>
                  <a:pt x="10800" y="12169"/>
                </a:cubicBezTo>
                <a:lnTo>
                  <a:pt x="10800" y="20231"/>
                </a:lnTo>
                <a:cubicBezTo>
                  <a:pt x="10800" y="20916"/>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9" name="Text Box 27"/>
          <p:cNvSpPr/>
          <p:nvPr/>
        </p:nvSpPr>
        <p:spPr>
          <a:xfrm>
            <a:off x="642960" y="1285920"/>
            <a:ext cx="7929720" cy="6189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Verdana"/>
              </a:rPr>
              <a:t> </a:t>
            </a:r>
            <a:r>
              <a:rPr b="0" lang="ar-SA" sz="2400" spc="-1" strike="noStrike">
                <a:solidFill>
                  <a:srgbClr val="ffffff"/>
                </a:solidFill>
                <a:latin typeface="Verdana"/>
              </a:rPr>
              <a:t> </a:t>
            </a:r>
            <a:r>
              <a:rPr b="0" lang="ar-SA" sz="2400" spc="-1" strike="noStrike">
                <a:solidFill>
                  <a:srgbClr val="ffffff"/>
                </a:solidFill>
                <a:latin typeface="Verdana"/>
              </a:rPr>
              <a:t>1</a:t>
            </a:r>
            <a:r>
              <a:rPr b="0" lang="ar-SA" sz="2400" spc="-1" strike="noStrike">
                <a:solidFill>
                  <a:srgbClr val="ffffff"/>
                </a:solidFill>
                <a:latin typeface="Verdana"/>
              </a:rPr>
              <a:t>. المنهج مكون من عدد كبير من المواد الدراسية المنفصلة عن بعضها، فالتاريخ يدرس منفصلا عن الجغرافية وعن الاجتماع والاقتصاد ، بل يقع الفصل بين فروع المادة الواحدة فالأدب والقواعـد والتعبير يُدرس كل منها منفصلاً</a:t>
            </a:r>
            <a:endParaRPr b="0" lang="en-US" sz="24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2</a:t>
            </a:r>
            <a:r>
              <a:rPr b="0" lang="ar-SA" sz="2400" spc="-1" strike="noStrike">
                <a:solidFill>
                  <a:srgbClr val="ffffff"/>
                </a:solidFill>
                <a:latin typeface="Verdana"/>
              </a:rPr>
              <a:t>. الحقائق داخل كل مادة تنظم تنظيماً منطقياً كما يراه المتخصصون فحقائق التاريخ تتبع التسلسل الزمني للحوادث </a:t>
            </a:r>
            <a:r>
              <a:rPr b="0" lang="ar-IQ" sz="2400" spc="-1" strike="noStrike">
                <a:solidFill>
                  <a:srgbClr val="ffffff"/>
                </a:solidFill>
                <a:latin typeface="Verdana"/>
              </a:rPr>
              <a:t>.</a:t>
            </a:r>
            <a:endParaRPr b="0" lang="en-US" sz="24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3</a:t>
            </a:r>
            <a:r>
              <a:rPr b="0" lang="ar-SA" sz="2400" spc="-1" strike="noStrike">
                <a:solidFill>
                  <a:srgbClr val="ffffff"/>
                </a:solidFill>
                <a:latin typeface="Verdana"/>
              </a:rPr>
              <a:t>. دراسة الموضوعات تتم بصورة جزئية ومفككة فقد تتم معالجة موضوع واحد في أكثر من مادة مما يفقد معه الموضوع وحدته وتكامله . </a:t>
            </a:r>
            <a:endParaRPr b="0" lang="en-US" sz="24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4</a:t>
            </a:r>
            <a:r>
              <a:rPr b="0" lang="ar-SA" sz="2400" spc="-1" strike="noStrike">
                <a:solidFill>
                  <a:srgbClr val="ffffff"/>
                </a:solidFill>
                <a:latin typeface="Verdana"/>
              </a:rPr>
              <a:t>. دور المدرس قاصر على شرح وتبسيط وتلخيص المعلومات. </a:t>
            </a:r>
            <a:endParaRPr b="0" lang="en-US" sz="24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5</a:t>
            </a:r>
            <a:r>
              <a:rPr b="0" lang="ar-SA" sz="2400" spc="-1" strike="noStrike">
                <a:solidFill>
                  <a:srgbClr val="ffffff"/>
                </a:solidFill>
                <a:latin typeface="Verdana"/>
              </a:rPr>
              <a:t>. التقويم يركز على قياس الجانب المعرفي "حفظ المادة " دون غيره من الجوانب الأخرى .</a:t>
            </a:r>
            <a:endParaRPr b="0" lang="en-US" sz="24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6</a:t>
            </a:r>
            <a:r>
              <a:rPr b="0" lang="ar-SA" sz="2400" spc="-1" strike="noStrike">
                <a:solidFill>
                  <a:srgbClr val="ffffff"/>
                </a:solidFill>
                <a:latin typeface="Verdana"/>
              </a:rPr>
              <a:t>. المواد النظرية مركز اهتمام المنهج والأنشطة المختلفة ضعيفة</a:t>
            </a:r>
            <a:endParaRPr b="0" lang="en-US" sz="24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7</a:t>
            </a:r>
            <a:r>
              <a:rPr b="0" lang="ar-SA" sz="2400" spc="-1" strike="noStrike">
                <a:solidFill>
                  <a:srgbClr val="ffffff"/>
                </a:solidFill>
                <a:latin typeface="Verdana"/>
              </a:rPr>
              <a:t>. طريقة التدريس تقوم على الإلقاء</a:t>
            </a:r>
            <a:endParaRPr b="0" lang="en-US" sz="24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8</a:t>
            </a:r>
            <a:r>
              <a:rPr b="0" lang="ar-SA" sz="2400" spc="-1" strike="noStrike">
                <a:solidFill>
                  <a:srgbClr val="ffffff"/>
                </a:solidFill>
                <a:latin typeface="Verdana"/>
              </a:rPr>
              <a:t>. الكتاب المدرسي هو المصدر الأساس للمعرفة.</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560"/>
            <a:ext cx="8229600" cy="7938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fffcc"/>
                </a:solidFill>
                <a:latin typeface="Arial"/>
              </a:rPr>
              <a:t>((</a:t>
            </a:r>
            <a:r>
              <a:rPr b="0" lang="ar-SA" sz="3600" spc="-1" strike="noStrike">
                <a:solidFill>
                  <a:srgbClr val="ffffcc"/>
                </a:solidFill>
                <a:latin typeface="Arial"/>
              </a:rPr>
              <a:t>منهج المواد المترابطة</a:t>
            </a:r>
            <a:r>
              <a:rPr b="0" lang="ar-IQ" sz="3600" spc="-1" strike="noStrike">
                <a:solidFill>
                  <a:srgbClr val="ffffcc"/>
                </a:solidFill>
                <a:latin typeface="Arial"/>
              </a:rPr>
              <a:t>))</a:t>
            </a:r>
            <a:endParaRPr b="0" lang="en-US" sz="3600" spc="-1" strike="noStrike">
              <a:solidFill>
                <a:srgbClr val="ffffcc"/>
              </a:solidFill>
              <a:latin typeface="Arial"/>
            </a:endParaRPr>
          </a:p>
        </p:txBody>
      </p:sp>
      <p:sp>
        <p:nvSpPr>
          <p:cNvPr id="381"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2" name="AutoShape 10"/>
          <p:cNvSpPr/>
          <p:nvPr/>
        </p:nvSpPr>
        <p:spPr>
          <a:xfrm>
            <a:off x="214200" y="1285920"/>
            <a:ext cx="795600" cy="5000760"/>
          </a:xfrm>
          <a:custGeom>
            <a:avLst/>
            <a:gdLst>
              <a:gd name="textAreaLeft" fmla="*/ 508320 w 795600"/>
              <a:gd name="textAreaRight" fmla="*/ 795960 w 795600"/>
              <a:gd name="textAreaTop" fmla="*/ 97560 h 5000760"/>
              <a:gd name="textAreaBottom" fmla="*/ 4903200 h 5000760"/>
            </a:gdLst>
            <a:ahLst/>
            <a:rect l="textAreaLeft" t="textAreaTop" r="textAreaRight" b="textAreaBottom"/>
            <a:pathLst>
              <a:path w="21600" h="21600">
                <a:moveTo>
                  <a:pt x="21600" y="0"/>
                </a:moveTo>
                <a:cubicBezTo>
                  <a:pt x="16200" y="0"/>
                  <a:pt x="10800" y="675"/>
                  <a:pt x="10800" y="1350"/>
                </a:cubicBezTo>
                <a:lnTo>
                  <a:pt x="10800" y="9283"/>
                </a:lnTo>
                <a:cubicBezTo>
                  <a:pt x="10800" y="9958"/>
                  <a:pt x="5400" y="10633"/>
                  <a:pt x="0" y="10633"/>
                </a:cubicBezTo>
                <a:cubicBezTo>
                  <a:pt x="5400" y="10633"/>
                  <a:pt x="10800" y="11308"/>
                  <a:pt x="10800" y="11983"/>
                </a:cubicBezTo>
                <a:lnTo>
                  <a:pt x="10800" y="20250"/>
                </a:lnTo>
                <a:cubicBezTo>
                  <a:pt x="10800" y="20925"/>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3" name="AutoShape 11"/>
          <p:cNvSpPr/>
          <p:nvPr/>
        </p:nvSpPr>
        <p:spPr>
          <a:xfrm>
            <a:off x="8261280" y="1285920"/>
            <a:ext cx="739800" cy="4929120"/>
          </a:xfrm>
          <a:custGeom>
            <a:avLst/>
            <a:gdLst>
              <a:gd name="textAreaLeft" fmla="*/ 0 w 739800"/>
              <a:gd name="textAreaRight" fmla="*/ 267120 w 739800"/>
              <a:gd name="textAreaTop" fmla="*/ 106200 h 4929120"/>
              <a:gd name="textAreaBottom" fmla="*/ 4822920 h 4929120"/>
            </a:gdLst>
            <a:ahLst/>
            <a:rect l="textAreaLeft" t="textAreaTop" r="textAreaRight" b="textAreaBottom"/>
            <a:pathLst>
              <a:path w="21600" h="21600">
                <a:moveTo>
                  <a:pt x="0" y="0"/>
                </a:moveTo>
                <a:cubicBezTo>
                  <a:pt x="5400" y="0"/>
                  <a:pt x="10800" y="744"/>
                  <a:pt x="10800" y="1488"/>
                </a:cubicBezTo>
                <a:lnTo>
                  <a:pt x="10800" y="9312"/>
                </a:lnTo>
                <a:cubicBezTo>
                  <a:pt x="10800" y="10056"/>
                  <a:pt x="16200" y="10800"/>
                  <a:pt x="21600" y="10800"/>
                </a:cubicBezTo>
                <a:cubicBezTo>
                  <a:pt x="16200" y="10800"/>
                  <a:pt x="10800" y="11544"/>
                  <a:pt x="10800" y="12288"/>
                </a:cubicBezTo>
                <a:lnTo>
                  <a:pt x="10800" y="20112"/>
                </a:lnTo>
                <a:cubicBezTo>
                  <a:pt x="10800" y="20856"/>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4" name="Text Box 27"/>
          <p:cNvSpPr/>
          <p:nvPr/>
        </p:nvSpPr>
        <p:spPr>
          <a:xfrm>
            <a:off x="714240" y="1285920"/>
            <a:ext cx="7786800" cy="6492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مواد المترابطة هي التي توجد بينها صلة متبادلة ، وتتركز الجهود في هذا التنظيم في محاولة لإيجاد علاقات بين مادتين دراستين أو أكثر في الوقت نفسه الذي تبقى فيه الحواجز قائمة بين هذه المواد ، وبمعنى آخر إن محاولة إيجاد الترابط بين بعض المواد تمثل جهوداً معينة للقضاء على عزلة المواد الدراسية عن بعضها </a:t>
            </a:r>
            <a:r>
              <a:rPr b="1" lang="ar-SA" sz="2800" spc="-1" strike="noStrike">
                <a:solidFill>
                  <a:srgbClr val="ffffff"/>
                </a:solidFill>
                <a:latin typeface="Verdana"/>
              </a:rPr>
              <a:t>.</a:t>
            </a:r>
            <a:endParaRPr b="0" lang="en-US" sz="28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والربط بين بعض المواد قد يتم من خلال مدرس واحد يفهم أن هناك فرصة للربط بين مادته التي يدرسها ومادة أخرى أو أكثر ، وهذا يعني أن عملية الربط متروكة لحساسية المدرس للعلاقات الممكنة بين مادتين أو أكثر أو بين موضوع فـي مادة وموضوع فـي مادة أخرى  والربط مـن أكثر المحاولات شيوعاً فـي تعديل منهج المواد الدراسيـة المنفصلـة,  ويوجد نوعان مـن الربط:</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6" name="AutoShape 10"/>
          <p:cNvSpPr/>
          <p:nvPr/>
        </p:nvSpPr>
        <p:spPr>
          <a:xfrm>
            <a:off x="71280" y="214200"/>
            <a:ext cx="795600" cy="6357960"/>
          </a:xfrm>
          <a:custGeom>
            <a:avLst/>
            <a:gdLst>
              <a:gd name="textAreaLeft" fmla="*/ 508320 w 795600"/>
              <a:gd name="textAreaRight" fmla="*/ 795960 w 795600"/>
              <a:gd name="textAreaTop" fmla="*/ 97560 h 6357960"/>
              <a:gd name="textAreaBottom" fmla="*/ 6260400 h 6357960"/>
            </a:gdLst>
            <a:ahLst/>
            <a:rect l="textAreaLeft" t="textAreaTop" r="textAreaRight" b="textAreaBottom"/>
            <a:pathLst>
              <a:path w="21600" h="21600">
                <a:moveTo>
                  <a:pt x="21600" y="0"/>
                </a:moveTo>
                <a:cubicBezTo>
                  <a:pt x="16200" y="0"/>
                  <a:pt x="10800" y="531"/>
                  <a:pt x="10800" y="1062"/>
                </a:cubicBezTo>
                <a:lnTo>
                  <a:pt x="10800" y="9571"/>
                </a:lnTo>
                <a:cubicBezTo>
                  <a:pt x="10800" y="10102"/>
                  <a:pt x="5400" y="10633"/>
                  <a:pt x="0" y="10633"/>
                </a:cubicBezTo>
                <a:cubicBezTo>
                  <a:pt x="5400" y="10633"/>
                  <a:pt x="10800" y="11164"/>
                  <a:pt x="10800" y="11695"/>
                </a:cubicBezTo>
                <a:lnTo>
                  <a:pt x="10800" y="20538"/>
                </a:lnTo>
                <a:cubicBezTo>
                  <a:pt x="10800" y="21069"/>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7" name="AutoShape 11"/>
          <p:cNvSpPr/>
          <p:nvPr/>
        </p:nvSpPr>
        <p:spPr>
          <a:xfrm>
            <a:off x="8261280" y="214200"/>
            <a:ext cx="739800" cy="6429600"/>
          </a:xfrm>
          <a:custGeom>
            <a:avLst/>
            <a:gdLst>
              <a:gd name="textAreaLeft" fmla="*/ 0 w 739800"/>
              <a:gd name="textAreaRight" fmla="*/ 267120 w 739800"/>
              <a:gd name="textAreaTop" fmla="*/ 106200 h 6429600"/>
              <a:gd name="textAreaBottom" fmla="*/ 6323400 h 6429600"/>
            </a:gdLst>
            <a:ahLst/>
            <a:rect l="textAreaLeft" t="textAreaTop" r="textAreaRight" b="textAreaBottom"/>
            <a:pathLst>
              <a:path w="21600" h="21600">
                <a:moveTo>
                  <a:pt x="0" y="0"/>
                </a:moveTo>
                <a:cubicBezTo>
                  <a:pt x="5400" y="0"/>
                  <a:pt x="10800" y="570"/>
                  <a:pt x="10800" y="1140"/>
                </a:cubicBezTo>
                <a:lnTo>
                  <a:pt x="10800" y="9660"/>
                </a:lnTo>
                <a:cubicBezTo>
                  <a:pt x="10800" y="10230"/>
                  <a:pt x="16200" y="10800"/>
                  <a:pt x="21600" y="10800"/>
                </a:cubicBezTo>
                <a:cubicBezTo>
                  <a:pt x="16200" y="10800"/>
                  <a:pt x="10800" y="11370"/>
                  <a:pt x="10800" y="11940"/>
                </a:cubicBezTo>
                <a:lnTo>
                  <a:pt x="10800" y="20460"/>
                </a:lnTo>
                <a:cubicBezTo>
                  <a:pt x="10800" y="2103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8" name="Text Box 27"/>
          <p:cNvSpPr/>
          <p:nvPr/>
        </p:nvSpPr>
        <p:spPr>
          <a:xfrm>
            <a:off x="500040" y="142920"/>
            <a:ext cx="8072640" cy="777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a:t>
            </a:r>
            <a:r>
              <a:rPr b="1" lang="ar-IQ" sz="2800" spc="-1" strike="noStrike">
                <a:solidFill>
                  <a:srgbClr val="ffffff"/>
                </a:solidFill>
                <a:latin typeface="Verdana"/>
              </a:rPr>
              <a:t>1</a:t>
            </a:r>
            <a:r>
              <a:rPr b="1" lang="ar-IQ" sz="2800" spc="-1" strike="noStrike">
                <a:solidFill>
                  <a:srgbClr val="ffffff"/>
                </a:solidFill>
                <a:latin typeface="Verdana"/>
              </a:rPr>
              <a:t>-</a:t>
            </a:r>
            <a:r>
              <a:rPr b="1" lang="ar-SA" sz="2800" spc="-1" strike="noStrike">
                <a:solidFill>
                  <a:srgbClr val="ffffff"/>
                </a:solidFill>
                <a:latin typeface="Verdana"/>
              </a:rPr>
              <a:t> الربط العرضي: </a:t>
            </a:r>
            <a:r>
              <a:rPr b="0" lang="ar-SA" sz="2800" spc="-1" strike="noStrike">
                <a:solidFill>
                  <a:srgbClr val="ffffff"/>
                </a:solidFill>
                <a:latin typeface="Verdana"/>
              </a:rPr>
              <a:t>يتم هذا الربط بصورة عرضية وغير مقصودة في أثناء عملية التدريس كلما كان ذلك ممكناً من دون سابق تنظيم أو ترتيب ، فيستطيع مدرس المواد الاجتماعية أن يربط بين جغرافية العراق من ناحية السطح والمناخ وأن يوضح أثر البيئة العراقية في تاريخها القديم وتطور حضاراتها عبر العصور، ولا يقتصر الربط على مواد المجال الواحد إذ يمكن ربـط التاريخ بالأدب أو الشعر بدرس الجغرافية التي تتحدث عن الطبيعة على أن تبقى الحواجز القائمة بين المواد التي يحاول المدرس أن يجد بينها شيئاً من الترابط ، وتتوقف عملية الربط علـى مدى إلمام المدرس بمستوى الطلبة وخبراتهم السابقة وقدرته على إدراك مواطن الصلات مـع المواد الأخرى حتى تتم عملية الربط بصورة طبيعية ، ومن هنا فإنه قد يصعب على المدرس المبتدئ أن يقوم به بل أن هناك شكا في دقة الربط الذي يقوم به المدرسون من أنفسهم كما إن عشوائية هذا الربط تؤدي الى الخلط بين كثير من الحقائق </a:t>
            </a:r>
            <a:r>
              <a:rPr b="1" lang="ar-SA"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90" name="AutoShape 10"/>
          <p:cNvSpPr/>
          <p:nvPr/>
        </p:nvSpPr>
        <p:spPr>
          <a:xfrm>
            <a:off x="71280" y="214200"/>
            <a:ext cx="795600" cy="6357960"/>
          </a:xfrm>
          <a:custGeom>
            <a:avLst/>
            <a:gdLst>
              <a:gd name="textAreaLeft" fmla="*/ 508320 w 795600"/>
              <a:gd name="textAreaRight" fmla="*/ 795960 w 795600"/>
              <a:gd name="textAreaTop" fmla="*/ 97560 h 6357960"/>
              <a:gd name="textAreaBottom" fmla="*/ 6260400 h 6357960"/>
            </a:gdLst>
            <a:ahLst/>
            <a:rect l="textAreaLeft" t="textAreaTop" r="textAreaRight" b="textAreaBottom"/>
            <a:pathLst>
              <a:path w="21600" h="21600">
                <a:moveTo>
                  <a:pt x="21600" y="0"/>
                </a:moveTo>
                <a:cubicBezTo>
                  <a:pt x="16200" y="0"/>
                  <a:pt x="10800" y="531"/>
                  <a:pt x="10800" y="1062"/>
                </a:cubicBezTo>
                <a:lnTo>
                  <a:pt x="10800" y="9571"/>
                </a:lnTo>
                <a:cubicBezTo>
                  <a:pt x="10800" y="10102"/>
                  <a:pt x="5400" y="10633"/>
                  <a:pt x="0" y="10633"/>
                </a:cubicBezTo>
                <a:cubicBezTo>
                  <a:pt x="5400" y="10633"/>
                  <a:pt x="10800" y="11164"/>
                  <a:pt x="10800" y="11695"/>
                </a:cubicBezTo>
                <a:lnTo>
                  <a:pt x="10800" y="20538"/>
                </a:lnTo>
                <a:cubicBezTo>
                  <a:pt x="10800" y="21069"/>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91" name="AutoShape 11"/>
          <p:cNvSpPr/>
          <p:nvPr/>
        </p:nvSpPr>
        <p:spPr>
          <a:xfrm>
            <a:off x="8261280" y="214200"/>
            <a:ext cx="739800" cy="6429600"/>
          </a:xfrm>
          <a:custGeom>
            <a:avLst/>
            <a:gdLst>
              <a:gd name="textAreaLeft" fmla="*/ 0 w 739800"/>
              <a:gd name="textAreaRight" fmla="*/ 267120 w 739800"/>
              <a:gd name="textAreaTop" fmla="*/ 106200 h 6429600"/>
              <a:gd name="textAreaBottom" fmla="*/ 6323400 h 6429600"/>
            </a:gdLst>
            <a:ahLst/>
            <a:rect l="textAreaLeft" t="textAreaTop" r="textAreaRight" b="textAreaBottom"/>
            <a:pathLst>
              <a:path w="21600" h="21600">
                <a:moveTo>
                  <a:pt x="0" y="0"/>
                </a:moveTo>
                <a:cubicBezTo>
                  <a:pt x="5400" y="0"/>
                  <a:pt x="10800" y="570"/>
                  <a:pt x="10800" y="1140"/>
                </a:cubicBezTo>
                <a:lnTo>
                  <a:pt x="10800" y="9660"/>
                </a:lnTo>
                <a:cubicBezTo>
                  <a:pt x="10800" y="10230"/>
                  <a:pt x="16200" y="10800"/>
                  <a:pt x="21600" y="10800"/>
                </a:cubicBezTo>
                <a:cubicBezTo>
                  <a:pt x="16200" y="10800"/>
                  <a:pt x="10800" y="11370"/>
                  <a:pt x="10800" y="11940"/>
                </a:cubicBezTo>
                <a:lnTo>
                  <a:pt x="10800" y="20460"/>
                </a:lnTo>
                <a:cubicBezTo>
                  <a:pt x="10800" y="2103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92" name="Text Box 27"/>
          <p:cNvSpPr/>
          <p:nvPr/>
        </p:nvSpPr>
        <p:spPr>
          <a:xfrm>
            <a:off x="500040" y="142920"/>
            <a:ext cx="807264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a:t>
            </a:r>
            <a:r>
              <a:rPr b="1" lang="ar-IQ" sz="2800" spc="-1" strike="noStrike">
                <a:solidFill>
                  <a:srgbClr val="ffffff"/>
                </a:solidFill>
                <a:latin typeface="Verdana"/>
              </a:rPr>
              <a:t>2</a:t>
            </a:r>
            <a:r>
              <a:rPr b="1" lang="ar-IQ" sz="2800" spc="-1" strike="noStrike">
                <a:solidFill>
                  <a:srgbClr val="ffffff"/>
                </a:solidFill>
                <a:latin typeface="Verdana"/>
              </a:rPr>
              <a:t>- </a:t>
            </a:r>
            <a:r>
              <a:rPr b="1" lang="ar-SA" sz="2800" spc="-1" strike="noStrike">
                <a:solidFill>
                  <a:srgbClr val="ffffff"/>
                </a:solidFill>
                <a:latin typeface="Verdana"/>
              </a:rPr>
              <a:t>الربط المنظم: </a:t>
            </a:r>
            <a:r>
              <a:rPr b="0" lang="ar-SA" sz="2800" spc="-1" strike="noStrike">
                <a:solidFill>
                  <a:srgbClr val="ffffff"/>
                </a:solidFill>
                <a:latin typeface="Verdana"/>
              </a:rPr>
              <a:t>ويقصد به وضع خطة تنفذ عملية التدريس علـى أساسها وهـذه الخطة توضع بصورة تعاونية بين القائمين على تخطيط المنهج، ويُعد الربط المنظم أكثر تطوراً من الربط العرضي إذ يتطلب تنظيماً وإعداداً مسبقاً قبل مواجهة الطلبة في مواقف تعليمية أي إنه  يعتمد على خطة يتم إعدادها يشارك في وضعها المدرسون والمتخصصون</a:t>
            </a:r>
            <a:r>
              <a:rPr b="1" lang="ar-SA" sz="2800" spc="-1" strike="noStrike">
                <a:solidFill>
                  <a:srgbClr val="ffffff"/>
                </a:solidFill>
                <a:latin typeface="Verdana"/>
              </a:rPr>
              <a:t>،</a:t>
            </a:r>
            <a:r>
              <a:rPr b="0" lang="ar-SA" sz="2800" spc="-1" strike="noStrike">
                <a:solidFill>
                  <a:srgbClr val="ffffff"/>
                </a:solidFill>
                <a:latin typeface="Verdana"/>
              </a:rPr>
              <a:t> المهم فـي هذا النوع من الربط أن تكون هناك خطة محكمة يتم وضعها مسبقاً وأن يتفقوا فيما بينهم على تحديد الموضوعات التي سوف يجري الربط بينها مـن خلال المواد الدراسية المختلفة التـي توجد فيها هذه الموضوعات </a:t>
            </a:r>
            <a:r>
              <a:rPr b="1" lang="ar-SA"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7"/>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314080" y="2205000"/>
            <a:ext cx="5472360" cy="14320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Arial Black"/>
                <a:cs typeface="Andalus"/>
              </a:rPr>
              <a:t>شكرا لحسن إصغائكم</a:t>
            </a:r>
            <a:endParaRPr b="1" lang="en-US" sz="6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1:43:54Z</dcterms:created>
  <dc:creator>GsM</dc:creator>
  <dc:description/>
  <dc:language>en-US</dc:language>
  <cp:lastModifiedBy>DR.Ahmed Saker 2o1O</cp:lastModifiedBy>
  <dcterms:modified xsi:type="dcterms:W3CDTF">2019-05-04T20:54:52Z</dcterms:modified>
  <cp:revision>50</cp:revision>
  <dc:subject/>
  <dc:title>وزارة التعليم العالي والبحث العلمي جامعة بغداد بالتعاون مع منظمة</dc:title>
</cp:coreProperties>
</file>