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D67-1EBC-4A2B-9E7C-3C026F72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FBC-7A16-4263-A593-219BE894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30B-96D7-48BF-B1F3-CB5354E3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C7E-D116-46CC-8B4B-6CFB15E6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9791-C240-4A92-94D2-76D65FA5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810-7D90-435D-B1D9-48ACE8A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B8A4-3628-488C-8041-E763219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40C-4485-4EF7-B650-1B6568DF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C3BC-FE6A-4B30-A677-3DD5CF5B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70FD-FBDC-48C4-B36D-6014DEC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FDBD-FA2C-4D7E-B77B-67444AE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9F2-A096-47FA-8EDD-AABBD6F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E14-DCA7-4EE4-BE21-36B673E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4099-EF67-4B3F-B836-5DDA6D7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289-AD01-4890-801E-C2BEF498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7A7-56B5-4DA3-80EF-5111AA41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81CD-8E43-40C7-A924-6C93A528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C5D7-659F-4A3D-BF57-BA2E59FB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8307-A4A9-4905-BF34-3EBEEEF6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C6F4-5416-4269-A508-349D95E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AC12-4365-4EF8-8363-0E002A4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887A-1666-4D68-9C5A-4540AEC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311-251D-4BA4-992B-4C3C583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1F62-E1F3-48AC-A7ED-828447B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E5A0-CF3F-49C2-9B57-578ACB2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B4D5-E63C-4411-8F12-376DDCC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390F-3E78-444D-B844-C38A236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A2D0-6E44-4761-8F18-4C70ADE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10B6-26F7-4C8A-89CA-F5EE5A47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0E50-E75A-4F97-8E83-8ABA9AD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D90E-165C-48F2-B3D9-F3833EC7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A69B-7E97-46B5-A3FD-BAD0BACE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E26D-80E5-4286-A158-1A38E60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C3F-625D-4A1A-A6F2-249979BF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2CC3-1426-4833-8F21-F3A761E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42FE-41DB-44A0-8455-DD239AC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68EDF-D780-4B7B-9975-19FA3E7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9AEF-025E-4938-8FE4-28BDFA8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8D85-81E0-46F4-B994-918C2CB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1923-7456-432F-8ADB-16732C6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6BB3-3029-47EA-9CDC-EDB3300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214D-CE34-4A63-941A-BAC9BE9E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5543-3C0B-4951-A464-C8BF0E0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6050-1A5B-456C-AF7A-34DE7293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046-CE00-4CC9-9054-7497734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98EE-87D3-42D3-9428-4D865CD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DE54D-16E8-4B52-9138-86857B2E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7995-9C7C-4CAD-9896-8D321735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A922-47B6-48FA-AC47-CF68BBC8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C7ED-092F-4D89-A09A-CBF9212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6198-E82C-4FE4-8F5B-DDA3877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FE40-8531-4433-87CC-CA0CAD1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A53E-BD24-4821-B04A-F914AE2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DADD-5F99-40D7-A42E-9F664FF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438E-34C7-4942-AB33-354EB2AD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65D-0116-493A-8729-4E923B0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5431-A970-4221-A011-A2C1ABBA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0E91-126F-4AC4-8E6F-C6800785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617E-79BB-43E0-A607-6D803279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8EE58-3782-466D-87B4-8E113B2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C40B-1969-471C-B99B-81A6B9A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4269-DFD0-488D-ACD6-4CBCDC0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3C6C-1266-4537-BC7F-502DBED0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8B21-AE5C-4A5B-9B34-AA16AF7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F6296-479F-40BB-A432-892E7E7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6BE9-941C-440D-A73C-5543D14F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0F2-E79E-484F-A9D0-FEC468D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B4B8-B33F-4CEF-8601-22C16C0E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A5FF4-0305-4C5A-841A-2E6FCE6E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9DCC1-EFE2-4972-BA85-0DFA128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FBB-F0B4-4C60-830F-A705C65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B07-AAE2-461F-B9E6-18E6450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D82-7BE4-4249-A50E-C3A3587EBC7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C7DF-FCBD-4329-81D7-55371350B9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802-2166-4495-9C97-0B4E0015CC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AAA-511E-4B3B-B54B-D36EAE19465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107-1CA4-403D-B155-61BFAA1112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673-A7D9-4CED-98BF-FF183143FA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428840"/>
            <a:ext cx="6229440" cy="5286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((المنهج المحو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وهو عبارة عن مجموعة الخبرات التي يكتسبها ال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طل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تعلقة بحاجاتهم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شكلاتهم العامة بهدف إشباع هذه الحاجات والوصول إلى حلول مرغوب فيها تتعلق بما يعترضهم من مشكلات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تضح من التعريف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نب الأول : إن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منهج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حوري يتضمن عدد من المشكلات العامة التي تهم جميع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طل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ترتبط بحاجاتهم المشتركة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نب الثاني : وهو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منهج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خاص ويتضمن عدد كبير من المجالات الدراسية لكي يختار منها كل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طال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ا يناسب ميوله وقدراته واستعداداته.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أنواع المناهج: (منهج المواد المنفصلة, منهج المواد المترابطة,  منهج النشاط, المنهج المحوري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e"/>
                </a:solidFill>
                <a:latin typeface="Arial"/>
              </a:rPr>
              <a:t>مميزات المنهج المحوري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42920" y="1285920"/>
            <a:ext cx="795240" cy="528624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286240"/>
              <a:gd name="textAreaBottom" fmla="*/ 5188680 h 528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9"/>
                  <a:pt x="10800" y="1277"/>
                </a:cubicBezTo>
                <a:lnTo>
                  <a:pt x="10800" y="9356"/>
                </a:lnTo>
                <a:cubicBezTo>
                  <a:pt x="10800" y="9995"/>
                  <a:pt x="5400" y="10633"/>
                  <a:pt x="0" y="10633"/>
                </a:cubicBezTo>
                <a:cubicBezTo>
                  <a:pt x="5400" y="10633"/>
                  <a:pt x="10800" y="11272"/>
                  <a:pt x="10800" y="11910"/>
                </a:cubicBezTo>
                <a:lnTo>
                  <a:pt x="10800" y="20323"/>
                </a:lnTo>
                <a:cubicBezTo>
                  <a:pt x="10800" y="209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8286840" y="1214280"/>
            <a:ext cx="739800" cy="53578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357880"/>
              <a:gd name="textAreaBottom" fmla="*/ 525168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42960" y="128592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تيح ل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رصة تعلم أسلوب حل المشكلات والتفكير الناقد والتدرب عليها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تقوم الدراسة في هذا المنهج على أساس حاجات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يكون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الب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ي هذا المنهج ايجابيا ونشطا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كسب المنهج المحوري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الب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كثير من المهارات الاجتماعية والأدائية والعقلية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تيح المنهج المحوري ل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رصة تعلم المعارف المختلفة بطريقة متكاملة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خطوات بناء المنهج المحوري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214200" y="1285920"/>
            <a:ext cx="795600" cy="500076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5000760"/>
              <a:gd name="textAreaBottom" fmla="*/ 490320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283"/>
                </a:lnTo>
                <a:cubicBezTo>
                  <a:pt x="10800" y="9958"/>
                  <a:pt x="5400" y="10633"/>
                  <a:pt x="0" y="10633"/>
                </a:cubicBezTo>
                <a:cubicBezTo>
                  <a:pt x="5400" y="10633"/>
                  <a:pt x="10800" y="11308"/>
                  <a:pt x="10800" y="11983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61280" y="1285920"/>
            <a:ext cx="739800" cy="492912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929120"/>
              <a:gd name="textAreaBottom" fmla="*/ 482292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4"/>
                  <a:pt x="10800" y="1488"/>
                </a:cubicBezTo>
                <a:lnTo>
                  <a:pt x="10800" y="9312"/>
                </a:lnTo>
                <a:cubicBezTo>
                  <a:pt x="10800" y="10056"/>
                  <a:pt x="16200" y="10800"/>
                  <a:pt x="21600" y="10800"/>
                </a:cubicBezTo>
                <a:cubicBezTo>
                  <a:pt x="16200" y="10800"/>
                  <a:pt x="10800" y="11544"/>
                  <a:pt x="10800" y="12288"/>
                </a:cubicBezTo>
                <a:lnTo>
                  <a:pt x="10800" y="20112"/>
                </a:lnTo>
                <a:cubicBezTo>
                  <a:pt x="10800" y="208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714240" y="1285920"/>
            <a:ext cx="77868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تخطيط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دراسي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يتم توزيع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ا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دراسي على الصفوف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يحدد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م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درسون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مفاهيم الأساسية لكل مرحلة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الاستعداد لتنفيذ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تدريس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وتقويمه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5-05T19:24:22Z</dcterms:modified>
  <cp:revision>51</cp:revision>
  <dc:subject/>
  <dc:title>وزارة التعليم العالي والبحث العلمي جامعة بغداد بالتعاون مع منظمة</dc:title>
</cp:coreProperties>
</file>