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2DB-8ADC-4A2E-BBEE-2FEB74B1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F80B-63C2-4110-8E66-61EE42123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5B1-004A-42C2-9C45-27999A9F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62CC-890C-4B0B-9FDC-0ADA9D873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DA433-DF6E-4304-B9F3-8AC857CEA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2786-1240-4729-B2CF-B66F046A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9EFD-9772-4CCD-8EBC-282AD28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B6077-299D-48CE-97A2-F3335BD3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7FF1-E369-48B8-95BE-C24350CE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342B-673F-422E-9C99-CB28D477D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CC71E-C173-4908-93AD-16A22CC5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FEC-B124-4079-AF24-48B1AC56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0F80-5E40-4902-B03B-713EF1EF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16E4-FAC1-459D-BB52-46B820B5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314B-B489-4877-B592-C0391994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C526B-81BB-4C5D-927C-14FAAD643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4B5A8-698F-42CF-A0C8-A8B28FFD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43F63-2F72-4ECC-95C3-C78D06DB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17440-E934-4D9A-9492-C953E7A3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D3514-1EDD-48C0-8DDB-0CEFC7F8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421F4-1F6A-46FA-8069-290C702B7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9757E-1DD3-493D-BDE3-4E7A12EF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71BA-0EB9-4BBB-A487-CD5DC5DA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A0E44-990E-4D8B-B49B-D631B52B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7647-2507-4A9C-8AC6-A7AD8BF0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9B89B-E229-4233-A3B7-6FD5AA8C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98A8F-5431-4FE2-9ED5-9C9F78D58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DEA9D-9124-4074-B3E9-70C7E63FC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CAE73-6FAF-41F3-940C-A505BA766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D4BD4-3027-48D9-8A74-F36CC21A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D177-7278-4FB4-A9AB-10990DB2E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1DB05-6D8E-473E-8A04-9D3B543C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CF4A2-5AA8-439C-B351-854B2CAA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90C-00B1-498B-B40D-40241EF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DBF53-A32D-4B7E-855F-5F692277F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61DB4-B950-4E3D-A524-AA1008699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D53B3-D015-4942-B915-D048FFA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EAACF-DD2F-4851-8FD1-BE100CDB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B7B50-FF64-457A-B774-30158EF70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B78A-B9B4-41D3-A2D7-CD6951D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623E-E3F1-49EF-B40B-95F2874A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46876-89CA-43FF-B81F-58D3F10E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AC8A2-B20C-4BC6-B4AF-74AD4A96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CCCEE3-05D9-441B-B922-EC860AF9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FB41-EA78-47F2-A3A9-6E534D9A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C30B90-BC78-4032-907F-38102ADC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D8B99-0E2E-4EEF-9AE4-28B02B3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25A31-080E-49E0-B30C-67FCD36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D6E12-1E62-4070-A917-6338044D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C90D8-3397-4441-920B-387B31D3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4ACC3-1A3D-4698-AEB6-C47911A2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35AFD-5793-40F9-9AC6-60459277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C6B03-39DF-45B8-B155-7D175334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F9874-4178-498F-930E-2F34EE97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B2CA4-FB45-46CB-9810-08F4EE46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65C-9ED8-4165-AB23-68287E04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F003E-FA8D-446E-B6BE-AEA9ADCE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AD585-3277-43D4-8991-CC99E9C2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9913-BABB-41ED-98D5-03C0EDE5A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F82AE-0956-4440-9D62-57A810E7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A0415-B20A-4A8B-9AAA-6A8B4157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F5409-8BC5-4702-B93E-6793A261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135C0-6E6C-48D9-9A07-9B1A88DF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B7B08-9AA7-4AB1-A12E-6A89D76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1477B-D118-4D3D-89BC-61479C96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93BC0-DF96-4115-8DEC-70EADDB9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B7CE-A9FA-4A2E-A656-35BA6CC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73811-2D3F-4098-8232-3D4F85CB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32FFA-B55B-4FD8-B010-176E4F00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55ED-7540-474B-AFCA-2DDFC9E3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5BD-7FFE-4146-BF64-3A1AE886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5C40-5FFB-4A4B-AF45-7EFFCE58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97FFC-A7B9-4743-8930-EA9DCD6ECFA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8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CBF-99E6-430C-8BA4-257B06A6971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8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2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2128-4D2C-4CA4-8FC7-E1CDD0E06BC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88" name="Freeform 3"/>
            <p:cNvSpPr/>
            <p:nvPr/>
          </p:nvSpPr>
          <p:spPr>
            <a:xfrm>
              <a:off x="2876400" y="4462560"/>
              <a:ext cx="6264360" cy="238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9" name="Freeform 4"/>
            <p:cNvSpPr/>
            <p:nvPr/>
          </p:nvSpPr>
          <p:spPr>
            <a:xfrm>
              <a:off x="6389640" y="5757840"/>
              <a:ext cx="2751120" cy="1093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0" name="Freeform 5"/>
            <p:cNvSpPr/>
            <p:nvPr/>
          </p:nvSpPr>
          <p:spPr>
            <a:xfrm>
              <a:off x="0" y="0"/>
              <a:ext cx="8854920" cy="54720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1" name="Freeform 6"/>
            <p:cNvSpPr/>
            <p:nvPr/>
          </p:nvSpPr>
          <p:spPr>
            <a:xfrm>
              <a:off x="7845480" y="0"/>
              <a:ext cx="1295280" cy="4381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2" name="Freeform 7"/>
            <p:cNvSpPr/>
            <p:nvPr/>
          </p:nvSpPr>
          <p:spPr>
            <a:xfrm>
              <a:off x="0" y="3149640"/>
              <a:ext cx="9140760" cy="3330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3" name="Freeform 8"/>
            <p:cNvSpPr/>
            <p:nvPr/>
          </p:nvSpPr>
          <p:spPr>
            <a:xfrm>
              <a:off x="0" y="162000"/>
              <a:ext cx="3112920" cy="20080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4" name="Freeform 9"/>
            <p:cNvSpPr/>
            <p:nvPr/>
          </p:nvSpPr>
          <p:spPr>
            <a:xfrm>
              <a:off x="0" y="0"/>
              <a:ext cx="7475400" cy="46054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5" name="Freeform 10"/>
            <p:cNvSpPr/>
            <p:nvPr/>
          </p:nvSpPr>
          <p:spPr>
            <a:xfrm>
              <a:off x="0" y="0"/>
              <a:ext cx="5989680" cy="37400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Freeform 11"/>
            <p:cNvSpPr/>
            <p:nvPr/>
          </p:nvSpPr>
          <p:spPr>
            <a:xfrm>
              <a:off x="0" y="0"/>
              <a:ext cx="4656240" cy="2930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Freeform 12"/>
            <p:cNvSpPr/>
            <p:nvPr/>
          </p:nvSpPr>
          <p:spPr>
            <a:xfrm>
              <a:off x="181080" y="4519440"/>
              <a:ext cx="2369880" cy="32400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9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00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01" name="Freeform 16"/>
              <p:cNvSpPr/>
              <p:nvPr/>
            </p:nvSpPr>
            <p:spPr>
              <a:xfrm>
                <a:off x="647640" y="4776840"/>
                <a:ext cx="74520" cy="936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2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3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4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5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6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7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8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9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0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1" name="Freeform 26"/>
              <p:cNvSpPr/>
              <p:nvPr/>
            </p:nvSpPr>
            <p:spPr>
              <a:xfrm>
                <a:off x="990720" y="4586400"/>
                <a:ext cx="19080" cy="85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2" name="Freeform 27"/>
              <p:cNvSpPr/>
              <p:nvPr/>
            </p:nvSpPr>
            <p:spPr>
              <a:xfrm>
                <a:off x="781200" y="4795920"/>
                <a:ext cx="75960" cy="1141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3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4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5" name="Freeform 30"/>
              <p:cNvSpPr/>
              <p:nvPr/>
            </p:nvSpPr>
            <p:spPr>
              <a:xfrm>
                <a:off x="581040" y="4938840"/>
                <a:ext cx="122400" cy="666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6" name="Freeform 31"/>
              <p:cNvSpPr/>
              <p:nvPr/>
            </p:nvSpPr>
            <p:spPr>
              <a:xfrm>
                <a:off x="790560" y="5024520"/>
                <a:ext cx="104760" cy="475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7" name="Freeform 32"/>
              <p:cNvSpPr/>
              <p:nvPr/>
            </p:nvSpPr>
            <p:spPr>
              <a:xfrm>
                <a:off x="1333440" y="4633920"/>
                <a:ext cx="28800" cy="954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8" name="Freeform 33"/>
              <p:cNvSpPr/>
              <p:nvPr/>
            </p:nvSpPr>
            <p:spPr>
              <a:xfrm>
                <a:off x="866880" y="4795920"/>
                <a:ext cx="9360" cy="284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9" name="Freeform 34"/>
              <p:cNvSpPr/>
              <p:nvPr/>
            </p:nvSpPr>
            <p:spPr>
              <a:xfrm>
                <a:off x="847800" y="4672080"/>
                <a:ext cx="47520" cy="12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0" name="Freeform 35"/>
              <p:cNvSpPr/>
              <p:nvPr/>
            </p:nvSpPr>
            <p:spPr>
              <a:xfrm>
                <a:off x="857160" y="4824360"/>
                <a:ext cx="38160" cy="38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1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2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3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4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5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D7D-66F0-4A79-AC43-C90F40C94CD4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6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8A8E-C37E-413E-B7E0-D2C5329598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25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6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7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8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9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0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1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1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1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7267-7009-465E-9268-D731CE5861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7120" y="785880"/>
            <a:ext cx="842976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جامعة بغداد/ كلية التربية للبن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161616"/>
                </a:solidFill>
                <a:latin typeface="Verdana"/>
              </a:rPr>
              <a:t>قسم اللغة العربي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محاضرات في مناهج وطرائق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4800" spc="-1" strike="noStrike">
                <a:solidFill>
                  <a:srgbClr val="161616"/>
                </a:solidFill>
                <a:latin typeface="Verdana"/>
              </a:rPr>
              <a:t> تدريس اللغة العربية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إعداد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ffff66"/>
                </a:solidFill>
                <a:latin typeface="Verdana"/>
              </a:rPr>
              <a:t>أ.م.د عدي راشد محمد القلمجي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28920" y="1428840"/>
            <a:ext cx="6229440" cy="528624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((المنهج المحور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(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   وهو عبارة عن مجموعة الخبرات التي يكتسبها ال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طلب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متعلقة بحاجاتهم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شكلاتهم العامة بهدف إشباع هذه الحاجات والوصول إلى حلول مرغوب فيها تتعلق بما يعترضهم من مشكلات.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يتضح من التعريف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انب الأول : إن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منهج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محوري يتضمن عدد من المشكلات العامة التي تهم جميع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طلب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ترتبط بحاجاتهم المشتركة. 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انب الثاني : وهو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المنهج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الخاص ويتضمن عدد كبير من المجالات الدراسية لكي يختار منها كل </a:t>
            </a:r>
            <a:r>
              <a:rPr b="1" lang="ar-IQ" sz="2800" spc="-1" strike="noStrike">
                <a:solidFill>
                  <a:srgbClr val="000000"/>
                </a:solidFill>
                <a:latin typeface="Arial"/>
              </a:rPr>
              <a:t>طالب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ما يناسب ميوله وقدراته واستعداداته.  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11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0000"/>
          </a:bodyPr>
          <a:p>
            <a:pPr marL="274320" indent="-274320" algn="r" rtl="1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IQ" sz="3200" spc="-1" strike="noStrike">
                <a:solidFill>
                  <a:srgbClr val="ff0000"/>
                </a:solidFill>
                <a:latin typeface="Verdana"/>
              </a:rPr>
              <a:t>أنواع المناهج: (منهج المواد المنفصلة, منهج المواد المترابطة,  منهج النشاط, المنهج المحوري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9e"/>
                </a:solidFill>
                <a:latin typeface="Arial"/>
              </a:rPr>
              <a:t>مميزات المنهج المحوري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AutoShape 10"/>
          <p:cNvSpPr/>
          <p:nvPr/>
        </p:nvSpPr>
        <p:spPr>
          <a:xfrm>
            <a:off x="142920" y="1285920"/>
            <a:ext cx="795240" cy="5286240"/>
          </a:xfrm>
          <a:custGeom>
            <a:avLst/>
            <a:gdLst>
              <a:gd name="textAreaLeft" fmla="*/ 507960 w 795240"/>
              <a:gd name="textAreaRight" fmla="*/ 795600 w 795240"/>
              <a:gd name="textAreaTop" fmla="*/ 97560 h 5286240"/>
              <a:gd name="textAreaBottom" fmla="*/ 5188680 h 528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39"/>
                  <a:pt x="10800" y="1277"/>
                </a:cubicBezTo>
                <a:lnTo>
                  <a:pt x="10800" y="9356"/>
                </a:lnTo>
                <a:cubicBezTo>
                  <a:pt x="10800" y="9995"/>
                  <a:pt x="5400" y="10633"/>
                  <a:pt x="0" y="10633"/>
                </a:cubicBezTo>
                <a:cubicBezTo>
                  <a:pt x="5400" y="10633"/>
                  <a:pt x="10800" y="11272"/>
                  <a:pt x="10800" y="11910"/>
                </a:cubicBezTo>
                <a:lnTo>
                  <a:pt x="10800" y="20323"/>
                </a:lnTo>
                <a:cubicBezTo>
                  <a:pt x="10800" y="2096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8286840" y="1214280"/>
            <a:ext cx="739800" cy="535788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5357880"/>
              <a:gd name="textAreaBottom" fmla="*/ 5251680 h 5357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5"/>
                  <a:pt x="10800" y="1369"/>
                </a:cubicBezTo>
                <a:lnTo>
                  <a:pt x="10800" y="9431"/>
                </a:lnTo>
                <a:cubicBezTo>
                  <a:pt x="10800" y="10116"/>
                  <a:pt x="16200" y="10800"/>
                  <a:pt x="21600" y="10800"/>
                </a:cubicBezTo>
                <a:cubicBezTo>
                  <a:pt x="16200" y="10800"/>
                  <a:pt x="10800" y="11485"/>
                  <a:pt x="10800" y="12169"/>
                </a:cubicBezTo>
                <a:lnTo>
                  <a:pt x="10800" y="20231"/>
                </a:lnTo>
                <a:cubicBezTo>
                  <a:pt x="10800" y="2091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Text Box 27"/>
          <p:cNvSpPr/>
          <p:nvPr/>
        </p:nvSpPr>
        <p:spPr>
          <a:xfrm>
            <a:off x="642960" y="1285920"/>
            <a:ext cx="7929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يتيح ل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لبة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فرصة تعلم أسلوب حل المشكلات والتفكير الناقد والتدرب عليها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تقوم الدراسة في هذا المنهج على أساس حاجات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لبة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يكون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الب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في هذا المنهج ايجابيا ونشطا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يكسب المنهج المحوري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الب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كثير من المهارات الاجتماعية والأدائية والعقلية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ـ يتيح المنهج المحوري ل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طلبة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فرصة تعلم المعارف المختلفة بطريقة متكاملة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93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cc"/>
                </a:solidFill>
                <a:latin typeface="Arial"/>
              </a:rPr>
              <a:t>خطوات بناء المنهج المحوري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Text Box 4"/>
          <p:cNvSpPr/>
          <p:nvPr/>
        </p:nvSpPr>
        <p:spPr>
          <a:xfrm>
            <a:off x="6567480" y="2363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214200" y="1285920"/>
            <a:ext cx="795600" cy="5000760"/>
          </a:xfrm>
          <a:custGeom>
            <a:avLst/>
            <a:gdLst>
              <a:gd name="textAreaLeft" fmla="*/ 508320 w 795600"/>
              <a:gd name="textAreaRight" fmla="*/ 795960 w 795600"/>
              <a:gd name="textAreaTop" fmla="*/ 97560 h 5000760"/>
              <a:gd name="textAreaBottom" fmla="*/ 4903200 h 5000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5"/>
                  <a:pt x="10800" y="1350"/>
                </a:cubicBezTo>
                <a:lnTo>
                  <a:pt x="10800" y="9283"/>
                </a:lnTo>
                <a:cubicBezTo>
                  <a:pt x="10800" y="9958"/>
                  <a:pt x="5400" y="10633"/>
                  <a:pt x="0" y="10633"/>
                </a:cubicBezTo>
                <a:cubicBezTo>
                  <a:pt x="5400" y="10633"/>
                  <a:pt x="10800" y="11308"/>
                  <a:pt x="10800" y="11983"/>
                </a:cubicBezTo>
                <a:lnTo>
                  <a:pt x="10800" y="20250"/>
                </a:lnTo>
                <a:cubicBezTo>
                  <a:pt x="10800" y="2092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AutoShape 11"/>
          <p:cNvSpPr/>
          <p:nvPr/>
        </p:nvSpPr>
        <p:spPr>
          <a:xfrm>
            <a:off x="8261280" y="1285920"/>
            <a:ext cx="739800" cy="4929120"/>
          </a:xfrm>
          <a:custGeom>
            <a:avLst/>
            <a:gdLst>
              <a:gd name="textAreaLeft" fmla="*/ 0 w 739800"/>
              <a:gd name="textAreaRight" fmla="*/ 267120 w 739800"/>
              <a:gd name="textAreaTop" fmla="*/ 106200 h 4929120"/>
              <a:gd name="textAreaBottom" fmla="*/ 4822920 h 492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44"/>
                  <a:pt x="10800" y="1488"/>
                </a:cubicBezTo>
                <a:lnTo>
                  <a:pt x="10800" y="9312"/>
                </a:lnTo>
                <a:cubicBezTo>
                  <a:pt x="10800" y="10056"/>
                  <a:pt x="16200" y="10800"/>
                  <a:pt x="21600" y="10800"/>
                </a:cubicBezTo>
                <a:cubicBezTo>
                  <a:pt x="16200" y="10800"/>
                  <a:pt x="10800" y="11544"/>
                  <a:pt x="10800" y="12288"/>
                </a:cubicBezTo>
                <a:lnTo>
                  <a:pt x="10800" y="20112"/>
                </a:lnTo>
                <a:cubicBezTo>
                  <a:pt x="10800" y="20856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714240" y="1285920"/>
            <a:ext cx="7786800" cy="47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تخطيط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دراسي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يتم توزيع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ا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دراسي على الصفوف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يحدد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م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درسون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المفاهيم الأساسية لكل مرحلة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الاستعداد لتنفيذ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- تدريس ال</a:t>
            </a:r>
            <a:r>
              <a:rPr b="0" lang="ar-IQ" sz="3600" spc="-1" strike="noStrike">
                <a:solidFill>
                  <a:srgbClr val="000000"/>
                </a:solidFill>
                <a:latin typeface="Verdana"/>
              </a:rPr>
              <a:t>منهج</a:t>
            </a:r>
            <a:r>
              <a:rPr b="0" lang="ar-SA" sz="3600" spc="-1" strike="noStrike">
                <a:solidFill>
                  <a:srgbClr val="000000"/>
                </a:solidFill>
                <a:latin typeface="Verdana"/>
              </a:rPr>
              <a:t> وتقويمه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14080" y="2205000"/>
            <a:ext cx="54723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000000"/>
                </a:solidFill>
                <a:latin typeface="Arial Black"/>
                <a:cs typeface="Andalus"/>
              </a:rPr>
              <a:t>شكرا لحسن إصغائكم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1:43:54Z</dcterms:created>
  <dc:creator>GsM</dc:creator>
  <dc:description/>
  <dc:language>en-US</dc:language>
  <cp:lastModifiedBy>DR.Ahmed Saker 2o1O</cp:lastModifiedBy>
  <dcterms:modified xsi:type="dcterms:W3CDTF">2019-05-05T19:24:22Z</dcterms:modified>
  <cp:revision>51</cp:revision>
  <dc:subject/>
  <dc:title>وزارة التعليم العالي والبحث العلمي جامعة بغداد بالتعاون مع منظمة</dc:title>
</cp:coreProperties>
</file>