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9ABB2-03C0-4E22-A2DF-FD55E5176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CBE2F-BBCC-400F-BD2F-E76FE67F2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F0B8C-9AC9-4AB5-8CC9-4DEBC2103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C502F-FB73-47CC-9E0B-C1CEB676F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B0A18-BC59-4237-B9A3-A58479DB2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F3C08-EEBE-4C49-BF76-554065D97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E0335-62AC-4037-97AA-03DEFB7B4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13D8F-22C5-450A-9FC3-36A3ECDF0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4782C-A5EC-4582-BF82-C2120A3A9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549E7-C382-48F2-BB3E-D5F861642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12FCE-14DF-46AA-9E21-FBFB2B55F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3704-47D8-42EA-B2D3-134F75B4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EC984-A005-4019-B2C8-89DB9810D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B2CE3-435B-4E48-8AA5-A638D8D53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D8D9D-02EA-48C2-A798-928D6C382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DD8D9-EBAE-4AF0-B957-684055400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03806-A71F-4D26-A757-E75B04A8F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3D5F6E-4490-4C8D-8E22-B6D7794FE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B8505-EE6F-4F02-9F6F-C44E4B437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69FF3-44D4-447D-AF49-C88C0C14C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EB486-07C6-4D94-9BE0-0CCD2CE93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9EF6CE-D871-4098-B75D-558C085DB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C36E2-97EB-4F86-AC04-47A58932E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348F6-4B6F-402C-87EB-E9BFA879F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8ACF5-1B6D-46F8-9ED0-35E235AEF9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A4888-EE03-4AD9-878B-34A2FC211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108CE-F3FE-4DD7-B4F1-0A4944092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76F09-CBA0-4B96-9914-3D9FE92DD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0D48D6-74A8-45F4-92CF-E8B015D688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39490D-BF16-4B5E-B746-F383A9BC9C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E8F49F-3143-403B-9F0A-90B47D98C2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4C85E-C839-4302-ABC6-EC5D256198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AACD4-225A-4F6C-A341-E852749A4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89C0D-A342-4567-8AB4-75D7DE4A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7EC1B-0C58-4D1C-BD70-85D4ACC07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B58EEA-C055-4B2D-A926-158F5A369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F54FA-1B93-4767-8AB4-DE5B55B723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E19FC-8DBA-4D26-B822-91BFB03BB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A170F-F7E6-4968-95E8-4B24BC33E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56BCB9-A6E4-4B2B-89F0-C30597D8A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596559-ABD7-4C70-B39F-1F83A34D6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C6EA42-C8F9-45F1-A5CA-2204532312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F46A6F-A037-4BC1-9E94-17D0014A80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BEDBBF-9A7C-4EED-897C-D46476420A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5E14-585A-40F4-9A03-5C06AC01A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0EE69-486A-4AE6-81C6-6BAC688C8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94B37-9E85-4BCE-84CD-5628DAEA0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33BF1-6844-438B-AF1D-87F55BF16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222700-CC8B-4874-9733-15BCDE6605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5ACC58-33B7-435A-8BA4-6A246418E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86B4C-DDBF-4BD8-9F6E-3961E5541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A45892-E461-4BA1-A8C9-5EE7C795E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CDE62-BB65-4387-BC34-6BA11061E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E41A6C-8415-40A6-A77B-9B9588318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A42D3F-9212-4933-904F-D8D23C19F1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DB62-B251-4BAB-A74E-93619B48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6E535E-7FB9-4BD8-8248-403774614D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37BAF9-ACC8-46AA-A87B-7ED72F077E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0BF0B-ED02-4132-A241-B976B0ED9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913E9-7980-4353-92CE-B0B5C82BA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E55F82-D231-47A0-BB6E-F8F7D54D1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140AE0-87B2-4D1D-A19F-8C368FB8E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C56D2B-2134-421F-A5FE-C9D2E0801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9C15D9-F379-4C1E-B5A6-BE0271E2C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0FAC7-AEC6-47D7-B0B1-F451DE721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9AD25-58B2-41AE-9C85-C29605DD3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AAB0-629A-4598-A400-18D9C47A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8034F4-94E3-4D1A-84D7-C68E7812A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310875-941C-4AAC-BC92-198385CB52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559BF2-C0BD-4C3E-9562-3EC11BF3B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E3A5-01A3-48E1-BE71-78DF91208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2823-7606-4864-934F-B28E49CAB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0779-8C82-45B4-9E17-65886A81AC2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9F96-3C7A-4D7F-838F-747E99451DB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20C1-C4AA-4AF1-8827-00ED0D909FFC}"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6AF3-7190-43D7-BBD4-FA068B31209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695F-B9D3-484A-A0A2-D43722FD60F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71E8-0034-4E51-8E37-D68A4168EAD9}"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71720" y="1143000"/>
            <a:ext cx="7586640" cy="557208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يم المنهج هو</a:t>
            </a:r>
            <a:r>
              <a:rPr b="0" i="1" lang="ar-SA" sz="3200" spc="-1" strike="noStrike">
                <a:solidFill>
                  <a:srgbClr val="000000"/>
                </a:solidFill>
                <a:latin typeface="Arial"/>
              </a:rPr>
              <a:t>:</a:t>
            </a:r>
            <a:br>
              <a:rPr sz="3200"/>
            </a:br>
            <a:r>
              <a:rPr b="0" lang="ar-SA" sz="3200" spc="-1" strike="noStrike">
                <a:solidFill>
                  <a:srgbClr val="000000"/>
                </a:solidFill>
                <a:latin typeface="Arial"/>
              </a:rPr>
              <a:t>(إصدار حكم على صلاحيّة المناهج الدراسيّة عن طريق تجميع البيانات الخاصّة للحكم عليها , وتحليلها , وتفسيرها في ضوء معايير موضوعيّة تساعد على اتّخاذ قرارات مناسبة بشأن المنهج).</a:t>
            </a:r>
            <a:br>
              <a:rPr sz="3200"/>
            </a:br>
            <a:r>
              <a:rPr b="0" lang="ar-SA" sz="3200" spc="-1" strike="noStrike">
                <a:solidFill>
                  <a:srgbClr val="000000"/>
                </a:solidFill>
                <a:latin typeface="Arial"/>
              </a:rPr>
              <a:t>ومن هنا نرى أنّ مفهوم تقويم المنهج هو عمليّة جمع بيانات كميّة من خلال قياس مدى تعلّم المتعلّمين من جهة , ومدى توافر المعايير السليمة في أسس المنهج , وعناصره, وتنظيمه من جهة أخرى , وتفسير تلك البيانات, والوصول إلى قرارات في ضوئها . </a:t>
            </a:r>
            <a:br>
              <a:rPr sz="3200"/>
            </a:br>
            <a:endParaRPr b="0" lang="en-US" sz="3200" spc="-1" strike="noStrike">
              <a:solidFill>
                <a:srgbClr val="ffff99"/>
              </a:solidFill>
              <a:latin typeface="Arial"/>
            </a:endParaRPr>
          </a:p>
        </p:txBody>
      </p:sp>
      <p:sp>
        <p:nvSpPr>
          <p:cNvPr id="374" name="PlaceHolder 2"/>
          <p:cNvSpPr>
            <a:spLocks noGrp="1"/>
          </p:cNvSpPr>
          <p:nvPr>
            <p:ph/>
          </p:nvPr>
        </p:nvSpPr>
        <p:spPr>
          <a:xfrm>
            <a:off x="457200" y="228600"/>
            <a:ext cx="8229600" cy="843120"/>
          </a:xfrm>
          <a:prstGeom prst="rect">
            <a:avLst/>
          </a:prstGeom>
          <a:solidFill>
            <a:srgbClr val="ffffff"/>
          </a:solid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0000"/>
                </a:solidFill>
                <a:latin typeface="Verdana"/>
              </a:rPr>
              <a:t>تقويم المنهج وتطويره</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Text Box 27"/>
          <p:cNvSpPr/>
          <p:nvPr/>
        </p:nvSpPr>
        <p:spPr>
          <a:xfrm>
            <a:off x="142920" y="428760"/>
            <a:ext cx="8858160" cy="5822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Verdana"/>
              </a:rPr>
              <a:t> </a:t>
            </a:r>
            <a:r>
              <a:rPr b="0" lang="ar-SA" sz="2400" spc="-1" strike="noStrike">
                <a:solidFill>
                  <a:srgbClr val="000000"/>
                </a:solidFill>
                <a:latin typeface="Verdana"/>
              </a:rPr>
              <a:t> </a:t>
            </a:r>
            <a:r>
              <a:rPr b="0" lang="ar-SA" sz="2800" spc="-1" strike="noStrike">
                <a:solidFill>
                  <a:srgbClr val="000000"/>
                </a:solidFill>
                <a:latin typeface="Verdana"/>
              </a:rPr>
              <a:t>1</a:t>
            </a:r>
            <a:r>
              <a:rPr b="0" lang="ar-SA" sz="2800" spc="-1" strike="noStrike">
                <a:solidFill>
                  <a:srgbClr val="000000"/>
                </a:solidFill>
                <a:latin typeface="Verdana"/>
              </a:rPr>
              <a:t>- تقويم المناهج عمليّة تبدأ بجمع البيانات , وتنتهي باتّخاذ القرارات المناسبة في ضوء تفسير هذه البيانات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عمليّة تقويم المنهج لا بدّ أن تتمّ في ضوء معايير موضوعيّة , بمعنى أنّه لا يصحّ اتّخاذ قرارات مبنيّة على وجهات النظر الشخصيّة , أو الانطباعات الذاتيّة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إنّ التقويم يعتمد أساساً على جمع البيانات , وجمع البيانات يعتمد على القياس.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قويم ليس مقصوراً على قضايا الحكم على مدى تعلّم التلاميذ فقط , ولكنّ هناك معايير </a:t>
            </a:r>
            <a:r>
              <a:rPr b="0" lang="en-US" sz="2800" spc="-1" strike="noStrike">
                <a:solidFill>
                  <a:srgbClr val="000000"/>
                </a:solidFill>
                <a:latin typeface="Verdana"/>
              </a:rPr>
              <a:t>Standards</a:t>
            </a:r>
            <a:r>
              <a:rPr b="0" lang="ar-SA" sz="2800" spc="-1" strike="noStrike">
                <a:solidFill>
                  <a:srgbClr val="000000"/>
                </a:solidFill>
                <a:latin typeface="Verdana"/>
              </a:rPr>
              <a:t> يُتَّخذ في ضوئها قرارات أخرى تتعلّق بعناصر المنهج وأسسه وتنظيمه.</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793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e"/>
                </a:solidFill>
                <a:latin typeface="Arial"/>
              </a:rPr>
              <a:t>نماذج تقويم المنهج </a:t>
            </a:r>
            <a:endParaRPr b="0" lang="en-US" sz="3600" spc="-1" strike="noStrike">
              <a:solidFill>
                <a:srgbClr val="ffffcc"/>
              </a:solidFill>
              <a:latin typeface="Arial"/>
            </a:endParaRPr>
          </a:p>
        </p:txBody>
      </p:sp>
      <p:sp>
        <p:nvSpPr>
          <p:cNvPr id="378"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9" name="Text Box 27"/>
          <p:cNvSpPr/>
          <p:nvPr/>
        </p:nvSpPr>
        <p:spPr>
          <a:xfrm>
            <a:off x="714240" y="1285920"/>
            <a:ext cx="7786800" cy="6492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Verdana"/>
              </a:rPr>
              <a:t>أولا</a:t>
            </a:r>
            <a:r>
              <a:rPr b="0" lang="ar-SA" sz="2800" spc="-1" strike="noStrike">
                <a:solidFill>
                  <a:srgbClr val="000000"/>
                </a:solidFill>
                <a:latin typeface="Verdana"/>
              </a:rPr>
              <a:t>:</a:t>
            </a:r>
            <a:r>
              <a:rPr b="0" lang="ar-IQ" sz="2800" spc="-1" strike="noStrike">
                <a:solidFill>
                  <a:srgbClr val="000000"/>
                </a:solidFill>
                <a:latin typeface="Verdana"/>
              </a:rPr>
              <a:t> أنموذج </a:t>
            </a:r>
            <a:r>
              <a:rPr b="0" lang="ar-SA" sz="2800" spc="-1" strike="noStrike">
                <a:solidFill>
                  <a:srgbClr val="000000"/>
                </a:solidFill>
                <a:latin typeface="Verdana"/>
              </a:rPr>
              <a:t>التقويم النهائيّ للمنهج , ويأتي عقب تنفيذ المنهج , سواء أكان المنهج تجريبيّاً أم منهجاً دائماً, ويشمل مختلف مكوّنات المنهج للوصول إلى عوامل الضعف في مكوّناته, وبالتالي العمل على تطوير تلك المكوّنات ؛ وصولاً إلى درجة أكثر فاعليّة</a:t>
            </a:r>
            <a:r>
              <a:rPr b="0" lang="ar-IQ" sz="2800" spc="-1" strike="noStrike">
                <a:solidFill>
                  <a:srgbClr val="000000"/>
                </a:solidFill>
                <a:latin typeface="Verdana"/>
              </a:rPr>
              <a:t>، </a:t>
            </a:r>
            <a:r>
              <a:rPr b="0" lang="ar-SA" sz="2800" spc="-1" strike="noStrike">
                <a:solidFill>
                  <a:srgbClr val="000000"/>
                </a:solidFill>
                <a:latin typeface="Verdana"/>
              </a:rPr>
              <a:t>وتتّصف عمليّة التقويم هذه بالتكلفة المرتفعة , ولا سيّما إذا لم تتوصّل عمليّة التقويم إلى نتائج واضحة عن أسباب ضعف المنهج</a:t>
            </a:r>
            <a:r>
              <a:rPr b="0" lang="ar-IQ" sz="2800" spc="-1" strike="noStrike">
                <a:solidFill>
                  <a:srgbClr val="000000"/>
                </a:solidFill>
                <a:latin typeface="Verdana"/>
              </a:rPr>
              <a:t>.</a:t>
            </a:r>
            <a:endParaRPr b="0" lang="en-US" sz="28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Verdana"/>
              </a:rPr>
              <a:t>ثانيا: </a:t>
            </a:r>
            <a:r>
              <a:rPr b="0" lang="ar-SA" sz="2800" spc="-1" strike="noStrike">
                <a:solidFill>
                  <a:srgbClr val="000000"/>
                </a:solidFill>
                <a:latin typeface="Verdana"/>
              </a:rPr>
              <a:t>أنموذج التقويم التراجعيّ للمنهج , ويقوم هذا الأنموذج على تقويم المراحل التي مرّ بها المنهج ابتداء من المرحلة الأخيرة , وهي مرحلة تقويم المنهج , فإذا ظهر خلل المنهج في هذه المرحلة , يتوقّف التقويم ؛ وبذلك يتمّ التخفيف من نفقات التقويم بدرجة كبيرة.</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1" name="AutoShape 10"/>
          <p:cNvSpPr/>
          <p:nvPr/>
        </p:nvSpPr>
        <p:spPr>
          <a:xfrm>
            <a:off x="71280" y="214200"/>
            <a:ext cx="795600" cy="6357960"/>
          </a:xfrm>
          <a:custGeom>
            <a:avLst/>
            <a:gdLst>
              <a:gd name="textAreaLeft" fmla="*/ 508320 w 795600"/>
              <a:gd name="textAreaRight" fmla="*/ 795960 w 795600"/>
              <a:gd name="textAreaTop" fmla="*/ 97560 h 6357960"/>
              <a:gd name="textAreaBottom" fmla="*/ 6260400 h 6357960"/>
            </a:gdLst>
            <a:ahLst/>
            <a:rect l="textAreaLeft" t="textAreaTop" r="textAreaRight" b="textAreaBottom"/>
            <a:pathLst>
              <a:path w="21600" h="21600">
                <a:moveTo>
                  <a:pt x="21600" y="0"/>
                </a:moveTo>
                <a:cubicBezTo>
                  <a:pt x="16200" y="0"/>
                  <a:pt x="10800" y="531"/>
                  <a:pt x="10800" y="1062"/>
                </a:cubicBezTo>
                <a:lnTo>
                  <a:pt x="10800" y="9571"/>
                </a:lnTo>
                <a:cubicBezTo>
                  <a:pt x="10800" y="10102"/>
                  <a:pt x="5400" y="10633"/>
                  <a:pt x="0" y="10633"/>
                </a:cubicBezTo>
                <a:cubicBezTo>
                  <a:pt x="5400" y="10633"/>
                  <a:pt x="10800" y="11164"/>
                  <a:pt x="10800" y="11695"/>
                </a:cubicBezTo>
                <a:lnTo>
                  <a:pt x="10800" y="20538"/>
                </a:lnTo>
                <a:cubicBezTo>
                  <a:pt x="10800" y="21069"/>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2" name="AutoShape 11"/>
          <p:cNvSpPr/>
          <p:nvPr/>
        </p:nvSpPr>
        <p:spPr>
          <a:xfrm>
            <a:off x="8261280" y="214200"/>
            <a:ext cx="739800" cy="6429600"/>
          </a:xfrm>
          <a:custGeom>
            <a:avLst/>
            <a:gdLst>
              <a:gd name="textAreaLeft" fmla="*/ 0 w 739800"/>
              <a:gd name="textAreaRight" fmla="*/ 267120 w 739800"/>
              <a:gd name="textAreaTop" fmla="*/ 106200 h 6429600"/>
              <a:gd name="textAreaBottom" fmla="*/ 6323400 h 6429600"/>
            </a:gdLst>
            <a:ahLst/>
            <a:rect l="textAreaLeft" t="textAreaTop" r="textAreaRight" b="textAreaBottom"/>
            <a:pathLst>
              <a:path w="21600" h="21600">
                <a:moveTo>
                  <a:pt x="0" y="0"/>
                </a:moveTo>
                <a:cubicBezTo>
                  <a:pt x="5400" y="0"/>
                  <a:pt x="10800" y="570"/>
                  <a:pt x="10800" y="1140"/>
                </a:cubicBezTo>
                <a:lnTo>
                  <a:pt x="10800" y="9660"/>
                </a:lnTo>
                <a:cubicBezTo>
                  <a:pt x="10800" y="10230"/>
                  <a:pt x="16200" y="10800"/>
                  <a:pt x="21600" y="10800"/>
                </a:cubicBezTo>
                <a:cubicBezTo>
                  <a:pt x="16200" y="10800"/>
                  <a:pt x="10800" y="11370"/>
                  <a:pt x="10800" y="11940"/>
                </a:cubicBezTo>
                <a:lnTo>
                  <a:pt x="10800" y="20460"/>
                </a:lnTo>
                <a:cubicBezTo>
                  <a:pt x="10800" y="2103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3" name="Text Box 27"/>
          <p:cNvSpPr/>
          <p:nvPr/>
        </p:nvSpPr>
        <p:spPr>
          <a:xfrm>
            <a:off x="500040" y="142920"/>
            <a:ext cx="8072640" cy="777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e"/>
                </a:solidFill>
                <a:latin typeface="Verdana"/>
              </a:rPr>
              <a:t> خطوات التقويم: تمرّ عمليّة تقويم المنهج بجملة من الخطوات المتسلسلة هي:</a:t>
            </a: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cc"/>
                </a:solidFill>
                <a:latin typeface="Verdana"/>
              </a:rPr>
              <a:t>1</a:t>
            </a:r>
            <a:r>
              <a:rPr b="0" lang="ar-SA" sz="2400" spc="-1" strike="noStrike">
                <a:solidFill>
                  <a:srgbClr val="ffffcc"/>
                </a:solidFill>
                <a:latin typeface="Verdana"/>
              </a:rPr>
              <a:t>- وضع أهداف التقويم: </a:t>
            </a:r>
            <a:r>
              <a:rPr b="0" lang="ar-SA" sz="2400" spc="-1" strike="noStrike">
                <a:solidFill>
                  <a:srgbClr val="000000"/>
                </a:solidFill>
                <a:latin typeface="Verdana"/>
              </a:rPr>
              <a:t>تعدّ مرحلة وضع أهداف تقويم المنهج من أكثر المراحل أهميّة , حيث تبنى المراحل التالية على أساسها , وكلّما كانت أهداف تقويم المنهج محدّدة بدقّة , وواضحة في أذهان المقوّمين كلّما آتت عملية التقويم أكلها .</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قد تكون عمليّة تقويم المنهج شاملة لأسس المنهج وعناصره كافّة , وقد تقتصر وتنصبّ على أساس واحد أو مكوّن واحد أو أكثر من أسسه ومكوّناته , وهذا يعني أنّ أهداف عمليّة التقويم تختلف باختلاف طبيعة التقويم, ومدى شموليّته.</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Verdana"/>
              </a:rPr>
              <a:t>2</a:t>
            </a:r>
            <a:r>
              <a:rPr b="0" lang="ar-SA" sz="2400" spc="-1" strike="noStrike">
                <a:solidFill>
                  <a:srgbClr val="ffffcc"/>
                </a:solidFill>
                <a:latin typeface="Verdana"/>
              </a:rPr>
              <a:t>- تحديد أدوات التقويم وبناؤها وتحكيمها: </a:t>
            </a:r>
            <a:r>
              <a:rPr b="0" lang="ar-SA" sz="2400" spc="-1" strike="noStrike">
                <a:solidFill>
                  <a:srgbClr val="000000"/>
                </a:solidFill>
                <a:latin typeface="Verdana"/>
              </a:rPr>
              <a:t>تتحدّد أدوات تقويم المنهج وفقاً لأهداف تقويمه, فقد تتناول مختلف أدوات التقويم في حال التقويم الشامل , وقد تقتصر على عدد منها يناسب المجال المراد تقويمه , فإذا كان هذا المجال يتعلّق باتّجاهات المتعلّمين نحو مكوّن بعينه من مكوّنات المنهج , فإنّ الأداة المناسبة للتقويم في هذه الحال هي مقياس الاتّجاهات , وإذا كان المجال يتعلّق بتقويم أثر المنهج , فإنّ اختبارات التحصيل بمختلف أشكاله تكون أنسب الأدوات.</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5" name="AutoShape 10"/>
          <p:cNvSpPr/>
          <p:nvPr/>
        </p:nvSpPr>
        <p:spPr>
          <a:xfrm>
            <a:off x="71280" y="214200"/>
            <a:ext cx="795600" cy="6357960"/>
          </a:xfrm>
          <a:custGeom>
            <a:avLst/>
            <a:gdLst>
              <a:gd name="textAreaLeft" fmla="*/ 508320 w 795600"/>
              <a:gd name="textAreaRight" fmla="*/ 795960 w 795600"/>
              <a:gd name="textAreaTop" fmla="*/ 97560 h 6357960"/>
              <a:gd name="textAreaBottom" fmla="*/ 6260400 h 6357960"/>
            </a:gdLst>
            <a:ahLst/>
            <a:rect l="textAreaLeft" t="textAreaTop" r="textAreaRight" b="textAreaBottom"/>
            <a:pathLst>
              <a:path w="21600" h="21600">
                <a:moveTo>
                  <a:pt x="21600" y="0"/>
                </a:moveTo>
                <a:cubicBezTo>
                  <a:pt x="16200" y="0"/>
                  <a:pt x="10800" y="531"/>
                  <a:pt x="10800" y="1062"/>
                </a:cubicBezTo>
                <a:lnTo>
                  <a:pt x="10800" y="9571"/>
                </a:lnTo>
                <a:cubicBezTo>
                  <a:pt x="10800" y="10102"/>
                  <a:pt x="5400" y="10633"/>
                  <a:pt x="0" y="10633"/>
                </a:cubicBezTo>
                <a:cubicBezTo>
                  <a:pt x="5400" y="10633"/>
                  <a:pt x="10800" y="11164"/>
                  <a:pt x="10800" y="11695"/>
                </a:cubicBezTo>
                <a:lnTo>
                  <a:pt x="10800" y="20538"/>
                </a:lnTo>
                <a:cubicBezTo>
                  <a:pt x="10800" y="21069"/>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6" name="AutoShape 11"/>
          <p:cNvSpPr/>
          <p:nvPr/>
        </p:nvSpPr>
        <p:spPr>
          <a:xfrm>
            <a:off x="8261280" y="214200"/>
            <a:ext cx="739800" cy="6429600"/>
          </a:xfrm>
          <a:custGeom>
            <a:avLst/>
            <a:gdLst>
              <a:gd name="textAreaLeft" fmla="*/ 0 w 739800"/>
              <a:gd name="textAreaRight" fmla="*/ 267120 w 739800"/>
              <a:gd name="textAreaTop" fmla="*/ 106200 h 6429600"/>
              <a:gd name="textAreaBottom" fmla="*/ 6323400 h 6429600"/>
            </a:gdLst>
            <a:ahLst/>
            <a:rect l="textAreaLeft" t="textAreaTop" r="textAreaRight" b="textAreaBottom"/>
            <a:pathLst>
              <a:path w="21600" h="21600">
                <a:moveTo>
                  <a:pt x="0" y="0"/>
                </a:moveTo>
                <a:cubicBezTo>
                  <a:pt x="5400" y="0"/>
                  <a:pt x="10800" y="570"/>
                  <a:pt x="10800" y="1140"/>
                </a:cubicBezTo>
                <a:lnTo>
                  <a:pt x="10800" y="9660"/>
                </a:lnTo>
                <a:cubicBezTo>
                  <a:pt x="10800" y="10230"/>
                  <a:pt x="16200" y="10800"/>
                  <a:pt x="21600" y="10800"/>
                </a:cubicBezTo>
                <a:cubicBezTo>
                  <a:pt x="16200" y="10800"/>
                  <a:pt x="10800" y="11370"/>
                  <a:pt x="10800" y="11940"/>
                </a:cubicBezTo>
                <a:lnTo>
                  <a:pt x="10800" y="20460"/>
                </a:lnTo>
                <a:cubicBezTo>
                  <a:pt x="10800" y="2103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7" name="Text Box 27"/>
          <p:cNvSpPr/>
          <p:nvPr/>
        </p:nvSpPr>
        <p:spPr>
          <a:xfrm>
            <a:off x="500040" y="142920"/>
            <a:ext cx="8072640" cy="734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Verdana"/>
              </a:rPr>
              <a:t>3</a:t>
            </a:r>
            <a:r>
              <a:rPr b="0" lang="ar-SA" sz="2800" spc="-1" strike="noStrike">
                <a:solidFill>
                  <a:srgbClr val="ffffcc"/>
                </a:solidFill>
                <a:latin typeface="Verdana"/>
              </a:rPr>
              <a:t>- تطبيق أدوات التقويم:</a:t>
            </a:r>
            <a:r>
              <a:rPr b="0" lang="ar-SA" sz="2800" spc="-1" strike="noStrike">
                <a:solidFill>
                  <a:srgbClr val="000000"/>
                </a:solidFill>
                <a:latin typeface="Verdana"/>
              </a:rPr>
              <a:t> وهنا يتمّ إعداد العناصر البشريّة التي ستتولى الإشراف على تطبيق أدوات البحث (التقويم) من خلال إقامة الدورات التدريبيّة التي تتناول أهداف التقويم, والأدوات المستخدمة فيه, وأساليب تطبيق هذه الأدوات, والشروط الموضوعيّة المساعدة على نجاح عمليّة التطبيق، مع الحرص الكامل على التحلّي بأعلى درجات الحسّ العلميّ , وتحمّل المسؤوليّ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ffffcc"/>
                </a:solidFill>
                <a:latin typeface="Verdana"/>
              </a:rPr>
              <a:t>- معالجة نتائج التقويم وتفسيرها:</a:t>
            </a:r>
            <a:r>
              <a:rPr b="0" lang="ar-SA" sz="2800" spc="-1" strike="noStrike">
                <a:solidFill>
                  <a:srgbClr val="000000"/>
                </a:solidFill>
                <a:latin typeface="Verdana"/>
              </a:rPr>
              <a:t> بعد الانتهاء من عمليّة تطبيق أدوات التقويم, تبدأ مرحلة جديدة, إذ تجمع نتائج التقويم, ويتمّ التعامل معها, وتحليلها ومعالجتها بالأساليب الإحصائيّة المناسبة بإشراف متخصّصين من التربويين والأكاديميين وذوي الخبرة في هذا المجال مع الاستعانة بتكنولوجيا المعلومات للوصل إلى نتائج تتّصف بالسلامة والدقّة, ثمّ يتمّ عرض تلك النتائج على لجنة من المتخصّصين لتفسير تلك النتائج واتّخاذ القرار.</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5-05T19:53:36Z</dcterms:modified>
  <cp:revision>51</cp:revision>
  <dc:subject/>
  <dc:title>وزارة التعليم العالي والبحث العلمي جامعة بغداد بالتعاون مع منظمة</dc:title>
</cp:coreProperties>
</file>